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4EBD-667A-4E07-86F9-735A8280F74C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9FA-7FB2-4A21-8390-467A724DF60C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FCF-24EB-4F33-88B4-D6094848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BD4-B784-44E3-A84C-F392790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EA5-5A68-4A50-9210-C5ADD657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822-109C-425B-9703-96054F1E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5F5-0FDF-4154-A721-990D55B9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6FF-476D-4846-8F11-8CE758D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49E-F1D8-4DCC-81C3-17686F60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C6E-3B54-4C7B-B2F4-714AD5C7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47B-47F5-4341-ADAF-1EF4194D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3D0-BF9D-4A5E-A2A8-A500DC36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242-AA49-4778-9257-E25AA07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967-CFA7-4F42-BFBD-9ABFE4D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069F-3C59-4E49-8FB3-3E7338E891B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Quiz</a:t>
            </a:r>
            <a:br>
              <a:rPr sz="4400"/>
            </a:br>
            <a:r>
              <a:rPr b="1" lang="en-CA" sz="4400" spc="-1" strike="noStrike">
                <a:solidFill>
                  <a:srgbClr val="376092"/>
                </a:solidFill>
                <a:latin typeface="Calibri"/>
              </a:rPr>
              <a:t>Les relations 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En utilisant le format MARC 21, quelle est la méthode privilégiée pour exprimer des relations entre publications en sér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85264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structurée, en utilisant les zones de liaisons (780, 785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édiger une description non-structurée sous forme de note générale (zone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2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Quelles sont les relations fondamentales LC qui doivent être établies dans les notices d’autorité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différentes identités d’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collectivité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collectivités qui précèdent/succè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es relations entre une famille et une per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rai ou faux? Les catalogueurs de LC qui créent des notices d’autorité conformes à RDA vont continuer d’utiliser les valeurs «a» et «b» dans la sous-zone 51X $w afin d’établir des relations avec les collectivités qui précèdent/succè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507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3"/>
          <p:cNvSpPr/>
          <p:nvPr/>
        </p:nvSpPr>
        <p:spPr>
          <a:xfrm>
            <a:off x="3348000" y="3357720"/>
            <a:ext cx="2665440" cy="1260360"/>
          </a:xfrm>
          <a:prstGeom prst="wedgeEllipseCallout">
            <a:avLst>
              <a:gd name="adj1" fmla="val -82638"/>
              <a:gd name="adj2" fmla="val 428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e DCM, Section Z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 jugement du catalogueur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rait prendre en considération si un élément est nécessaire pour donner accès à la res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essentiel pour décider quelles relations additionnelles on doit établir, en plus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est pas requis pour l’enregistrement des relations fondamentales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376092"/>
                </a:solidFill>
                <a:latin typeface="Calibri"/>
              </a:rPr>
              <a:t>Vrai ou faux? LC suggère d’établir une relation entre les items «reliés avec» lorsque des descriptions sont rédigées pour deux ressources ou plus, qui ont été publiées séparé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50760" y="33238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Bulle ronde 4"/>
          <p:cNvSpPr/>
          <p:nvPr/>
        </p:nvSpPr>
        <p:spPr>
          <a:xfrm>
            <a:off x="3132000" y="2852640"/>
            <a:ext cx="2880000" cy="1260720"/>
          </a:xfrm>
          <a:prstGeom prst="wedgeEllipseCallout">
            <a:avLst>
              <a:gd name="adj1" fmla="val -73870"/>
              <a:gd name="adj2" fmla="val 1398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Voir LC-PCC PS 28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Les indicateurs de relation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177300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géné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utilisés à un niveau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uvent être exprimés sous la forme d’un code, enregistré dans la sous-zone MARC $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utes les réponses ci-des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2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3" dur="indefinite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0003" t="26393" r="26745" b="16639"/>
          <a:stretch/>
        </p:blipFill>
        <p:spPr>
          <a:xfrm>
            <a:off x="2700360" y="326880"/>
            <a:ext cx="4535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, sans $e aut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ne seule zone 700 pour Garié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cune zone 7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indicateur de relation «auteur», saisi en $e dans quatre zones 700 pour Gariépy,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Gauthier, Paulhiac Scherrer et Scher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1" dur="indefinite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49770" t="23770" r="26335" b="12982"/>
          <a:stretch/>
        </p:blipFill>
        <p:spPr>
          <a:xfrm>
            <a:off x="2700360" y="60480"/>
            <a:ext cx="43927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76092"/>
                </a:solidFill>
                <a:latin typeface="Calibri"/>
              </a:rPr>
              <a:t>Lesquelles des options suivantes sont conformes à R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5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cune zone 7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 $e auteur, $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éditeur intellectu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, $e 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tellier, Maxime, $d 198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Chabin, Lau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remblay, Alain Ulysse, $d 195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 1# $a Vézina, Mich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9" dur="indefinite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6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7" dur="indefinite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4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8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3" dur="indefinite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7" dur="indefinite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5" dur="indefinite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RDA fournit des instructions pour quels types de rel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ressources et les personnes/collectivités/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œuvres, les expressions, les manifestations et le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personnes, les collectivités et les famil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relations entre les concepts, les objets, les événements et les lieu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774880"/>
          <a:ext cx="8229600" cy="368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ZoneTexte 5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Quelle est la définition d’ «oeuvre en relation»? Trouver deux endroits dans l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RDA Toolkit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où l’on retrouve cette défini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000" spc="-1" strike="noStrike">
                <a:solidFill>
                  <a:srgbClr val="000000"/>
                </a:solidFill>
                <a:latin typeface="Calibri"/>
              </a:rPr>
              <a:t>Œuvre associée à la ressource décrite (par exemple, adaptation, commentaire, supplément, continuation, partie d’une œuvr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5.1.1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Jeu d’éléme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.B.: Une variante de cette définition se trou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également sous 24.1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017880"/>
          <a:ext cx="8229600" cy="3270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5/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4.2/J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/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2.2/J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ZoneTexte 4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 retrouve-t-on dans les 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annexes I, J et K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474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fermées de termes relatifs aux types de médias, de contenus et de supports matériels 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listes ouvertes d’indicateurs de relation pour qualifier les différents types de relations existant entre les ent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Quelles méthodes propose RDA pour exprimer les relations en MARC 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91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nregistrer un point d’accès autorisé accompagné d’un indicateur de relation, saisi dans une sous-zone MAR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es zones de liais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structurée en utilisant la ponctuation ISB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diger une description non-structurée dans la zone des notes générales (5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urnir uniquement un identifiant, par ex. un numéro ISB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Parmi les énoncés ci-dessous, lesquels expriment une  relation entre une œuvre et une perso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760" y="2575080"/>
            <a:ext cx="8085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uteur du roma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rtiste qui a créé le tableau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e compositeur du concert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st l’annotateur de la version manuscrite de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œuvres et les personnes/collectivités/familles qui sont fondamentales selon L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premier créateur nommé d’une œuv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rtiste qui a créé une œuvre d’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 compositeur d’une œuvre mus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’annotateur d’un item manusc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76092"/>
                </a:solidFill>
                <a:latin typeface="Calibri"/>
              </a:rPr>
              <a:t>Identifier les relations entre les expressions et les personnes/collectivités/familles qui sont fondamentales selon L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u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rganisme de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llustra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mandi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76092"/>
                </a:solidFill>
                <a:latin typeface="Calibri"/>
              </a:rPr>
              <a:t>Les œuvres en relation et les expressions en relation sont des relations fondamentales LC pour les compil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997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3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Parmi les relations fondamentales LC suivantes,</a:t>
            </a:r>
            <a:br>
              <a:rPr sz="3200"/>
            </a:br>
            <a:r>
              <a:rPr b="1" lang="en-CA" sz="3200" spc="-1" strike="noStrike">
                <a:solidFill>
                  <a:srgbClr val="376092"/>
                </a:solidFill>
                <a:latin typeface="Calibri"/>
              </a:rPr>
              <a:t> lesquelles doivent être enregistrées par les catalogueurs LC lorsqu’ils traitent une repro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42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œuvre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express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manifestation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s items en re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ulle ronde 3"/>
          <p:cNvSpPr/>
          <p:nvPr/>
        </p:nvSpPr>
        <p:spPr>
          <a:xfrm>
            <a:off x="5867280" y="3789360"/>
            <a:ext cx="3095640" cy="1692360"/>
          </a:xfrm>
          <a:prstGeom prst="wedgeEllipseCallout">
            <a:avLst>
              <a:gd name="adj1" fmla="val -76564"/>
              <a:gd name="adj2" fmla="val -2936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oir les directives sous LC-PCC PS 27.1 et 2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f497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6:10:48Z</dcterms:modified>
  <cp:revision>105</cp:revision>
  <dc:subject/>
  <dc:title>Quiz Module 8: les relations RDA</dc:title>
</cp:coreProperties>
</file>