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A69B-4CA6-40F0-B9F7-A90AE687031D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E419-26C0-428F-9284-4E0B4B10835B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DAD9-EE26-4955-A9D5-5CE723E26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7CAE-8841-4534-97CC-5B1BC309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6BDA-1731-43A7-98AE-A882B6824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C164-67CF-4A6D-82A5-96C751473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BF3F-A652-419F-8052-68FADF16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502A-0194-407A-8D29-7A0B8C9B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0747-B252-48A8-8F5B-F07108BF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E0AE-58C3-4435-95AF-62338595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5C23-2B73-444D-BA82-FB640921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3901-1465-43C6-88B0-2A219F33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25B2-8FCA-41F6-94EF-F0E90C10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6548-3046-4ACC-9D75-4F84B872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8DF4-6293-4FE5-9C83-4900648F6DB0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76092"/>
                </a:solidFill>
                <a:latin typeface="Calibri"/>
              </a:rPr>
              <a:t>Quiz</a:t>
            </a:r>
            <a:br>
              <a:rPr sz="4400"/>
            </a:br>
            <a:r>
              <a:rPr b="1" lang="en-CA" sz="4400" spc="-1" strike="noStrike">
                <a:solidFill>
                  <a:srgbClr val="376092"/>
                </a:solidFill>
                <a:latin typeface="Calibri"/>
              </a:rPr>
              <a:t>Les relations R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376092"/>
                </a:solidFill>
                <a:latin typeface="Calibri"/>
              </a:rPr>
              <a:t>En utilisant le format MARC 21, quelle est la méthode privilégiée pour exprimer des relations entre publications en séri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85264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édiger une description structurée, en utilisant les zones de liaisons (780, 785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édiger une description non-structurée sous forme de note générale (zone 50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indefinite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1" dur="indefinite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2" dur="indefinite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376092"/>
                </a:solidFill>
                <a:latin typeface="Calibri"/>
              </a:rPr>
              <a:t>Quelles sont les relations fondamentales LC qui doivent être établies dans les notices d’autorité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Les différentes identités d’une person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Les relations entre une collectivité et une person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Les collectivités qui précèdent/succèd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Les relations entre une famille et une person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indefinite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63" dur="indefinite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4" dur="indefinite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indefinite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67" dur="indefinite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8" dur="indefinite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Calibri"/>
              </a:rPr>
              <a:t>Vrai ou faux? Les catalogueurs de LC qui créent des notices d’autorité conformes à RDA vont continuer d’utiliser les valeurs «a» et «b» dans la sous-zone 51X $w afin d’établir des relations avec les collectivités qui précèdent/succèd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50760" y="3716280"/>
            <a:ext cx="822960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r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u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Bulle ronde 3"/>
          <p:cNvSpPr/>
          <p:nvPr/>
        </p:nvSpPr>
        <p:spPr>
          <a:xfrm>
            <a:off x="3348000" y="3357720"/>
            <a:ext cx="2665440" cy="1260360"/>
          </a:xfrm>
          <a:prstGeom prst="wedgeEllipseCallout">
            <a:avLst>
              <a:gd name="adj1" fmla="val -82638"/>
              <a:gd name="adj2" fmla="val 4282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Voir le DCM, Section Z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indefinite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8" dur="indefinite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79" dur="indefinite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376092"/>
                </a:solidFill>
                <a:latin typeface="Calibri"/>
              </a:rPr>
              <a:t>Le jugement du catalogueur 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devrait prendre en considération si un élément est nécessaire pour donner accès à la ressou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st essentiel pour décider quelles relations additionnelles on doit établir, en plus des relations fondamentales L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n’est pas requis pour l’enregistrement des relations fondamentales L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outes les réponses ci-des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indefinite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0" dur="indefinite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91" dur="indefinite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100" spc="-1" strike="noStrike">
                <a:solidFill>
                  <a:srgbClr val="376092"/>
                </a:solidFill>
                <a:latin typeface="Calibri"/>
              </a:rPr>
              <a:t>Vrai ou faux? LC suggère d’établir une relation entre les items «reliés avec» lorsque des descriptions sont rédigées pour deux ressources ou plus, qui ont été publiées séparément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50760" y="33238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Vr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Fau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Bulle ronde 4"/>
          <p:cNvSpPr/>
          <p:nvPr/>
        </p:nvSpPr>
        <p:spPr>
          <a:xfrm>
            <a:off x="3132000" y="2852640"/>
            <a:ext cx="2880000" cy="1260720"/>
          </a:xfrm>
          <a:prstGeom prst="wedgeEllipseCallout">
            <a:avLst>
              <a:gd name="adj1" fmla="val -73870"/>
              <a:gd name="adj2" fmla="val 13981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Voir LC-PCC PS 28.1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indefinite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indefinite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indefinite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Les indicateurs de relation 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4360" y="1773000"/>
            <a:ext cx="8229600" cy="32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euvent être utilisés à un niveau géné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euvent être utilisés à un niveau spécif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euvent être exprimés sous la forme d’un code, enregistré dans la sous-zone MARC $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outes les réponses ci-des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indefinite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12" dur="indefinite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13" dur="indefinite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rcRect l="50003" t="26393" r="26745" b="16639"/>
          <a:stretch/>
        </p:blipFill>
        <p:spPr>
          <a:xfrm>
            <a:off x="2700360" y="326880"/>
            <a:ext cx="45356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376092"/>
                </a:solidFill>
                <a:latin typeface="Calibri"/>
              </a:rPr>
              <a:t>Lesquelles des options suivantes sont conformes à RDA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Quatre zones 700 pour Gariépy,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Gauthier, Paulhiac Scherrer et Scherrer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, sans $e aut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Une seule zone 700 pour Garié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ucune zone 700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’indicateur de relation «auteur», saisi en $e dans quatre zones 700 pour Gariépy,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Gauthier, Paulhiac Scherrer et Scherr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indefinite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8" dur="indefinite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9" dur="indefinite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indefinite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32" dur="indefinite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33" dur="indefinite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indefinite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36" dur="indefinite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37" dur="indefinite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indefinite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40" dur="indefinite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41" dur="indefinite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rcRect l="49770" t="23770" r="26335" b="12982"/>
          <a:stretch/>
        </p:blipFill>
        <p:spPr>
          <a:xfrm>
            <a:off x="2700360" y="60480"/>
            <a:ext cx="4392720" cy="65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376092"/>
                </a:solidFill>
                <a:latin typeface="Calibri"/>
              </a:rPr>
              <a:t>Lesquelles des options suivantes sont conformes à RDA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3512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cune zone 7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00 1# $a 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Catellier, Maxime, $d 1983- $e auteur, $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éditeur intellectu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00 1# $a Chabin, Laurent, $e aut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00 1# $a 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Tremblay, Alain Ulysse, $d 1954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$e aut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00 1# $a Vézina, Michel, $e aut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00 1# $a 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Catellier, Maxime, $d 1983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00 1# $a Chabin, Laur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00 1# $a 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Tremblay, Alain Ulysse, $d 1954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00 1# $a Vézina, Mich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3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5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9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1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5" dur="500" fill="hold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6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indefinite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8" dur="indefinite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9" dur="indefinite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indefinite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2" dur="indefinite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3" dur="indefinite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indefinite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6" dur="indefinite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7" dur="indefinite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indefinite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0" dur="indefinite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1" dur="indefinite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indefinite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4" dur="indefinite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5" dur="indefinite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indefinite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8" dur="indefinite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9" dur="indefinite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indefinite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92" dur="indefinite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3" dur="indefinite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indefinite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96" dur="indefinite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7" dur="indefinite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indefinite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0" dur="indefinite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1" dur="indefinite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indefinite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4" dur="indefinite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5" dur="indefinite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RDA fournit des instructions pour quels types de relatio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 relations entre les ressources et les personnes/collectivités/famil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 relations entre les œuvres, les expressions, les manifestations et les i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 relations entre les personnes, les collectivités et les famil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 relations entre les concepts, les objets, les événements et les lieu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alibri"/>
              </a:rPr>
              <a:t>Quels types de relations signalent les indicateurs suivants? Préciser l’endroit où vous avez trouvé la réponse dans 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68360" y="2774880"/>
          <a:ext cx="8229600" cy="3687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eur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éditeur intellect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thograp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ot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view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taur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éalisateur d’émissions de télé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eur de commentaire ajou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8" name="ZoneTexte 6"/>
          <p:cNvSpPr/>
          <p:nvPr/>
        </p:nvSpPr>
        <p:spPr>
          <a:xfrm>
            <a:off x="468360" y="1052640"/>
            <a:ext cx="813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es de re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œuv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ex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manife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 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re 1"/>
          <p:cNvSpPr/>
          <p:nvPr/>
        </p:nvSpPr>
        <p:spPr>
          <a:xfrm>
            <a:off x="395280" y="0"/>
            <a:ext cx="82296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alibri"/>
              </a:rPr>
              <a:t>Quels types de relations signalent les indicateurs suivants? Préciser l’endroit où vous avez trouvé la réponse dans 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68360" y="2774880"/>
          <a:ext cx="8229600" cy="3681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eur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éditeur intellect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thograp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ot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view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taur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éalisateur d’émissions de télé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eur de commentaire ajou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1" name="ZoneTexte 5"/>
          <p:cNvSpPr/>
          <p:nvPr/>
        </p:nvSpPr>
        <p:spPr>
          <a:xfrm>
            <a:off x="468360" y="1052640"/>
            <a:ext cx="813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es de re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œuv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ex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manife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 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Calibri"/>
              </a:rPr>
              <a:t>Quelle est la définition d’ «oeuvre en relation»? Trouver deux endroits dans le </a:t>
            </a:r>
            <a:r>
              <a:rPr b="1" i="1" lang="en-US" sz="3200" spc="-1" strike="noStrike">
                <a:solidFill>
                  <a:srgbClr val="376092"/>
                </a:solidFill>
                <a:latin typeface="Calibri"/>
              </a:rPr>
              <a:t>RDA Toolkit</a:t>
            </a:r>
            <a:r>
              <a:rPr b="1" lang="en-US" sz="3200" spc="-1" strike="noStrike">
                <a:solidFill>
                  <a:srgbClr val="376092"/>
                </a:solidFill>
                <a:latin typeface="Calibri"/>
              </a:rPr>
              <a:t> où l’on retrouve cette définition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000" spc="-1" strike="noStrike">
                <a:solidFill>
                  <a:srgbClr val="000000"/>
                </a:solidFill>
                <a:latin typeface="Calibri"/>
              </a:rPr>
              <a:t>Œuvre associée à la ressource décrite (par exemple, adaptation, commentaire, supplément, continuation, partie d’une œuvre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5.1.1.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lossai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c0504d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c0504d"/>
                </a:solidFill>
                <a:latin typeface="Calibri"/>
              </a:rPr>
              <a:t>Jeu d’éléments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.B.: Une variante de cette définition se trouve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également sous 24.1.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tre 1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alibri"/>
              </a:rPr>
              <a:t>Quels types de relations signalent les indicateurs suivants? Préciser l’endroit où vous avez trouvé la réponse dans 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3017880"/>
          <a:ext cx="8229600" cy="3267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eur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rument de recherc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r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tépis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te miro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s la coll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roduction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phrase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ié av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6" name="ZoneTexte 5"/>
          <p:cNvSpPr/>
          <p:nvPr/>
        </p:nvSpPr>
        <p:spPr>
          <a:xfrm>
            <a:off x="539640" y="1341360"/>
            <a:ext cx="813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Types de re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œuv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expre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manifes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i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alibri"/>
              </a:rPr>
              <a:t>Quels types de relations signalent les indicateurs suivants? Préciser l’endroit où vous avez trouvé la réponse dans 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3017880"/>
          <a:ext cx="8229600" cy="3270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eur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rument de recherc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/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2.5/J.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r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tépis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2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te miro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s la coll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roduction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/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4.2/J.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phrase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/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2.2/J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ié av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5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9" name="ZoneTexte 4"/>
          <p:cNvSpPr/>
          <p:nvPr/>
        </p:nvSpPr>
        <p:spPr>
          <a:xfrm>
            <a:off x="539640" y="1341360"/>
            <a:ext cx="813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Types de re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œuv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expre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manifes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i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Que retrouve-t-on dans les </a:t>
            </a:r>
            <a:br>
              <a:rPr sz="4000"/>
            </a:b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annexes I, J et K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247480"/>
            <a:ext cx="8229600" cy="29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s listes fermées de termes relatifs aux types de médias, de contenus et de supports matériels R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s listes ouvertes d’indicateurs de relation pour qualifier les différents types de relations existant entre les entit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Quelles méthodes propose RDA pour exprimer les relations en MARC 21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1912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nregistrer un point d’accès autorisé accompagné d’un indicateur de relation, saisi dans une sous-zone MAR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Rédiger une description structurée en utilisant les zones de liais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Rédiger une description structurée en utilisant la ponctuation ISB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Rédiger une description non-structurée dans la zone des notes générales (500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Fournir uniquement un identifiant, par ex. un numéro ISB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7" dur="indefinite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8" dur="indefinite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1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2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indefinite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5" dur="indefinite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6" dur="indefinite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indefinite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9" dur="indefinite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0" dur="indefinite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376092"/>
                </a:solidFill>
                <a:latin typeface="Calibri"/>
              </a:rPr>
              <a:t>Parmi les énoncés ci-dessous, lesquels expriment une  relation entre une œuvre et une person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18760" y="2575080"/>
            <a:ext cx="8085240" cy="30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st l’auteur du roman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st l’artiste qui a créé le tableau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st le compositeur du concerto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st l’annotateur de la version manuscrite de 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3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4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7" dur="indefinite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8" dur="indefinite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376092"/>
                </a:solidFill>
                <a:latin typeface="Calibri"/>
              </a:rPr>
              <a:t>Identifier les relations entre les œuvres et les personnes/collectivités/familles qui sont fondamentales selon LC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e premier créateur nommé d’une œuv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’artiste qui a créé une œuvre d’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e compositeur d’une œuvre music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’annotateur d’un item manuscr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indefinite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5" dur="indefinite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6" dur="indefinite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indefinite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9" dur="indefinite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0" dur="indefinite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indefinite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3" dur="indefinite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4" dur="indefinite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376092"/>
                </a:solidFill>
                <a:latin typeface="Calibri"/>
              </a:rPr>
              <a:t>Identifier les relations entre les expressions et les personnes/collectivités/familles qui sont fondamentales selon L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ut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Organisme de pub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llustrat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ommandita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indefinite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1" dur="indefinite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2" dur="indefinite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76092"/>
                </a:solidFill>
                <a:latin typeface="Calibri"/>
              </a:rPr>
              <a:t>Les œuvres en relation et les expressions en relation sont des relations fondamentales LC pour les compil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99700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r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u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indefinite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3" dur="indefinite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4" dur="indefinite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376092"/>
                </a:solidFill>
                <a:latin typeface="Calibri"/>
              </a:rPr>
              <a:t>Parmi les relations fondamentales LC suivantes,</a:t>
            </a:r>
            <a:br>
              <a:rPr sz="3200"/>
            </a:br>
            <a:r>
              <a:rPr b="1" lang="en-CA" sz="3200" spc="-1" strike="noStrike">
                <a:solidFill>
                  <a:srgbClr val="376092"/>
                </a:solidFill>
                <a:latin typeface="Calibri"/>
              </a:rPr>
              <a:t> lesquelles doivent être enregistrées par les catalogueurs LC lorsqu’ils traitent une reproduc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242100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es œuvres en re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es expressions en re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es manifestations en re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es items en re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Bulle ronde 3"/>
          <p:cNvSpPr/>
          <p:nvPr/>
        </p:nvSpPr>
        <p:spPr>
          <a:xfrm>
            <a:off x="5867280" y="3789360"/>
            <a:ext cx="3095640" cy="1692360"/>
          </a:xfrm>
          <a:prstGeom prst="wedgeEllipseCallout">
            <a:avLst>
              <a:gd name="adj1" fmla="val -76564"/>
              <a:gd name="adj2" fmla="val -29361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Voir les directives sous LC-PCC PS 27.1 et 28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indefinite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5" dur="indefinite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6" dur="indefinite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indefinite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indefinite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indefinite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7:14:56Z</dcterms:created>
  <dc:creator>Tiburon</dc:creator>
  <dc:description/>
  <dc:language>en-US</dc:language>
  <cp:lastModifiedBy>Pat Riva</cp:lastModifiedBy>
  <dcterms:modified xsi:type="dcterms:W3CDTF">2013-04-15T16:10:48Z</dcterms:modified>
  <cp:revision>105</cp:revision>
  <dc:subject/>
  <dc:title>Quiz Module 8: les relations RDA</dc:title>
</cp:coreProperties>
</file>