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96A2-864D-4E36-807A-6A700295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7DC0-B1FF-4FB3-A8FA-CABC326C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883-D0A4-4FC4-9CC9-6B2D4E3B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FB0-B360-4AD3-847B-CF50530A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86BC-C0F3-4325-B682-F89BA85E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88F5-2ED4-4711-86FA-9D149240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7E74-C6D6-49EA-91BA-9A8D4FF1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A3C-2EF2-4D6C-BCC4-A69EC8FC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F61D-9BF0-410C-8E04-4CC8ACF4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FDA-45A2-4DA1-A124-F6FA2A9A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5DAE-F9FB-4FC0-AEA8-E23A8E58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D8D-9FA7-40B7-9787-9EB3667F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FA94-9E82-412A-A859-6485D8123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des personnes, familles et colle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1E8-45CE-466A-86CB-5603B002EA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 le nom privilégié RDA pour le congrès ci-dess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Fifth Annual SoFi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1 2# $a Fifth Annual SoFiE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1 2# $a Annual SoFiE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1 2# $a SoFiE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160E-4879-4501-A4DE-0210709071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0 1# $a États-Unis. $b Departmen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2B90-75D9-4639-B8EB-F167EEA721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i ou Fau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nous dit de déterminer le nom privilégié pour une collectivité à partir de n’importe quell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09E2-7B58-4D7F-9EA7-ED1A1B24F1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7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8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i ou Fau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8480" indent="-528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A nous dit de déterminer le nom privilégié pour une collectivité à partir des sources suivantes (en ordre de préférence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592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sources privilégiées d’information dans les ressources associées à la colle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592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res mentions formelles apparaissant dans les ressources associées à la colle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592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res sources (incluant des sources de référ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480" indent="-52848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480" indent="-528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D7B7-B66D-4280-B3F3-63A7776A81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i ou Fau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nom privilégié pour une collectivité est un élément fondamental. Les variantes du nom pour une collectivité sont opti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A41-47DD-4235-B2C1-1FFCA5C36C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quels des éléments suivants sont fondamentaux pour les collectivité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 privilégié pour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resse de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éro d’ordre d’un congrè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ège social de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e de la colle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3CC-5F7C-415C-BA07-547F51DE67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7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8" dur="indefinite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vez-vous coder une zone 376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ormation sur la famil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ans une notice d’autorité pour une collectivit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7416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EC5-8E4E-4001-8F03-CCC8C42457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5" dur="indefinite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6" dur="indefinite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quel des points d’accès autorisés suivants est correctement formaté selon RDA et MARC 21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1# $a Carleton (Fam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50      $a Carleton, Fam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10 2# $a Carleton (Famille : $d 1757-1865 : $c Alexandria, Virg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100 3# $a Carleton (Famille : $g Carleton, James, 1757-18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AF0-94A0-4E9F-8505-C723356DAC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3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4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0# $a M. B., $d activité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D30-604E-4921-A7C2-6718979234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Ohlhausen, Peter $c (Chercheur en ges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RDA ou RCAA2 pourrait avoir été uti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59DE-3E99-4A58-8EBE-26ED4A43B1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-ce possible d’avoir un point d’accès autorisé RDA pour un nom personnel indifférenci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E042-F499-4C33-BC46-34F59A1494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Où pouvez-vous trouver dans le RDA Toolkit la définition de « Affiliation » comme attribut d’une person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1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9.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A 9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16FE-A3E3-4C87-8E8D-A8E5FECC97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e nous indique la zone autorité 378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Carmichael, Emmett B., $d 1895-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78      $q Emmett Br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a forme développée du prénom de Carmichael est Emmett Bry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nom du père de Carmichael est Emmett Bry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ucune de ces ré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6097-D90E-42B7-B327-EDC5FE0A14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9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0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Pourquoi ce point d’accès autorisé RDA n’inclut pas une sous-zone $q (Emmett Bryan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00 1# $a Carmichael, Emmett B., $d 1895-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78      $q Emmett Br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e forme développée n’est jamais enregistrée dans la zone 1XX d’un point d’accès autorisé d’un nom de personne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l n’y avait pas de conflit, donc la forme développée n’a pas été ajoutée au point d’accès autorisé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 catalogueur a utilisé son ju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FEA-8E9B-47F2-889B-383DA674D0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-ce que vous pouvez coder une zone 376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ormation sur la famil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ans une notice d’autorité pour une person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311-3D5A-4ECB-A0D0-E9CA5CE168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norme de catalogage a été utilisée pour créer l’autorité 1XX ci-dess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111 2# $a Annual Conference on Development and Change $n (1re : $d 2005 : $c Nīmrāna, Inde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CA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02B3-ECCE-4ACB-8A46-3C025A33A6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3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8:07:42Z</dcterms:created>
  <dc:creator>BANQ</dc:creator>
  <dc:description/>
  <dc:language>en-US</dc:language>
  <cp:lastModifiedBy>Mylène Robichaud</cp:lastModifiedBy>
  <dcterms:modified xsi:type="dcterms:W3CDTF">2013-04-15T14:43:04Z</dcterms:modified>
  <cp:revision>34</cp:revision>
  <dc:subject/>
  <dc:title>Autorités RDA</dc:title>
</cp:coreProperties>
</file>