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5306-B04B-416A-9A88-8C42B194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9AD-04D9-4B5D-9B91-618420EB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4C9E-830C-4601-86C6-1BA84C8F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646C-0717-41B9-BAE1-0C277838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5432-F292-4619-AD56-636F49CC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9666-1BB1-41DE-BBC9-E8FCD9BF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AB80-8F23-484A-9ADD-9A1E45FE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466-5802-4308-859A-A348C992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5C0F-3583-43A3-9773-3FFE989C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53AD-C635-438F-98D8-AEF864C0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F8E8-A7FE-460D-B1FB-C3751A31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977D-6AD5-4071-B3EF-EDECC8A1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A4AA-C30A-4BA6-8184-37D479484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des personnes, familles et collectiv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104-2C0C-4272-8834-BCE3E0B55B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 le nom privilégié RDA pour le congrès ci-dess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Fifth Annual SoFi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1 2# $a Fifth Annual SoFiE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1 2# $a Annual SoFiE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1 2# $a SoFiE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452E-DE85-4867-9718-7FE73D6EB5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10 1# $a États-Unis. $b Departmen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ou RCAA2 pourrait avoir été util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E4D2-5D2B-4E5C-AB92-C60ECA319B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i ou Fau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 nous dit de déterminer le nom privilégié pour une collectivité à partir de n’importe quell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7543-E007-4CD8-BE3B-C3A3054F5A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7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8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i ou Fau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8480" indent="-528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nous dit de déterminer le nom privilégié pour une collectivité à partir des sources suivantes (en ordre de préférence)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592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sources privilégiées d’information dans les ressources associées à la collecti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592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res mentions formelles apparaissant dans les ressources associées à la collecti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592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res sources (incluant des sources de référ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480" indent="-52848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480" indent="-528480">
              <a:spcBef>
                <a:spcPts val="10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93D-123F-4CA3-A857-877009A04E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i ou Fau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nom privilégié pour une collectivité est un élément fondamental. Les variantes du nom pour une collectivité sont opti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4576-D0E3-4E08-AD30-B4E177093B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quels des éléments suivants sont fondamentaux pour les collectivité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 privilégié pour la colle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resse de la colle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éro d’ordre d’un congrè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ège social de la colle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e de la colle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6BC0-B31A-466A-BFAE-652ED7A200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1" dur="indefinite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2" dur="indefinite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7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8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vez-vous coder une zone 376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formation sur la famil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dans une notice d’autorité pour une collectivit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7416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CB03-2149-4334-818A-E6388C0F2E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5" dur="indefinite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6" dur="indefinite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quel des points d’accès autorisés suivants est correctement formaté selon RDA et MARC 21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00 1# $a Carleton (Fam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50      $a Carleton, Fam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0 2# $a Carleton (Famille : $d 1757-1865 : $c Alexandria, Virg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00 3# $a Carleton (Famille : $g Carleton, James, 1757-18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A87C-345E-4252-8B27-2AD07FA46F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3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4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0# $a M. B., $d activité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AFB9-603B-41B5-A59A-44F43E5480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00 1# $a Ohlhausen, Peter $c (Chercheur en ges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ou RCAA2 pourrait avoir été util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51BB-9925-425E-B344-9CC8C3ED65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-ce possible d’avoir un point d’accès autorisé RDA pour un nom personnel indifférenci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264C-BB0E-4197-8A6A-A6215A60DF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" dur="indefinite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4" dur="indefinite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ù pouvez-vous trouver dans le RDA Toolkit la définition de « Affiliation » comme attribut d’une person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 1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 9.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 9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BC80-4B29-4BDC-BB37-F578C5AA1F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est-ce que nous indique la zone autorité 378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00 1# $a Carmichael, Emmett B., $d 1895-19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78      $q Emmett Bry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a forme développée du prénom de Carmichael est Emmett Bry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nom du père de Carmichael est Emmett Bry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cune de ces ré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1A53-4238-4531-B284-17984DC7AB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9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0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ourquoi ce point d’accès autorisé RDA n’inclut pas une sous-zone $q (Emmett Bryan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00 1# $a Carmichael, Emmett B., $d 1895-19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78      $q Emmett Bry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forme développée n’est jamais enregistrée dans la zone 1XX d’un point d’accès autorisé d’un nom de personne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l n’y avait pas de conflit, donc la forme développée n’a pas été ajoutée au point d’accès autorisé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catalogueur a utilisé son ju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20C-3CFB-493D-98AF-58B782AF8B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-ce que vous pouvez coder une zone 376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formation sur la famil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dans une notice d’autorité pour une person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420B-A949-4BFA-96C4-D5CB5D01A5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11 2# $a Annual Conference on Development and Change $n (1re : $d 2005 : $c Nīmrāna, Inde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F0E0-3BC5-4837-A685-89924A3C30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3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8:07:42Z</dcterms:created>
  <dc:creator>BANQ</dc:creator>
  <dc:description/>
  <dc:language>en-US</dc:language>
  <cp:lastModifiedBy>Mylène Robichaud</cp:lastModifiedBy>
  <dcterms:modified xsi:type="dcterms:W3CDTF">2013-04-15T14:43:04Z</dcterms:modified>
  <cp:revision>34</cp:revision>
  <dc:subject/>
  <dc:title>Autorités RDA</dc:title>
</cp:coreProperties>
</file>