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080-11A5-4F6F-B02C-A70C1FB9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35E-444B-4636-80C9-161625E4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FDE-58EA-4F6F-9BDE-5910CA52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942-4028-40FE-97EC-19DC50AD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87E-554E-4244-AB4A-FDA366BB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E59-446A-4E79-AEEA-9134323A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570-58C9-45A2-BA98-263827F7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40B-5CBA-4A3D-8160-03B6A8FB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523-D3F0-4428-BA97-50B35A51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63C-60A4-4B8F-B165-E7243F5E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5A1-8683-4A11-9F19-49368745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8C3-E1E9-4246-A983-615A9C87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4BD-D544-4539-9BCA-4D28A74C8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personnes, familles et colle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A62-CF50-4414-AC68-D4C91F5630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 nom privilégié RDA pour le congrès ci-dess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E1B-899A-48CE-896E-C73981A770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1# $a États-Unis. $b Departmen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E04-268C-401F-BFD5-305D32E669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 n’importe quel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A4C-FFE2-466D-81BA-A613286B59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8480" indent="-528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s sources suivantes (en ordre de préférence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0BB-80EC-400A-86BD-9A04A0D484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nom privilégié pour une collectivité est un élément fondamental. Les variantes du nom pour une collectivité sont opt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657-CFFC-4DB3-AC41-84E819D236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léments suivants sont fondamentaux pour les collectivité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 privilégié pour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ss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éro d’ordre d’un congrè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ège social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392-4273-4E08-993F-8D6C06B143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vez-vous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collectiv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7416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C4C-ADA0-468A-829D-44D25C4CDC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quel des points d’accès autorisés suivants est correctement formaté selon RDA et MARC 21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C4B-E6E0-4191-B971-B5A851D2A9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D8A-A2C7-4077-BD82-AD000F05AC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Ohlhausen, Peter $c (Chercheur en ges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E17-7752-4FF9-AEEF-CDBA03E97F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CFA-DC64-4D44-B8FC-2B79A42FEB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ù pouvez-vous trouver dans le RDA Toolkit la définition de « Affiliation » comme attribut d’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1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3C9-45B1-489E-B81A-BBCF5E1DDB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nous indique la zone autorité 378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forme développée du prénom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nom du père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cune de ces ré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301-A076-48E2-A814-BE3D3C8499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urquoi ce point d’accès autorisé RDA n’inclut pas une sous-zone $q (Emmett Brya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2B5-0D45-48D3-BA4D-4FEF331EA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que vous pouvez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58D-F048-431E-9B8E-0C0B7EFD79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1 2# $a Annual Conference on Development and Change $n (1re : $d 2005 : $c Nīmrāna, Ind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0F7-764C-403D-84A7-96E775E556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Mylène Robichaud</cp:lastModifiedBy>
  <dcterms:modified xsi:type="dcterms:W3CDTF">2013-04-15T14:43:04Z</dcterms:modified>
  <cp:revision>34</cp:revision>
  <dc:subject/>
  <dc:title>Autorités RDA</dc:title>
</cp:coreProperties>
</file>