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DEB4-FE32-4CC1-B567-766DC1D8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9A8-5D07-4715-B1C7-D480D2A7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1606-76B6-4C35-B65B-CD7A737C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077F-ECCD-4DF2-AC9B-1422A514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00CE-C01E-419F-B1BF-C7BCFBB8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B571-345D-40BA-85AC-93E888EF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EF3F-9835-42D1-AECD-BD59019C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C0B3-42DE-498A-8298-D0F59D80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021A-BE60-474A-A717-B7FC896E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26A1-6C2C-4B52-9D78-2D94B2E8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5C3F-7D50-4AFB-AFF8-C9E939BE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9F58-C9FE-4A16-B21A-A50DE92F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2047-017C-40BD-9F40-8C7BD4667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des personnes, familles et collectiv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BA69-7E98-4E08-B49F-0E656E64E6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sir le nom privilégié RDA pour le congrès ci-dess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Fifth Annual SoFi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11 2# $a Fifth Annual SoFiE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11 2# $a Annual SoFiE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11 2# $a SoFiE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E15C-06B4-4AFE-AA56-93E30880CA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10 1# $a États-Unis. $b Department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ou RCAA2 pourrait avoir été util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3224-62E2-42DB-8E14-E3E901124D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i ou Fau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 nous dit de déterminer le nom privilégié pour une collectivité à partir de n’importe quell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883-B82D-430C-B031-6593F11E6B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7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8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i ou Fau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8480" indent="-528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nous dit de déterminer le nom privilégié pour une collectivité à partir des sources suivantes (en ordre de préférence)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592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sources privilégiées d’information dans les ressources associées à la collecti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592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res mentions formelles apparaissant dans les ressources associées à la collecti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592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res sources (incluant des sources de référ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480" indent="-52848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480" indent="-528480">
              <a:spcBef>
                <a:spcPts val="10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BB16-7609-47F5-9E1C-F0C939050F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i ou Fau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nom privilégié pour une collectivité est un élément fondamental. Les variantes du nom pour une collectivité sont opti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4315-C738-43E2-B536-2D05D3CDE5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3" dur="indefinite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quels des éléments suivants sont fondamentaux pour les collectivité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 privilégié pour la collec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resse de la collec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éro d’ordre d’un congrè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ège social de la collec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e de la collec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69AD-C858-415E-A5F3-BFFE1E3E44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1" dur="indefinite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2" dur="indefinite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7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8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vez-vous coder une zone 376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formation sur la famil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dans une notice d’autorité pour une collectivit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7416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9BC2-7C7B-4043-AA9E-4208A92861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5" dur="indefinite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6" dur="indefinite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quel des points d’accès autorisés suivants est correctement formaté selon RDA et MARC 21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00 1# $a Carleton (Famil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50      $a Carleton, Fam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10 2# $a Carleton (Famille : $d 1757-1865 : $c Alexandria, Virg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00 3# $a Carleton (Famille : $g Carleton, James, 1757-18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ECFD-5538-4368-93A6-A174377100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3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4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0# $a M. B., $d activité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CEFC-510E-4C6E-9AB5-4092791A93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00 1# $a Ohlhausen, Peter $c (Chercheur en ges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ou RCAA2 pourrait avoir été util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14EA-5E23-4810-BCDD-A1294FE349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-ce possible d’avoir un point d’accès autorisé RDA pour un nom personnel indifférenci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5D77-F40B-4D98-8725-6B774B48C3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" dur="indefinite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4" dur="indefinite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ù pouvez-vous trouver dans le RDA Toolkit la définition de « Affiliation » comme attribut d’une person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 1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 9.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 9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F74E-B4BF-4704-BF55-3D33D53067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’est-ce que nous indique la zone autorité 378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00 1# $a Carmichael, Emmett B., $d 1895-19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78      $q Emmett Bry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a forme développée du prénom de Carmichael est Emmett Bry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nom du père de Carmichael est Emmett Bry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cune de ces ré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F4E6-5425-49B9-8FBC-2D8D4EB535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9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0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ourquoi ce point d’accès autorisé RDA n’inclut pas une sous-zone $q (Emmett Bryan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00 1# $a Carmichael, Emmett B., $d 1895-19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78      $q Emmett Bry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ne forme développée n’est jamais enregistrée dans la zone 1XX d’un point d’accès autorisé d’un nom de personne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l n’y avait pas de conflit, donc la forme développée n’a pas été ajoutée au point d’accès autorisé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catalogueur a utilisé son ju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D084-29C6-43F2-9254-300F1ED3C5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-ce que vous pouvez coder une zone 376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formation sur la famil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dans une notice d’autorité pour une person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DE0B-BCAD-4AA9-9507-67CECD659B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5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6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11 2# $a Annual Conference on Development and Change $n (1re : $d 2005 : $c Nīmrāna, Inde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4BAE-750E-4573-B18F-FA50A6334B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3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8:07:42Z</dcterms:created>
  <dc:creator>BANQ</dc:creator>
  <dc:description/>
  <dc:language>en-US</dc:language>
  <cp:lastModifiedBy>Mylène Robichaud</cp:lastModifiedBy>
  <dcterms:modified xsi:type="dcterms:W3CDTF">2013-04-15T14:43:04Z</dcterms:modified>
  <cp:revision>34</cp:revision>
  <dc:subject/>
  <dc:title>Autorités RDA</dc:title>
</cp:coreProperties>
</file>