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54C6-7099-4A7D-8E0F-A2ECC160205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F22-76D7-44BC-B980-99D868172D1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01D-3D0B-48DF-8795-C8FFE551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65B-F5DD-422F-9F55-64AB71F9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831-1992-4A95-BBB9-2E01D135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824-8C3E-4089-95E8-C3391ED2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D3A-9206-4AA3-A9F8-060FC66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765-2A20-40B3-88BC-F64EC75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828-03E6-4311-A589-CA4E794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2AE-9859-42FC-8142-8B26CDD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407-E798-4477-8AAC-FDDF2D5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708-2EAE-4884-A333-4215769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FBE-66FD-443C-BF70-976F03D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534-0624-4585-B0B2-B89F48B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F730-A9AD-40C0-94DF-109198006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2600"/>
            </a:b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435640" y="1844640"/>
            <a:ext cx="3311640" cy="1620720"/>
          </a:xfrm>
          <a:prstGeom prst="wedgeEllipseCallout">
            <a:avLst>
              <a:gd name="adj1" fmla="val -85620"/>
              <a:gd name="adj2" fmla="val 3021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505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5580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56636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99"/>
                </a:solidFill>
                <a:latin typeface="Arial"/>
              </a:rPr>
              <a:t>Quels éléments décrivent conformément à RDA une ressource constituée d’un guide pour l’apprentissage de l’anglais et d’une cassette où sont enregistrés des exercices pour la pratique de l’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audio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sons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audio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onore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Pat Riva</cp:lastModifiedBy>
  <dcterms:modified xsi:type="dcterms:W3CDTF">2013-04-12T22:31:34Z</dcterms:modified>
  <cp:revision>23</cp:revision>
  <dc:subject/>
  <dc:title>Diapositive 1</dc:title>
</cp:coreProperties>
</file>