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171-AE63-4E22-A0AB-9EBE4D9C765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E701-49F7-49FB-A873-C443D314FB88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824-07D3-40E6-BE86-5CB27A2F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A60-6E2D-4930-9848-BDF80DB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2B3-5A31-4D5D-A639-4F52987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C69-4940-45DF-AD2B-8C774EB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D9F-5C5B-4D09-A910-FCF3289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0DC-9624-44C7-A4FA-1FA9535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67A-EDF3-431C-9B33-D28F49E0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D42-76D7-4A35-A090-F165EA9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BEF-1371-4090-BCF4-7E5573F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60B-F4EE-46F8-95CC-EDD8740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6B1-CEA7-4C58-B38E-8E3A457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C3F-A63A-4F63-AA10-4C97188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E030-F345-4C60-A9F4-F2173060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62080"/>
                <a:tab algn="l" pos="2511360"/>
                <a:tab algn="l" pos="4572000"/>
                <a:tab algn="l" pos="4935600"/>
                <a:tab algn="l" pos="770724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</a:rPr>
              <a:t>Quiz</a:t>
            </a:r>
            <a:br>
              <a:rPr sz="2600"/>
            </a:b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Description des supports matériel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 constituent des éléments fondamentaux R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ype de support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éthod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ulle ronde 3"/>
          <p:cNvSpPr/>
          <p:nvPr/>
        </p:nvSpPr>
        <p:spPr>
          <a:xfrm>
            <a:off x="5435640" y="1844640"/>
            <a:ext cx="3311640" cy="1620720"/>
          </a:xfrm>
          <a:prstGeom prst="wedgeEllipseCallout">
            <a:avLst>
              <a:gd name="adj1" fmla="val -85620"/>
              <a:gd name="adj2" fmla="val 3021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quement si la ressource est complète ou si l’importance matérielle totale est con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505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Vrai ou faux? Les termes utilisés dans les zones MARC 336, 337 et 338 proviennent de listes fermées que l’on retrouve au chapitre 3, dans RDA.</a:t>
            </a:r>
            <a:r>
              <a:rPr b="1" lang="fr-FR" sz="2800" spc="-1" strike="noStrike">
                <a:solidFill>
                  <a:srgbClr val="37609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22400" y="2606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3"/>
          <p:cNvSpPr/>
          <p:nvPr/>
        </p:nvSpPr>
        <p:spPr>
          <a:xfrm>
            <a:off x="3348000" y="2637000"/>
            <a:ext cx="4896000" cy="25923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ux! La zone 336 est réservée à l’enregistrement du type de contenu de la ressource. Les instructions et le vocabulaire relatifs au type de contenu se trouvent au chapitre 6, “Identification des œuvres et des expressions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esquels des éléments suivants, enregistrés dans la zone MARC 300, se rapportent au support 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5580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mportance matéri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coul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s les réponses ci-des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squels des groupes d’éléments suivants décrivent conformément à RDA une monographie constitué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56636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21 pages numérotées de texte, suivies de 18 pages de planches de portraits non numérotées et de 18 feuillets numérotés. Le volume mesure 25,2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[18] pages de planches, 18 feuillets : $b illustrations ; $c 26 centimèt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a 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illustration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6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volum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00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21 pages, 18 pages de planches non numérotées, 18 feuillets : $b portraits ; $c 25,2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text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6 ## $a 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image fixe $2 rda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7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sans médiation $2 rda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338 ## $a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Arial"/>
              </a:rPr>
              <a:t>monographie $2 rdacarr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99"/>
                </a:solidFill>
                <a:latin typeface="Arial"/>
              </a:rPr>
              <a:t>Quels éléments décrivent conformément à RDA une ressource constituée d’un guide pour l’apprentissage de l’anglais et d’une cassette où sont enregistrés des exercices pour la pratique de l’o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audio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sons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audio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audio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text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6 ## $a parole énoncée $2 rda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ans médiation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7 ## $a sonore $2 rda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volum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338 ## $a cassette $2 rdacarr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indefinite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2:24Z</dcterms:created>
  <dc:creator>BANQ</dc:creator>
  <dc:description/>
  <dc:language>en-US</dc:language>
  <cp:lastModifiedBy>Pat Riva</cp:lastModifiedBy>
  <dcterms:modified xsi:type="dcterms:W3CDTF">2013-04-12T22:31:34Z</dcterms:modified>
  <cp:revision>23</cp:revision>
  <dc:subject/>
  <dc:title>Diapositive 1</dc:title>
</cp:coreProperties>
</file>