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DAC9-EFCA-4084-BB83-559D08B3706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BD4-9820-4C0F-84C9-A3A32781252F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990-D7BE-4112-9E20-928F81FC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A3B-6747-4E21-B2C5-E88F9651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7BA-DFCF-49D3-A65A-8D38D5F5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398-FBF7-4676-8755-76A06B63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B5C-27A9-4AE0-98FC-855E3BCF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09A-BF97-4B71-9EA1-05D847DD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2BC-B92E-40D0-BAA9-78963076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311-4DFD-4D04-A09A-112B97B8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C0C-4A96-45E1-8630-1138A2D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D1A-3E52-4208-B90F-BC4835E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877-45D9-4E04-A74F-730AAF84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A94-CA4F-41DC-8C39-D284A29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5433-DAB5-49A8-A48D-D136845D5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2600"/>
            </a:b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435640" y="1844640"/>
            <a:ext cx="3311640" cy="1620720"/>
          </a:xfrm>
          <a:prstGeom prst="wedgeEllipseCallout">
            <a:avLst>
              <a:gd name="adj1" fmla="val -85620"/>
              <a:gd name="adj2" fmla="val 3021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50572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185580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56636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99"/>
                </a:solidFill>
                <a:latin typeface="Arial"/>
              </a:rPr>
              <a:t>Quels éléments décrivent conformément à RDA une ressource constituée d’un guide pour l’apprentissage de l’anglais et d’une cassette où sont enregistrés des exercices pour la pratique de l’o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audio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sons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audio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onore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8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5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6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7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Pat Riva</cp:lastModifiedBy>
  <dcterms:modified xsi:type="dcterms:W3CDTF">2013-04-12T22:31:34Z</dcterms:modified>
  <cp:revision>23</cp:revision>
  <dc:subject/>
  <dc:title>Diapositive 1</dc:title>
</cp:coreProperties>
</file>