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1F2-AD1A-497F-9B95-5792E179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FD2-89C7-4CE0-A6A6-9B77BA62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19B-EFEB-4688-A3B0-3352A1AA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4D5-6879-478B-BD16-2D72BBAB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D0C-C03F-405E-B31C-09E5EEFF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4B0C-2814-49F2-8114-A1898BD2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5F0-CCFF-4095-9011-E85210A0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A08-44D5-48D5-9D8F-EFD87D17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570-1405-4DE4-908D-D5AD4D1D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AF6-FF62-4A7E-A9E1-A3D537D9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D77-E1BA-4135-9148-F62F9945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27C-C551-4613-8330-93521CE3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DED8-D3DC-46C9-8FDF-F6448EF8E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des manifestations et des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devez-vous consulter pour déterminer les décisions LC concernant les alternatives, les options et les exceptions dans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) LC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) Annexes 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) LC-PCC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d) Les workflows LC dans le Toolkit 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EAB-24EC-4B9F-B4E8-E8A7157C9E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général, vous cataloguez _____, même si une notice bibliographique contient aussi des éléments des autres entités OE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L’œu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La manif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L’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2C6-B233-43A7-A1C5-128C9B188E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s sont les moyens de reconnaître une notice bibliographiqu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06 a la valeur « c 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uide/18 a la valeur « i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040 $e contient le code « rda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CE9-A9C0-44EB-A912-3ACEABE924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7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quels des énoncés suivants au sujet des sources sont vrais?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RDA identifie une seule source prescrite pour chaque élément de la notice bibliographiqu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Il y a moins de sources valides avec RDA qu’il y en avait avec les RCAA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Vous ne devez mettre de l’information entre crochets que si elle est dérivée de l’extérieur de la res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RDA donne généralement un ordre de priorité pour les sources pour la plupart des catégories de res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87E-FF50-48AC-865F-F9502BA84F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6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Prenez ce que vous voyez et acceptez ce que vous trouvez » est le résumé de quel principe importa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rincipe FRBR des entités du group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rincipe international de catalogage de représenta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lignes directrices de l’IFLA sur la transcription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instructions RDA sur l’exac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1E2-A711-489C-9F17-ACF6342324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quelle procédure trouve-t-on les très importantes « Lignes directrices générales sur la transcription »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LC-PCC PS 1.7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LC-PCC PS 2.2.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LC-PCC PS 2.3.2.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LC-PCC PS 6.2.1.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01C-2717-4A94-8F61-AB576A6358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7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8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mieux la politique LC sur les majuscule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Prendre ce que vous voyez sur la res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Suivre les instructions de l’annex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Vous pouvez faire n’importe laquelle des deux options; aucune n’est considérée meille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0E5-2C5B-4DF1-8EEB-84372F54ED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5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6" dur="indefinite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ce qui concerne la ponctuation, les chiffres, les symboles et les abréviations, la politique LC est généralement d’enregistrer ce qui est sur la ressour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Vr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42E-C8EA-4F71-9F0B-15E9097666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3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4" dur="indefinite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quel des énoncés suivants exprime le plus exactement l’aspect fondamental du complément du titr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C’est un élément fondamental RDA et il doit être enregistré par tous les catalogu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C’est un élément fondamental LC et il doit être enregistré si vous êtes un catalogueur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Ce n’est pas un élément fondamental mais vous pouvez l’enregistrer si vous le dési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Vous pouvez faire ce que vous voulez en ce qui concerne le complément du ti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099-EF60-43C5-8DD7-D5BFBADFC2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FAF-9EC1-4970-9BDD-2DC129E1D8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principes internationaux de catalogage suivants, lequel vient en premier et devrait toujours être gardé à l’esprit lorsque l’on donne la description bibliographique et les points d’accè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Exac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Représenta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onfort de l’utilis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Éc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 Cohérence et norm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0D2-637D-46B9-8194-0EAAD9A65E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57440" y="1081080"/>
            <a:ext cx="4029120" cy="469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90680" y="628560"/>
            <a:ext cx="4562640" cy="5600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0" y="604800"/>
            <a:ext cx="4572000" cy="564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19B-BFDA-48CD-A327-49A0E9C6C3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du titre (245) 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quelles de ces mentions sont accept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s la direction de Jean-Pascal Lemelin … [et al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s la direction de Jean-Pascal Lemelin, Marc A. Provost, George M. Tarabulsy, André Plamondon et Caroline Dufres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s la direction de Jean-Pascal Lemelin [et quatre autr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ÉVELOPPEMENT SOCIAL ET ÉMOTIONNEL CHEZ L’ENFANT ET L’ADOLESCEN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 bases du développement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s la direction de Jean-Pascal Lemelin [et quatre autr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4CA-FF81-44F1-AAF8-21BA4C9ADD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7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3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4" dur="indefinite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erme RDA pour le concept RCAA2 de   « vedette » e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ré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Point d’accès autor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Variante de point d’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Titre privilég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4E2-C7E4-4C7B-BDF7-DBE2037EE1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quels termes RDA correspondent les termes RCAA2 ci-desso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uteur, composit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Vedette princi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nvoi 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35280" y="1599840"/>
            <a:ext cx="532944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itre privilégié et, si approprié, point d’accès autorisé pour le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Description du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508640"/>
            <a:ext cx="85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) Auteur, compositeur, etc. -&gt; c) Cré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2) Vedette principale ----------&gt; b) Titre privilégié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) Collation ----------------------&gt; d) Description du support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4) Renvoi voir -------------------&gt; a) Variante de point d’acc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909-F31F-4CA0-99D8-BFD89255D8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erme RCAA2 «source principale» a été remplacé par quel terme RD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ource principale (c.-à.-d. le terme n’a pas chang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Source presc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Source privilég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Sources privilégi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05B-135E-4B2F-8491-B579908E6B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 chapitre RDA allez-vous consulter pour déterminer le titre privilégié d’une œuvre créée par une personn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hapitr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Chapitr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hapitr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Chapitre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354-926C-4405-BC95-80B102E036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identifier les attributs d’une collectivité qui est un contributeur d’une expression d’une œuvre, quel chapitre RDA allez-vous consulter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hapitre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Chapitre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hapitre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Chapitre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BC8-C22D-415D-86D8-E820FF7AE6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i ou faux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instructions qui vous disent comment construire le point d’accès pour une personne, une famille ou une collectivité sont au début des chapitres 9, 10 ou 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F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4076640"/>
            <a:ext cx="3600360" cy="1944720"/>
          </a:xfrm>
          <a:prstGeom prst="cloudCallout">
            <a:avLst>
              <a:gd name="adj1" fmla="val -47925"/>
              <a:gd name="adj2" fmla="val -70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instructions sont à l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186-21C4-4DC6-8184-58CBC91736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quels des énoncés suivants au sujet des éléments fondamentaux sont vra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50752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) Les éléments fondamentaux sont basés sur des éléments considérés comme obligatoires pour une notice de niveau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) Les éléments fondamentaux sont clairement identifiés dans le RDA Toolkit au niveau des élé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) Les éléments sont soit toujours fondamentaux, soit jamais fondament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) Vous devez enregistrer les éléments fondamentaux 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B81-F470-4676-9F0C-CBD2FE45AE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3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4" dur="indefinite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45:44Z</dcterms:created>
  <dc:creator>BANQ</dc:creator>
  <dc:description/>
  <dc:language>en-US</dc:language>
  <cp:lastModifiedBy>Pat Riva</cp:lastModifiedBy>
  <dcterms:modified xsi:type="dcterms:W3CDTF">2013-04-08T23:01:20Z</dcterms:modified>
  <cp:revision>74</cp:revision>
  <dc:subject/>
  <dc:title>Identification des manifestations et des items</dc:title>
</cp:coreProperties>
</file>