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373B-11BE-4C67-8A99-75DAE9D6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46D-DA91-45A0-AF07-A201ADAB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3C4-9C9E-4DC7-AF61-D773E4ED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A3D-AFA5-494F-A6BD-5569E4B0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31C-93C1-4C3E-B9AF-8178CC46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5AF-1463-42F1-8E5A-D7C2F4BA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F68-959A-42B1-B549-4BCCCBAA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4436-AD82-4877-893D-64653D27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3382-06AD-4246-B8B3-A0A439CD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255C-790E-4D54-B9A7-0743D526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F71-C2BE-4713-AD7B-FE3FCE0C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4739-52BA-4E40-8176-E5236CF9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4EEF-DDA7-4CAF-920A-2AA878E8F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des manifestations et des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devez-vous consulter pour déterminer les décisions LC concernant les alternatives, les options et les exceptions dans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) LC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) Annexes 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) LC-PCC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) Les workflows LC dans le Toolkit 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0D9E-40ED-4FD1-A5F0-8B298A3259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général, vous cataloguez _____, même si une notice bibliographique contient aussi des éléments des autres entités OE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L’œuv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La manife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L’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FE61-F5E4-4B80-B7C8-B0BF20CFD3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s sont les moyens de reconnaître une notice bibliographique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06 a la valeur « c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18 a la valeur « i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D8B-9131-45FD-85C7-3F20F8CCAB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7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8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quels des énoncés suivants au sujet des sources sont vrais?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RDA identifie une seule source prescrite pour chaque élément de la notice bibliographiqu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Il y a moins de sources valides avec RDA qu’il y en avait avec les RCAA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 Vous ne devez mettre de l’information entre crochets que si elle est dérivée de l’extérieur de la ressou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) RDA donne généralement un ordre de priorité pour les sources pour la plupart des catégories de res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831-60DA-49E2-BF60-892C71A740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5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6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indefinite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indefinite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 Prenez ce que vous voyez et acceptez ce que vous trouvez » est le résumé de quel principe importa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principe FRBR des entités du groupe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principe international de catalogage de représenta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lignes directrices de l’IFLA sur la transcription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instructions RDA sur l’exac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4FE-1EFA-4F45-A362-74A397CEE5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quelle procédure trouve-t-on les très importantes « Lignes directrices générales sur la transcription »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LC-PCC PS 1.7.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LC-PCC PS 2.2.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LC-PCC PS 2.3.2.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LC-PCC PS 6.2.1.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3A6-3A64-4903-8120-641C8B5023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7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8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quel des énoncés suivants exprime le mieux la politique LC sur les majuscules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Prendre ce que vous voyez sur la res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Suivre les instructions de l’annex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Vous pouvez faire n’importe laquelle des deux options; aucune n’est considérée meille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0842-4C07-4492-B2F3-FCA45B8C52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indefinite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5" dur="indefinite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6" dur="indefinite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 ou faux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ce qui concerne la ponctuation, les chiffres, les symboles et les abréviations, la politique LC est généralement d’enregistrer ce qui est sur la ressourc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Vra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E102-096E-4CAE-8491-CD3B120495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3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4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quel des énoncés suivants exprime le plus exactement l’aspect fondamental du complément du titr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C’est un élément fondamental RDA et il doit être enregistré par tous les catalogu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C’est un élément fondamental LC et il doit être enregistré si vous êtes un catalogueur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Ce n’est pas un élément fondamental mais vous pouvez l’enregistrer si vous le dési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Vous pouvez faire ce que vous voulez en ce qui concerne le complément du ti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99D6-F73F-4BA3-A973-8E20AB8021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127-4E71-4186-B17A-B60C55368D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 principes internationaux de catalogage suivants, lequel vient en premier et devrait toujours être gardé à l’esprit lorsque l’on donne la description bibliographique et les points d’accè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Exac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Représenta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Confort de l’utilis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Écon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 Cohérence et norm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4BF8-9B81-4B00-884B-A2906BA5EE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57440" y="1081080"/>
            <a:ext cx="4029120" cy="4695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90680" y="628560"/>
            <a:ext cx="4562640" cy="5600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286000" y="604800"/>
            <a:ext cx="4572000" cy="564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0E4-3798-4C38-982D-76B3910614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du titre (245) 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s la direction de Jean-Pascal Lemelin … [et al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s la direction de Jean-Pascal Lemelin, Marc A. Provost, George M. Tarabulsy, André Plamondon et Caroline Dufres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s la direction de Jean-Pascal Lemelin [et quatre autr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s la direction de Jean-Pascal Lemelin [et quatre autr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B8A-25C1-41F1-96A6-8F5A24C065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7" dur="indefinite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8" dur="indefinite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indefinite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83" dur="indefinite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4" dur="indefinite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erme RDA pour le concept RCAA2 de   « vedette » es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ré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Point d’accès autor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Variante de point d’accè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Titre privilégi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C69-9EC0-465B-A0E6-31014BAA58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 quels termes RDA correspondent les termes RCAA2 ci-desso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228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uteur, composit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o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35280" y="1599840"/>
            <a:ext cx="532944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Titre privilégié et, si approprié, point d’accès autorisé pour le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Description du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508640"/>
            <a:ext cx="85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) Auteur, compositeur, etc. -&gt; 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) Vedette principale ----------&gt; b) Titre privilégié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) Collation ----------------------&gt; d) Description du support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4) Renvoi voir -------------------&gt; 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C63F-0140-4948-9C0E-E15EC074AE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erme RCAA2 «source principale» a été remplacé par quel terme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Source principale (c.-à.-d. le terme n’a pas chang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Source presc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Source privilég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Sources privilégi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272A-8AB5-4386-ADE7-CFDBD1DB74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 chapitre RDA allez-vous consulter pour déterminer le titre privilégié d’une œuvre créée par une personn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hapitr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Chapitr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Chapitre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Chapitre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0F8-D708-4C60-9481-9A1631109E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identifier les attributs d’une collectivité qui est un contributeur d’une expression d’une œuvre, quel chapitre RDA allez-vous consulter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hapitre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Chapitre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Chapitre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Chapitre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218-6F7B-4169-BB98-CD89ABA0C7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i ou faux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instructions qui vous disent comment construire le point d’accès pour une personne, une famille ou une collectivité sont au début des chapitres 9, 10 ou 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4076640"/>
            <a:ext cx="3600360" cy="1944720"/>
          </a:xfrm>
          <a:prstGeom prst="cloudCallout">
            <a:avLst>
              <a:gd name="adj1" fmla="val -47925"/>
              <a:gd name="adj2" fmla="val -70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instructions sont à l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3C2-444F-4778-B741-455ADCC06C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quels des énoncés suivants au sujet des éléments fondamentaux sont vra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50752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) Les éléments fondamentaux sont basés sur des éléments considérés comme obligatoires pour une notice de niveau 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) Les éléments fondamentaux sont clairement identifiés dans le RDA Toolkit au niveau des élé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) Les éléments sont soit toujours fondamentaux, soit jamais fondament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) Vous devez enregistrer les éléments fondamentaux 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418-463A-42F0-A50F-B6B7BB4013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3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4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Pat Riva</cp:lastModifiedBy>
  <dcterms:modified xsi:type="dcterms:W3CDTF">2013-04-08T23:01:20Z</dcterms:modified>
  <cp:revision>74</cp:revision>
  <dc:subject/>
  <dc:title>Identification des manifestations et des items</dc:title>
</cp:coreProperties>
</file>