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6EB-82A5-4FAF-8B4C-2395A6F2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93D-5B93-4178-B193-07D2AC72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5B6-258E-4AB7-96FA-29AE824C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750-BFEB-4AAE-97A6-A449F0F9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2D0-118D-4357-AC4A-462E6BEA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10A-9FEA-43FD-9633-BBE682AD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D0E-6B17-4DC6-9E2B-D9AAB361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D00-0B6A-460D-9919-B7408C68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980-8C0A-4887-8B6F-9BB1E347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E6BA-A705-4E63-A9A9-8CFC7198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F38-AD0A-4FF2-AE91-848EB1FF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617-41D8-4332-BBC3-31777416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5A8D-2904-4129-9C7F-9F180338E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mieux la politique LC lorsque le lieu de publication n’est pas identifi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[Lieu de publication non identifié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er un lieu de publication et enregistrer une zone 264 supplémentaire pour l’information sur le diffuseur/distributeur ou le fabr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duire un lieu de publication, mis entre croch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er l’éditeur pour déterminer le lieu de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AD7-F07C-4FD5-B0B0-1EBB7F0B5A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tes correspondre l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cateur de la zone 264 avec l’élément RDA qu’il doit désig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2448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00360" y="1915920"/>
            <a:ext cx="6192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436572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1 -&gt; c) Mention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2 -&gt; d) Mention de diffusion/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3 -&gt; a) Mention de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4 #4 -&gt; b) Mention de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E63-615E-4B78-B222-8E135F8DFC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pouvez enregistrer une date de copyright, en plus d’une date de publication, mais vous n’êtes pas obligés de le 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232-3E05-439C-84C4-BE6EA82569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4B7-D34D-431D-846C-3D2D9A0617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472360" cy="511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328-D483-4F31-8B69-6CF3906485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de production, publication, etc. (264) : 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aka Book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d by Baraka Books of Montreal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x zones 26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4 #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réal, Québec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aka Books of Montreal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0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4 #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©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3376-DFAB-4E15-BE06-A9DD464DAE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Mylène Robichaud</cp:lastModifiedBy>
  <dcterms:modified xsi:type="dcterms:W3CDTF">2013-04-15T14:05:57Z</dcterms:modified>
  <cp:revision>70</cp:revision>
  <dc:subject/>
  <dc:title>Identification des manifestations et des items</dc:title>
</cp:coreProperties>
</file>