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118B-6128-4A26-A8F8-8F189893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C78-4691-4C3B-8DF3-5E82057B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CF1-A4CC-40E9-9C3C-4594B429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5F8-7DDE-4423-B01B-3A5EED23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425-D4BE-41DE-8F9A-97563BF3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7D7-F262-4427-B9FB-FD5B490F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81E-DBFE-495A-A372-DA041E6C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C7F-1A07-475A-A022-1D3164A7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9DC-2D6A-45BF-8AE5-5591555B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D35-2A47-4F5F-82F7-8119F620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9DE-AB4A-4C40-BFC0-EEAE8156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A34-ADD0-4DF0-87D4-811B8BF9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382E-6EE2-459D-9D3F-FCB2C3C02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mieux la politique LC lorsque le lieu de publication n’est pas identifi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[Lieu de publication non identifié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un lieu de publication et enregistrer une zone 264 supplémentaire pour l’information sur le diffuseur/distributeur ou le fabr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duire un lieu de publication, mis entre croch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er l’éditeur pour déterminer le lieu de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752-4825-401C-BAB8-5B54FDA045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tes correspondre l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cateur de la zone 264 avec l’élément RDA qu’il doit désig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2448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00360" y="1915920"/>
            <a:ext cx="6192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436572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1 -&gt; 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2 -&gt; 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3 -&gt; 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4 -&gt; 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288-73B9-4A91-B026-01B98C2386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FDF-50AA-4DDE-98CA-6EE49E8C48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77A-269F-4A0C-85BF-5A2CE997E0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472360" cy="511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553-1193-4481-8296-C681CBC8AA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de production, publication, etc. (264) : 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d by Baraka Books of Montreal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x zones 26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4 #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©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618-2EF7-4689-B4B4-05125504E9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Mylène Robichaud</cp:lastModifiedBy>
  <dcterms:modified xsi:type="dcterms:W3CDTF">2013-04-15T14:05:57Z</dcterms:modified>
  <cp:revision>70</cp:revision>
  <dc:subject/>
  <dc:title>Identification des manifestations et des items</dc:title>
</cp:coreProperties>
</file>