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CB7-3B4F-4930-B44A-27AAAD02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A4A-A0CA-4D75-B413-16677FC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5DD-6460-4853-B4D4-E03216FE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8DC-5840-4971-8DBB-C16E537C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359-8F08-458F-BDFB-831F0FE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9DE-48D4-4E64-856B-E37C191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DA4-CD66-4EB0-8551-85AC6290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BB4-2597-471C-87F3-8E926D6F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E4E-310C-49B0-ABFB-05D1F78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467-A36E-4176-AA03-93FC559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2DB-3EAD-4491-B8B1-0364232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6E2-1053-4F28-AF04-FCFCD36D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4311-3FAF-49F3-8657-12C97A383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lorsque le lieu de publication n’est pas identifi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[Lieu de publication non identifié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un lieu de publication et enregistrer une zone 264 supplémentaire pour l’information sur le diffuseur/distributeur ou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duire un lieu de publication, mis entre cro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r l’éditeur pour déterminer le lieu d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FC1-A411-4BB1-BE70-11211DA159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es correspondre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ur de la zone 264 avec l’élément RDA qu’il doit désig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1915920"/>
            <a:ext cx="6192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365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 -&gt; 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 -&gt; 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 -&gt; 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 -&gt; 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472-F7B7-4D8B-A188-5EC2E6743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392-7F5B-4EF5-8E1B-518C045DC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422-D4F7-470E-BAE4-B87D2DC2B6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4723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EA5-313A-489E-B394-F2046EB69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by Baraka Books of Montreal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493-5723-4DB0-92CE-32FE1226C3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Mylène Robichaud</cp:lastModifiedBy>
  <dcterms:modified xsi:type="dcterms:W3CDTF">2013-04-15T14:05:57Z</dcterms:modified>
  <cp:revision>70</cp:revision>
  <dc:subject/>
  <dc:title>Identification des manifestations et des items</dc:title>
</cp:coreProperties>
</file>