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E42-C19C-44DD-987F-CBF834AF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0E3-3403-42B7-9435-1787AD0A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A31-F194-4BD0-8D4B-7CC57B62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D8C-7CF2-4694-9DD2-736B3B1C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43C-C234-4F28-AB99-BF2BCAD9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FA2-B430-4C70-B8D8-B56AFC2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E92-18B2-4166-8970-F8B4CFEA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54E-5DE7-4842-9377-531B879F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B44-76F0-4CDB-A095-0978B31F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694-0266-41CE-B841-93B00898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741-2122-43CB-9735-92B130D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30F-4102-4E9E-AC9B-5C3116A1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3BF7-C909-4212-8A3E-6835B6D59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lorsque le lieu de publication n’est pas identifi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[Lieu de publication non identifié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un lieu de publication et enregistrer une zone 264 supplémentaire pour l’information sur le diffuseur/distributeur ou le fabr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duire un lieu de publication, mis entre cro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er l’éditeur pour déterminer le lieu d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AA2-C8C4-47AF-B341-FAFDA6B925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es correspondre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cateur de la zone 264 avec l’élément RDA qu’il doit désig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00360" y="1915920"/>
            <a:ext cx="6192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365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 -&gt; 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 -&gt; 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 -&gt; 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 -&gt; 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E22-32B7-4D97-8D1C-DB390C1B08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A8A-8367-472F-99CB-F23056A09E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149-2AEB-4E26-9BBB-41519238A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472360" cy="51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806-EB38-4FE6-BFBE-D5049C1B0E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by Baraka Books of Montreal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7F8-636B-48AC-8C36-A8D58AA8DE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Mylène Robichaud</cp:lastModifiedBy>
  <dcterms:modified xsi:type="dcterms:W3CDTF">2013-04-15T14:05:57Z</dcterms:modified>
  <cp:revision>70</cp:revision>
  <dc:subject/>
  <dc:title>Identification des manifestations et des items</dc:title>
</cp:coreProperties>
</file>