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</p:sldIdLst>
  <p:sldSz cx="10080625" cy="7559675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1753920"/>
            <a:ext cx="889956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564800"/>
            <a:ext cx="889956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175392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1000" y="175392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56480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1000" y="456480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1753920"/>
            <a:ext cx="286524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49760" y="1753920"/>
            <a:ext cx="286524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58640" y="1753920"/>
            <a:ext cx="286524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564800"/>
            <a:ext cx="286524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49760" y="4564800"/>
            <a:ext cx="286524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58640" y="4564800"/>
            <a:ext cx="286524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1753920"/>
            <a:ext cx="8899560" cy="53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1753920"/>
            <a:ext cx="8899560" cy="53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1753920"/>
            <a:ext cx="4342680" cy="53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1000" y="1753920"/>
            <a:ext cx="4342680" cy="53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195120"/>
            <a:ext cx="859500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175392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1000" y="1753920"/>
            <a:ext cx="4342680" cy="53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56480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1753920"/>
            <a:ext cx="4342680" cy="53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1000" y="175392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1000" y="456480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175392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1000" y="175392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564800"/>
            <a:ext cx="889956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453960" cy="7560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924760" y="6962760"/>
            <a:ext cx="365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72F54D63-6EF3-4A51-9DC9-80E74AC5D749}" type="slidenum"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3160" y="6846840"/>
            <a:ext cx="3595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12 juin 2008, révisé 27 juillet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e594d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40880" y="1753920"/>
            <a:ext cx="8899560" cy="53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282680" indent="-21276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714680" indent="-2034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146320" indent="-20484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146320" indent="-20484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146320" indent="-20484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193320"/>
            <a:ext cx="8609040" cy="12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40880" y="323640"/>
            <a:ext cx="8913960" cy="68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e594d"/>
                </a:solidFill>
                <a:latin typeface="Arial"/>
                <a:ea typeface="Arial"/>
              </a:rPr>
              <a:t>Les modèles conceptuel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e594d"/>
                </a:solidFill>
                <a:latin typeface="Arial"/>
                <a:ea typeface="Arial"/>
              </a:rPr>
              <a:t>FRBR et FRAD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présenté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Pat Riv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253200" y="5580000"/>
            <a:ext cx="3154320" cy="13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7800" y="135000"/>
            <a:ext cx="868068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Manifesta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9840" y="1754280"/>
            <a:ext cx="8577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matérialis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e l’expression d’un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semble des exemplaires ayant les mêmes caractéristiques, aussi bien la présentation matérielle que le conten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urrait être une édition commerciale, ou un objet unique comme un manuscrit d’aut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7880" y="166320"/>
            <a:ext cx="867096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99840" y="1742760"/>
            <a:ext cx="8577000" cy="51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réalis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ntellectuelle ou artistique d’un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forme intellectuelle ou artistique spécifique que revêt une œuvre lorsqu’elle est réalis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mots spécifiques qui forment un texte, les notes spécifiques d'une œuvre musicale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355680"/>
            <a:ext cx="876456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9840" y="1701720"/>
            <a:ext cx="8577000" cy="51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ré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ntellectuelle ou artistique détermin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bstraction du contenu commun de ses expres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side dans une identité de contenu au sein des diverses expres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e correspond à aucun objet matériel iso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03160" y="406080"/>
            <a:ext cx="854568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Qu'est-ce qu'un “livre”?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29200" y="1973160"/>
            <a:ext cx="33624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61960" y="2003040"/>
            <a:ext cx="4214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J'ai perdu mon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l faut commander c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J'aimerais lire c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n françai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e film s'inspire de mon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préféré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principales du Groupe 1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E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rouve sa réalisation da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e concrétise da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est représentée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0820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'ava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ièce de théâ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668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ng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46200" y="1699920"/>
            <a:ext cx="4511880" cy="54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he mis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extu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8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nglai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Manifesta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280" y="1492200"/>
            <a:ext cx="4443480" cy="52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ention de responsabil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 d'édi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dit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 d'édi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ype de suppor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ités matérie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imen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92360" y="1430280"/>
            <a:ext cx="4133880" cy="57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he miser : a comed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 new translation by Albert Berm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ew York, N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pplause Theatre Book Publish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8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vre imprim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26 p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 c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SBN 0936839759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Ite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ovena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nnotations / Inscrip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0820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Q1825 E5 1987b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ch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cu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7640" y="364680"/>
            <a:ext cx="870264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14320" y="1701720"/>
            <a:ext cx="846144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finitions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Personn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un individu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Collectivité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un organisme ou un groupe d’individus et/ou d’organismes agissant comme un to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la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2520" cy="53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tâches des utilisateu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Entités / Attribu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Relat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A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tâches des utilisateu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Entités / Attribu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Relat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Personn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Times New Roman"/>
              </a:rPr>
              <a:t>N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s (naissance, mort, d'activité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s (Duc, Sir, prof., dr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s qualificatifs (Saint, Jr., le Vaillan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Collectivit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Times New Roman"/>
              </a:rPr>
              <a:t>N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umérotation (d'un congrès, etc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ocalisation (localisé à, tenu à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s (de tenu, d'activité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s qualificatifs (de statut juridique, ajout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principales du 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responsable(s) po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du groupe 1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2920" y="198360"/>
            <a:ext cx="857700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02800" y="1564920"/>
            <a:ext cx="8472600" cy="53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nt la responsabilité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u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ontenu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ntellectuel ou artistique d'une œuvre ou d'une 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produc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matérielle et de la distribution d'une 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possess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'un 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 2 Relations de bas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0880" y="1681200"/>
            <a:ext cx="4907160" cy="54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Variétés de responsabilité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 &lt;propriété de&g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 &lt;produite par&g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 &lt;réalisée par&g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 &lt;conçue par&g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719320" y="1690560"/>
            <a:ext cx="3465720" cy="54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empl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iversité McGil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pplause Theatre Book Publish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lbert Berm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oliè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880" y="250920"/>
            <a:ext cx="8670960" cy="12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3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3280" y="1774440"/>
            <a:ext cx="850392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nt les sujets des œuvres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vénement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Concep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notion abstraite ou une id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Vague ou préci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 exemple: théories, procédés, techniques, pratiques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Obje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réalité matérie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nimée ou inanim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réation humaine ou présente dans la natu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 exemple: immeubles, navires, plantes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Événemen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action ou une circonstance (un fait accompli ou survenu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e limite aux événements pouvant constituer le sujet d’un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 exemple: événements historiques, époques, périodes chronologiques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Lieu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emplacement (des coordonnées topographiqu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istorique ou contemporai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aractéristiques gé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ur la Terre ou dans l’espa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 exemple: villes, rivières, montagnes, planètes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unctional Requirements for Bibliographic Record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de travail du Comité permanent de la Section de catalogage de l’IFLA, 1992-199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ublié en 1998 en anglai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 français: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pécifications fonctionnelles des notices bibliographique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, publié par la Bibliothèque nationale de France en 200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Groupe 3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cun détail en 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seul attribut: “terme désignant le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principales du Groupe 3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VÉNE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+ entités des groupes 1 et 2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nt les sujets d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tité du groupe 1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6760" y="239400"/>
            <a:ext cx="872316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bibliographiques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les entités du Groupe 1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82640" y="1743120"/>
            <a:ext cx="8493120" cy="54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7880" indent="-330120">
              <a:lnSpc>
                <a:spcPct val="95000"/>
              </a:lnSpc>
              <a:spcBef>
                <a:spcPts val="575"/>
              </a:spcBef>
              <a:spcAft>
                <a:spcPts val="283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s sont caractérisées par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concern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férentielle ou Autono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tie dépendante ou partie indépendan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iveau Œuvre ou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Œuvre et une autr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Expression et une autre Expression (expressions d'œuvr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différente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Expression et une autre Œuvr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iveau Œuvre ou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ui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upplé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lé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sum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dap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ransform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mi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semble/Partie : Œuvre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ou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0880" y="1722600"/>
            <a:ext cx="4195800" cy="52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tie dépendan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Chapitre, section, partie, etc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Volume ou numéro d’un périodiqu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Partie intellectuelle d’une œuvre en plusieurs parti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Illustration d’un text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Bande sonore d’un fil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46200" y="1763640"/>
            <a:ext cx="413388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tie indépendan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Monographie dans une collec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Article de journal ou de revu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Partie intellectuelle d’une œuvre en plusieurs parti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des Expressions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e la </a:t>
            </a:r>
            <a:r>
              <a:rPr b="1" lang="en-GB" sz="4000" spc="-1" strike="noStrike" u="sng">
                <a:solidFill>
                  <a:srgbClr val="0e594d"/>
                </a:solidFill>
                <a:uFillTx/>
                <a:latin typeface="Arial"/>
              </a:rPr>
              <a:t>même</a:t>
            </a: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brég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vi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ra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rrangement (musiqu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iveau Manifestation ou Ite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Manifestations de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mêm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Manifestation et un Item (manifestations de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mêm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xpression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Item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Manifestation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1073160" indent="0">
              <a:lnSpc>
                <a:spcPct val="95000"/>
              </a:lnSpc>
              <a:spcAft>
                <a:spcPts val="286"/>
              </a:spcAft>
              <a:buNone/>
              <a:tabLst>
                <a:tab algn="l" pos="0"/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lternativ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92360" y="1722600"/>
            <a:ext cx="3862440" cy="54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icro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im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c-simi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ite miroir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1073160" indent="0">
              <a:lnSpc>
                <a:spcPct val="95000"/>
              </a:lnSpc>
              <a:spcAft>
                <a:spcPts val="286"/>
              </a:spcAft>
              <a:buNone/>
              <a:tabLst>
                <a:tab algn="l" pos="0"/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 présen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dition simultané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semble/Partie : Manifesta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Volume d’une manifestation en plusieurs volum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Bande sonore d’un film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osante d’un ensemble multi-suppor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osantes séparées ou composantes matériellement inséparab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éthodologie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modèle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ntité-rel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E-R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finition d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nt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ste de leur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attribu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cation d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relation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liens) entre les ent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rrélation avec les quatre types d’opérations effectuées par les utilisateurs (les tâch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Item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configur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0820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ié avec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ivisé e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trait d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icro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c-simi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semble/Partie : Ite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osante matérielle d’un 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intégrée, par ex.: une pag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distincte, par ex.: un volum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iure d’un li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5480" y="114480"/>
            <a:ext cx="8524800" cy="13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30080" y="1754280"/>
            <a:ext cx="8545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2920" indent="-30816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unctional Requirements for Authority Dat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30816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de travail, FRANAR, de la Division du contrôle bibliographique de l'IFLA, 1999-2009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30816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exte final, décembre 2008, approuvé mars 2009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30816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ublié juin 2009 en anglai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30816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 français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onctionnalités requises des données d’autorité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traduit par la BnF en 201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ortée des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nnées pertinentes au contrôle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out types de données d'autorité à un niveau glob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tails pour vedettes de nom, nom-titre, titre uni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ssi les entités qui participent à la création des vedet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as inclu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tails des attributs des entités du Groupe 3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s entre les entités du Groupe 3 (concept, objet, événement, lieu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'est à dire: les autorités de sujet (vedettes-matièr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fère aux FRSAR (2005-2010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as inclu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s entre les entités du Groupe 2 et du Groupe 1 (designations de relation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nnées sur le traitement des collec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nnées administratives dans les notices d'autorité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9720" y="72720"/>
            <a:ext cx="8618760" cy="13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Utilisateurs selon les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20720" y="1617480"/>
            <a:ext cx="85550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personnel des bibliothèques qui travaille directement avec les notic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usagers qui utilisent les donné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fois directe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lus souvent via les points d'accès contrôlés dans les notice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8680" y="166320"/>
            <a:ext cx="86598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93000"/>
              </a:lnSpc>
              <a:buNone/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s qu’accomplissent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les utilisateurs (FRAD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00200" y="1763640"/>
            <a:ext cx="85788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Trouv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les entités qui correspondent aux critères de recherche,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ou explorer l'univers des entité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dentifi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entité (confirmer qu'elle correspond à celle recherchée),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ou valider la forme du nom à utiliser pour établir un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ontextualis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Justifi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09560" y="134640"/>
            <a:ext cx="863928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5960" indent="0" algn="ctr">
              <a:lnSpc>
                <a:spcPct val="93000"/>
              </a:lnSpc>
              <a:buNone/>
              <a:tabLst>
                <a:tab algn="l" pos="0"/>
                <a:tab algn="l" pos="345960"/>
                <a:tab algn="l" pos="793800"/>
                <a:tab algn="l" pos="1243080"/>
                <a:tab algn="l" pos="1692360"/>
                <a:tab algn="l" pos="2141640"/>
                <a:tab algn="l" pos="2590920"/>
                <a:tab algn="l" pos="3040200"/>
                <a:tab algn="l" pos="3489480"/>
                <a:tab algn="l" pos="3938760"/>
                <a:tab algn="l" pos="4387680"/>
                <a:tab algn="l" pos="4836960"/>
                <a:tab algn="l" pos="5286240"/>
                <a:tab algn="l" pos="5735520"/>
                <a:tab algn="l" pos="6184800"/>
                <a:tab algn="l" pos="6634080"/>
                <a:tab algn="l" pos="7083360"/>
                <a:tab algn="l" pos="7532640"/>
                <a:tab algn="l" pos="7981920"/>
                <a:tab algn="l" pos="8431200"/>
                <a:tab algn="l" pos="8880480"/>
                <a:tab algn="l" pos="9329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 FRAD : Contextualise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30080" y="1608120"/>
            <a:ext cx="854712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ituer une personne, une collectivité, une œuvre, etc. dans son contex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larifier la relation entre deux ou plusieurs personnes, collectivités, œuvres, etc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larifier la relation entre une personne, une collectivité, etc. et un nom par lequel cette personne, collectivité, etc. est conn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09560" y="134640"/>
            <a:ext cx="863928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93000"/>
              </a:lnSpc>
              <a:buNone/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 FRAD : Justifie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30080" y="1608120"/>
            <a:ext cx="854712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06440" indent="-30456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cumenter les raisons du choix du nom ou de la forme du nom sur lequel est basé un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0">
              <a:lnSpc>
                <a:spcPct val="95000"/>
              </a:lnSpc>
              <a:spcAft>
                <a:spcPts val="1701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0">
              <a:lnSpc>
                <a:spcPct val="95000"/>
              </a:lnSpc>
              <a:spcAft>
                <a:spcPts val="1701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Autrement dit 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456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omprend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pourquoi un nom ou un titre en particulier, ou une forme du nom ou du titre, a été choisi comme le nom ou titre préféré de l'ent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456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âche du catalogu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Utilisateurs selon les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tilisateurs des systèmes informatisé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l des bibliothèque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sponsables de la gestion des bases de donn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selon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8909280" cy="53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bibliographiques (des FRBR)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,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famill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, 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, expression, manifestation, 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, objet, événement, lie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qui sont l'objet des notic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entités dites d'autorité s'y réfèr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Personn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0880" y="1742760"/>
            <a:ext cx="8487000" cy="54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individu ou un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identité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attribuée ou adoptée par un individu ou par un group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personne bibliographique, peut ne pas être une personne phys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seudonymes conjoints, pseudonymes multiples utilisés par une seule person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Famill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40880" y="1681200"/>
            <a:ext cx="8455320" cy="54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ux personnes ou plus liées par la naissance, le mariage, l'adoption, l'union civile ou tout autre statut légal du même ordre, ou qui se présentent comme une fami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 l'ISAAR(CPF), description des fonds d'archiv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it logiquement partie du Groupe 2 en 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Collectivit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41240" y="1754280"/>
            <a:ext cx="8910720" cy="53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organisme ou un groupe de personnes et/ou d’organismes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identifié par un nom particuli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t agissant comme un tou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701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groupe doit être nomm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congrès, les conférenc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gouvernemen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principales du 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MI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responsable(s) po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du groupe 1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Personn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s (naissance, mort, activité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 (Duc, Sir, prof., Dr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Gen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Lieu (naissance, mort, résidenc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Pay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Affiliation (emploi, membre, identité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Adres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Personne (2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Lang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Domaine d'a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Profession/occup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Biographie/histoi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 information associée à la personne (saint, Jr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Famill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ype de famille (clan, dynasti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s associ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 (résidence, association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maine d'a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istorique de la fami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Collectivit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 (localisé à, tenu à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s (de tenue, d'activité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Lang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Adres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Domaine d'a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Histor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s informations (statut juridique, ajout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Sujet de l'</a:t>
            </a:r>
            <a:r>
              <a:rPr b="0" lang="en-GB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Lieu d'origi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Histor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 caractéristique distinctiv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5960" indent="0" algn="ctr">
              <a:lnSpc>
                <a:spcPct val="93000"/>
              </a:lnSpc>
              <a:buNone/>
              <a:tabLst>
                <a:tab algn="l" pos="0"/>
                <a:tab algn="l" pos="345960"/>
                <a:tab algn="l" pos="793800"/>
                <a:tab algn="l" pos="1243080"/>
                <a:tab algn="l" pos="1692360"/>
                <a:tab algn="l" pos="2141640"/>
                <a:tab algn="l" pos="2590920"/>
                <a:tab algn="l" pos="3040200"/>
                <a:tab algn="l" pos="3489480"/>
                <a:tab algn="l" pos="3938760"/>
                <a:tab algn="l" pos="4387680"/>
                <a:tab algn="l" pos="4836960"/>
                <a:tab algn="l" pos="5286240"/>
                <a:tab algn="l" pos="5735520"/>
                <a:tab algn="l" pos="6184800"/>
                <a:tab algn="l" pos="6634080"/>
                <a:tab algn="l" pos="7083360"/>
                <a:tab algn="l" pos="7532640"/>
                <a:tab algn="l" pos="7981920"/>
                <a:tab algn="l" pos="8431200"/>
                <a:tab algn="l" pos="8880480"/>
                <a:tab algn="l" pos="9329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s qu’accomplissent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les utilisateurs (FRBR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Trouv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les ressources qui correspondent aux critères de recherch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dentifi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ressource qui correspond à celle recherchée par l’utilisat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hoisi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ressource qui soit en adéquation avec ses besoi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Avoir accè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à la ressource décri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Ite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Localis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Historique de la conservation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FRBR : Provenanc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Source immédiate d'acquisi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+ Autres attributs définis en 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29720" y="187200"/>
            <a:ext cx="862020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en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0080" y="1690200"/>
            <a:ext cx="8545680" cy="51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Ces entités constituent les données d'autorit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èg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genc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3280" y="166320"/>
            <a:ext cx="85788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No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47280" y="1658520"/>
            <a:ext cx="8628120" cy="52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caractère ou une séquence de caractères ou de mots par lequel une entité est connue dans le monde ré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nom ou terme de ba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el qu'utilisé dans le monde (à l'extérieur des bibliothèqu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No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ype de nom (la catégori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haîne du nom (séquence de caractères numériques et/ou alphabétiques ou de symbol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hamp d’utilis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s d’utilis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ngue du n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criture du n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ystème de translittération du n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41240" y="156960"/>
            <a:ext cx="8607600" cy="12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Identifian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9040" y="1742760"/>
            <a:ext cx="8586720" cy="51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numéro, code, mot, expression, logo, etc. associé avec une entité, visant à la différencier de toute autre entité appartenant au domaine d'activité dans lequel l'identifiant est attribu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e sont pas seulement les identifiant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Identifian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ype d'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Un code ou autre désignation indiquant la catégorie de l’identifiant (domaine d’attribution de l’identifiant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8680" y="166320"/>
            <a:ext cx="865980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Point d'Accès Contrôl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07760" y="1879560"/>
            <a:ext cx="856764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nom, terme, code, etc. sous lequel on peut trouver une notice bibliographique ou une notice d'autorité ou un renvoi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formes établies / autorisées / préfér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 les variantes de forme (renvoi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Point d'Accès Contrôl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40880" y="1406520"/>
            <a:ext cx="8913960" cy="54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ype du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tatut du point d’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sage du point d’accès contrôlé (autorisé / varian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int d’accès indifférenci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ngue, écriture, translittération de la racine du point d'accès et de catalogag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ur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acine (base) du point d'accè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léments additionnels (ajouts, qualificatif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09560" y="146160"/>
            <a:ext cx="8639280" cy="12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5960" indent="0" algn="ctr">
              <a:lnSpc>
                <a:spcPct val="93000"/>
              </a:lnSpc>
              <a:buNone/>
              <a:tabLst>
                <a:tab algn="l" pos="0"/>
                <a:tab algn="l" pos="345960"/>
                <a:tab algn="l" pos="793800"/>
                <a:tab algn="l" pos="1243080"/>
                <a:tab algn="l" pos="1692360"/>
                <a:tab algn="l" pos="2141640"/>
                <a:tab algn="l" pos="2590920"/>
                <a:tab algn="l" pos="3040200"/>
                <a:tab algn="l" pos="3489480"/>
                <a:tab algn="l" pos="3938760"/>
                <a:tab algn="l" pos="4387680"/>
                <a:tab algn="l" pos="4836960"/>
                <a:tab algn="l" pos="5286240"/>
                <a:tab algn="l" pos="5735520"/>
                <a:tab algn="l" pos="6184800"/>
                <a:tab algn="l" pos="6634080"/>
                <a:tab algn="l" pos="7083360"/>
                <a:tab algn="l" pos="7532640"/>
                <a:tab algn="l" pos="7981920"/>
                <a:tab algn="l" pos="8431200"/>
                <a:tab algn="l" pos="8880480"/>
                <a:tab algn="l" pos="9329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odèle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0960" y="1784160"/>
            <a:ext cx="890424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nt connues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S et / ou IDENTIFIAN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avec lesquels sont formés d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INTS d'ACCÈS CONT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Ô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Règl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40880" y="1670040"/>
            <a:ext cx="8372520" cy="54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semble des instructions sur la formulation et/ou l'enregistrement des points d'accès contrôlés (formes autorisées, variantes de formes ou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nvoi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, etc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règles de catalogage et leurs intérpréta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conventions de codag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44200" y="396720"/>
            <a:ext cx="8505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s d'entités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0080" y="1754280"/>
            <a:ext cx="854568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1: Productions artistiques ou intellectue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2: Responsables des entités du groupe 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3: Sujets des œuv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Règl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itation de la règ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 de la règ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Agenc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40880" y="1731960"/>
            <a:ext cx="84870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organisme responsable de la création et de la modification des points d'accès contrôl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 de l'application et de l'interprétation des règles qu'elle crée et/ou utili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Agenc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 de l’age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 de l’age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ocalisation de l’age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20360" y="166320"/>
            <a:ext cx="862812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30080" y="1784520"/>
            <a:ext cx="854568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3840" indent="-29052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2084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les Personnes, les Familles, les Collectivités, les Œuv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3840" indent="-29052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2084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les Noms des Personnes, des Familles, des Collectivités, des Œuvres et les entités qu'ils représent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3840" indent="-29052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2084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plusieurs Points d'Accès Contrôlés pour une entité donn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1240" y="622440"/>
            <a:ext cx="86011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FRAD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Entités bibliographiqu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entité donnée et une seconde entité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bibliographiquement distinc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mettent de naviguer entre points d'accès contrôlés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autorisé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pour des entité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distinc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dage MARC 21 : 5XX (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Voir aussi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Personn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Personne et une Fami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Personne et une 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Fami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Famille et une 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Collectiv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Œ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vres, Expressions, Manifestations, Item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Personn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seudonymi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té Séculière/Religieu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nctions officie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ttribu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abor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atri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ent/Enf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Personn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seudonymie, Identités bibliographiques multip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Mertz, Barbara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utilise aussi les pseudonymes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Barbara Michaels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et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Elizabeth Pete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Une personne physique, 3 identités bibliographiques distinc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3 notices d'autorit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Personn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 séculier / Nom en relig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Roncalli, Angelo Giuseppe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nom séculier de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Jean XXIII, pap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nctions officie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Paul Martin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nom officiel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Canada. Premier ministre pour 2003-2006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 d'attribu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Brutus, Marcus Junius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versus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Pseudo-Brutu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Personn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abor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Erckmann-Chatrian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pseudonyme collectif de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Erckmann, Emile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et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Chatrian, Alexandr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2 personnes physiques, 3 identités bibliographiqu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atrie (frères et soeur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ent/Enf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1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nt le cœur de la notice bibliograph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 entités abstraites reflètent le conten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 entités concrètes reflètent la présentation matérie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cument (ou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tem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ou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emplai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41240" y="622440"/>
            <a:ext cx="86011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une Personne et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une Famille ou une Collectivité 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ppartena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une Personne et sa Famil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une Personne associé à une Collectivit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Par exemple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Personne membre d'un groupe musical 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Buddy Rich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est membre de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Buddy Rich Ban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Famill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énéalogiqu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Maison des Conti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famille descendante de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Maison des Cond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une Famille et une Collectivit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nd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Hall (Famille)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a fondé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Fondation Famille Hal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oprié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Herlin (Famille)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est propriétaire de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Kon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Collectivité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iérarch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Subordin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équentie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Prédécesseur / Successeur (Nom précédent / suivant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Scission / Fus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72920" y="157320"/>
            <a:ext cx="8986680" cy="12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Entités du Groupe 1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selon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52400" y="1784520"/>
            <a:ext cx="7866000" cy="47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quivale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riv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scrip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out/parti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ccompagne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équenti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aractéristique partag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41240" y="622440"/>
            <a:ext cx="86011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FRAD entre les Noms des Entités bibliographiqu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plusieurs nom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'une entité donnée utilisés dans différents contex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nt généralement récipro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réent des renvois d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variante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e nom au nom avec lequel est formé le point d'accès contrôlé autorisé pour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un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ntité donn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dage MARC 21 : 4XX (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Voi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1240" y="622440"/>
            <a:ext cx="86011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FRAD entre les Noms des Entités bibliographiqu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s de Personn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s de Fami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s de Collectiv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s des Oeuv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oms de Personn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 précédent / Nom ultérieur (nom suivan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Thibeault, Jacques-Anatole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nom précédent de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France, Anato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Nicholls, Charlotte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nom ultérieur de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Brontë, Charlott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 variante (variantes d'orthographe, etc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oms de Collectivité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 développée du nom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cronyme/sigle/abrévia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 variante (variantes d'orthographe, etc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oms des Oeuvr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 conventionnel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ymphonie héroïqu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est connue sous le nom conventionne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ymphonies, no 3, op. 55, mi bémol majeu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 variante (variantes d'orthographe, etc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7000" y="186840"/>
            <a:ext cx="869148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Ite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0880" y="1731960"/>
            <a:ext cx="853452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xemplai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solé d’une 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 concret, généralement matériel, stocké dans les collections des bibliothè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ut comprendre plusieurs parties (volumes d'un ouvrag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5996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our toute entit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40880" y="1979640"/>
            <a:ext cx="4946760" cy="48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ariante linguist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intus Horatius Flaccus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ra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milie Trapp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ppin perh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ited Nat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tions Uni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545080" y="2050920"/>
            <a:ext cx="3795840" cy="66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&lt;nom en latin&gt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&lt;nom en français&gt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&lt;nom en allemand&gt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&lt;nom en finnois&gt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&lt;nom en anglais&gt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&lt;nom en français&gt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41240" y="622440"/>
            <a:ext cx="86011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FRAD entre plusieurs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oints d'Accès Contrôlé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form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autorisé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'un point d'accès contrôlé et une autre form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autorisé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pour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mêm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ntité dans un autre systè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nt le lien entre fichier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dage MARC 21 : 7XX (zones de liaison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41240" y="622440"/>
            <a:ext cx="86011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entre plusieurs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oints d'Accès Contrôlé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 parallèle dans une autre lang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392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Bibliothèque et Archives Canad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5392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= Library and Archives Canad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 système d'écritu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392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cyrillique ou chinois versus romanis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41240" y="622440"/>
            <a:ext cx="86011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entre plusieurs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oints d'Accès Contrôlés (2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s règ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392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Benoît XVI, pape, 1927-      (RCAA2 - françai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5392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Benedict XVI, Pope, 1927-  (AACR2 - anglai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5392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5392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ré (religieux de la Congrégation de Sainte-Croix ; 1845-1937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Afnor - BnF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5392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ré, frère, saint, 1845-1937     (RCAA2 - BAC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utres relation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 entre un point d'accès contrôlé pour une entité-sujet et un indice de classification correspond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Gautama Buddha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et l'interval d'indices LC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BQ860-BQ939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 entre un point d'accès contrôlé pour une entité et un 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Advances in the history of rhetorique (périodique)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et son ISSN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1536-2426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S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40880" y="1711080"/>
            <a:ext cx="8455320" cy="55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SAD: Functional Requirements for Subject Authority Data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005-201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ésidente: Marcia Lei Zeng (Kent State University, Ohio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BR + FRAD + FRSAD = modèle complet de l'univers bibliograph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