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8.xml.rels" ContentType="application/vnd.openxmlformats-package.relationships+xml"/>
  <Override PartName="/ppt/slides/_rels/slide92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69.xml" ContentType="application/vnd.openxmlformats-officedocument.presentationml.slide+xml"/>
  <Override PartName="/ppt/slides/slide72.xml" ContentType="application/vnd.openxmlformats-officedocument.presentationml.slide+xml"/>
  <Override PartName="/ppt/slides/slide60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</p:sldIdLst>
  <p:sldSz cx="10080625" cy="7559675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195120"/>
            <a:ext cx="8595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0880" y="1753920"/>
            <a:ext cx="8899560" cy="25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0880" y="4564800"/>
            <a:ext cx="8899560" cy="25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195120"/>
            <a:ext cx="8595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0880" y="1753920"/>
            <a:ext cx="4342680" cy="25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01000" y="1753920"/>
            <a:ext cx="4342680" cy="25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0880" y="4564800"/>
            <a:ext cx="4342680" cy="25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01000" y="4564800"/>
            <a:ext cx="4342680" cy="25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195120"/>
            <a:ext cx="8595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0880" y="1753920"/>
            <a:ext cx="2865240" cy="25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49760" y="1753920"/>
            <a:ext cx="2865240" cy="25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58640" y="1753920"/>
            <a:ext cx="2865240" cy="25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0880" y="4564800"/>
            <a:ext cx="2865240" cy="25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49760" y="4564800"/>
            <a:ext cx="2865240" cy="25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58640" y="4564800"/>
            <a:ext cx="2865240" cy="25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195120"/>
            <a:ext cx="8595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0880" y="1753920"/>
            <a:ext cx="8899560" cy="53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195120"/>
            <a:ext cx="8595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0880" y="1753920"/>
            <a:ext cx="8899560" cy="53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195120"/>
            <a:ext cx="8595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0880" y="1753920"/>
            <a:ext cx="4342680" cy="53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01000" y="1753920"/>
            <a:ext cx="4342680" cy="53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195120"/>
            <a:ext cx="8595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195120"/>
            <a:ext cx="8595000" cy="57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195120"/>
            <a:ext cx="8595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0880" y="1753920"/>
            <a:ext cx="4342680" cy="25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01000" y="1753920"/>
            <a:ext cx="4342680" cy="53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0880" y="4564800"/>
            <a:ext cx="4342680" cy="25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195120"/>
            <a:ext cx="8595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0880" y="1753920"/>
            <a:ext cx="4342680" cy="53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01000" y="1753920"/>
            <a:ext cx="4342680" cy="25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01000" y="4564800"/>
            <a:ext cx="4342680" cy="25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195120"/>
            <a:ext cx="8595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0880" y="1753920"/>
            <a:ext cx="4342680" cy="25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01000" y="1753920"/>
            <a:ext cx="4342680" cy="25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0880" y="4564800"/>
            <a:ext cx="8899560" cy="25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440"/>
            <a:ext cx="453960" cy="7560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8924760" y="6962760"/>
            <a:ext cx="3654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E8B0EA25-B9AF-4D78-AD28-84E78718C5E2}" type="slidenum"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03160" y="6846840"/>
            <a:ext cx="3595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12 juin 2008, révisé 27 juillet 20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0880" y="195120"/>
            <a:ext cx="8595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e594d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740880" y="1753920"/>
            <a:ext cx="8899560" cy="53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282680" indent="-21276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714680" indent="-2034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146320" indent="-20484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146320" indent="-204840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146320" indent="-204840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1240" y="193320"/>
            <a:ext cx="8609040" cy="12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endParaRPr b="1" lang="en-US" sz="44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40880" y="323640"/>
            <a:ext cx="8913960" cy="68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0e594d"/>
                </a:solidFill>
                <a:latin typeface="Arial"/>
                <a:ea typeface="Arial"/>
              </a:rPr>
              <a:t>Les modèles conceptuel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lvl="1"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0e594d"/>
                </a:solidFill>
                <a:latin typeface="Arial"/>
                <a:ea typeface="Arial"/>
              </a:rPr>
              <a:t>FRBR et FRAD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lvl="1"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lvl="1"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333333"/>
                </a:solidFill>
                <a:latin typeface="Times New Roman"/>
                <a:ea typeface="Arial Unicode MS"/>
              </a:rPr>
              <a:t>présenté pa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333333"/>
                </a:solidFill>
                <a:latin typeface="Times New Roman"/>
                <a:ea typeface="Arial Unicode MS"/>
              </a:rPr>
              <a:t>Pat Riv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253200" y="5580000"/>
            <a:ext cx="3154320" cy="134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67800" y="135000"/>
            <a:ext cx="8680680" cy="14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Manifestatio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99840" y="1754280"/>
            <a:ext cx="8577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Bef>
                <a:spcPts val="850"/>
              </a:spcBef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a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matérialisation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de l’expression d’une œu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850"/>
              </a:spcBef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'ensemble des exemplaires ayant les mêmes caractéristiques, aussi bien la présentation matérielle que le contenu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850"/>
              </a:spcBef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ourrait être une édition commerciale, ou un objet unique comme un manuscrit d’auteu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77880" y="166320"/>
            <a:ext cx="8670960" cy="13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Expressio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99840" y="1742760"/>
            <a:ext cx="8577000" cy="51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a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réalisation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intellectuelle ou artistique d’une œu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a forme intellectuelle ou artistique spécifique que revêt une œuvre lorsqu’elle est réalisé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s mots spécifiques qui forment un texte, les notes spécifiques d'une œuvre musicale, etc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4280" y="355680"/>
            <a:ext cx="8764560" cy="108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Œuvr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9840" y="1701720"/>
            <a:ext cx="8577000" cy="51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e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création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intellectuelle ou artistique déterminé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bstraction du contenu commun de ses expressio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éside dans une identité de contenu au sein des diverses expressio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e correspond à aucun objet matériel isol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03160" y="406080"/>
            <a:ext cx="8545680" cy="11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Qu'est-ce qu'un “livre”?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929200" y="1973160"/>
            <a:ext cx="33624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te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anifes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press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Œu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61960" y="2003040"/>
            <a:ext cx="42148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J'ai perdu mon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livr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l faut commander ce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livr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J'aimerais lire ce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livr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en français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e film s'inspire de mon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livr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préféré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Relations principales du Groupe 1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46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OEU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trouve sa réalisation da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PRESS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    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se concrétise da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ANIFES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est représentée pa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TE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Œuvr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434988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it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orm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a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tc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08200" y="1754280"/>
            <a:ext cx="434988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L'ava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ièce de théât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1668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Expressio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434988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it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orm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a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angu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tc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46200" y="1699920"/>
            <a:ext cx="4511880" cy="545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The mise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extu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1987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nglai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Manifestatio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47280" y="1492200"/>
            <a:ext cx="4443480" cy="52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it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ention de responsabil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ieu d'édi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Éditeu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ate d'édi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ype de suppor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ités matériell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imensio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dentifia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92360" y="1430280"/>
            <a:ext cx="4133880" cy="57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The miser : a comedy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 new translation by Albert Berm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ew York, NY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pplause Theatre Book Publisher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1987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ivre imprim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126 p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19 c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SBN 0936839759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Item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434988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dentifia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rovenanc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nnotations / Inscriptio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tc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08200" y="1754280"/>
            <a:ext cx="434988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Q1825 E5 1987b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ch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ucun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47640" y="364680"/>
            <a:ext cx="870264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ités du Groupe 2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14320" y="1701720"/>
            <a:ext cx="846144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éfinitions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Personn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(un individu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Times New Roman"/>
              </a:rPr>
              <a:t>Collectivité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(un organisme ou un groupe d’individus et/ou d’organismes agissant comme un tout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Pla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2520" cy="53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RB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tâches des utilisateur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Entités / Attribut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Relati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RAD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tâches des utilisateur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Entités / Attribut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Relati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Personn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00000"/>
                </a:solidFill>
                <a:latin typeface="Times New Roman"/>
              </a:rPr>
              <a:t>No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ates (naissance, mort, d'activité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itres (Duc, Sir, prof., dr.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utres qualificatifs (Saint, Jr., le Vaillant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Collectivité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00000"/>
                </a:solidFill>
                <a:latin typeface="Times New Roman"/>
              </a:rPr>
              <a:t>No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umérotation (d'un congrès, etc.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ocalisation (localisé à, tenu à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ates (de tenu, d'activité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utres qualificatifs (de statut juridique, ajout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Relations principales du Groupe 2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46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ERSONN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LLECTIV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responsable(s) pou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ités du groupe 1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œuvre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press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anifes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te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2920" y="198360"/>
            <a:ext cx="857700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ités du Groupe 2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02800" y="1564920"/>
            <a:ext cx="8472600" cy="53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Ont la responsabilité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u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contenu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intellectuel ou artistique d'une œuvre ou d'une express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e la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production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matérielle et de la distribution d'une manifes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e la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possession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d'un ite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Groupe 2 Relations de bas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40880" y="1681200"/>
            <a:ext cx="4907160" cy="54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Variétés de responsabilité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tem &lt;propriété de&gt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anifestation &lt;produite par&gt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pression &lt;réalisée par&gt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Œuvre &lt;conçue par&gt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719320" y="1690560"/>
            <a:ext cx="3465720" cy="543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emple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iversité McGil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pplause Theatre Book Publisher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lbert Berm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oliè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77880" y="250920"/>
            <a:ext cx="8670960" cy="12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ités du Groupe 3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73280" y="1774440"/>
            <a:ext cx="8503920" cy="51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ont les sujets des œuvres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ncep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Obje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Événement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ieu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Concept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e notion abstraite ou une idé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Vague ou précis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ar exemple: théories, procédés, techniques, pratiques, etc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Objet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e réalité matériell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nimée ou inanimé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réation humaine ou présente dans la natu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ar exemple: immeubles, navires, plantes, etc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Événement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e action ou une circonstance (un fait accompli ou survenu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e limite aux événements pouvant constituer le sujet d’une œu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ar exemple: événements historiques, époques, périodes chronologiques, etc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Lieu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 emplacement (des coordonnées topographique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Historique ou contemporai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aractéristiques géographiqu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ur la Terre ou dans l’espac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ar exemple: villes, rivières, montagnes, planètes, etc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FRBR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unctional Requirements for Bibliographic Record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Groupe de travail du Comité permanent de la Section de catalogage de l’IFLA, 1992-1997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ublié en 1998 en anglai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 français: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Spécifications fonctionnelles des notices bibliographiques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, publié par la Bibliothèque nationale de France en 2001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Groupe 3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ucun détail en FRB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 seul attribut: “terme désignant le”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Relations principales du Groupe 3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NCEP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OBJE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ÉVÉNEME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IEU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+ entités des groupes 1 et 2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sont les sujets d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'entité du groupe 1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ŒU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26760" y="239400"/>
            <a:ext cx="8723160" cy="12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Relations bibliographiques</a:t>
            </a:r>
            <a:br>
              <a:rPr sz="4000"/>
            </a:b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re les entités du Groupe 1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82640" y="1743120"/>
            <a:ext cx="8493120" cy="54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07880" indent="-330120">
              <a:lnSpc>
                <a:spcPct val="95000"/>
              </a:lnSpc>
              <a:spcBef>
                <a:spcPts val="575"/>
              </a:spcBef>
              <a:spcAft>
                <a:spcPts val="2837"/>
              </a:spcAft>
              <a:buClr>
                <a:srgbClr val="0066cc"/>
              </a:buClr>
              <a:buFont typeface="Symbol" charset="2"/>
              <a:buChar char=""/>
              <a:tabLst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lations sont caractérisées par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Bef>
                <a:spcPts val="575"/>
              </a:spcBef>
              <a:spcAft>
                <a:spcPts val="1987"/>
              </a:spcAft>
              <a:buClr>
                <a:srgbClr val="0066cc"/>
              </a:buClr>
              <a:buFont typeface="Symbol" charset="2"/>
              <a:buChar char=""/>
              <a:tabLst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ités concerné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éférentielle ou Autonom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artie dépendante ou partie indépendan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Niveau Œuvre ou Expressio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une Œuvre et une autre Œu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une Expression et une autre Expression (expressions d'œuvres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différentes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une Expression et une autre Œuvre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Niveau Œuvre ou Expressio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ui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uppléme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mpléme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ésum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dap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ransform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mi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semble/Partie : Œuvre</a:t>
            </a:r>
            <a:br>
              <a:rPr sz="4000"/>
            </a:b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ou Expressio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40880" y="1722600"/>
            <a:ext cx="4195800" cy="52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artie dépendan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25520" indent="-2160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Chapitre, section, partie, etc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425520" indent="-2160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Volume ou numéro d’un périodiqu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425520" indent="-2160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Partie intellectuelle d’une œuvre en plusieurs parti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425520" indent="-2160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Illustration d’un text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425520" indent="-2160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Bande sonore d’un fil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46200" y="1763640"/>
            <a:ext cx="413388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artie indépendan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25520" indent="-2160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Monographie dans une collectio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425520" indent="-2160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Article de journal ou de revu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425520" indent="-2160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Partie intellectuelle d’une œuvre en plusieurs parti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re des Expressions</a:t>
            </a:r>
            <a:br>
              <a:rPr sz="4000"/>
            </a:b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e la </a:t>
            </a:r>
            <a:r>
              <a:rPr b="1" lang="en-GB" sz="4000" spc="-1" strike="noStrike" u="sng">
                <a:solidFill>
                  <a:srgbClr val="0e594d"/>
                </a:solidFill>
                <a:uFillTx/>
                <a:latin typeface="Arial"/>
              </a:rPr>
              <a:t>même</a:t>
            </a: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 Œuvr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brég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évis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raduc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rrangement (musique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Niveau Manifestation ou Item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Manifestations de la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mêm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Express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une Manifestation et un Item (manifestations de la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mêm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expression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Item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re Manifestation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434988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produc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1073160" indent="0">
              <a:lnSpc>
                <a:spcPct val="95000"/>
              </a:lnSpc>
              <a:spcAft>
                <a:spcPts val="286"/>
              </a:spcAft>
              <a:buNone/>
              <a:tabLst>
                <a:tab algn="l" pos="0"/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lternativ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92360" y="1722600"/>
            <a:ext cx="3862440" cy="54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produc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icroreproduc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éimpress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ac-simil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ite miroir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1073160" indent="0">
              <a:lnSpc>
                <a:spcPct val="95000"/>
              </a:lnSpc>
              <a:spcAft>
                <a:spcPts val="286"/>
              </a:spcAft>
              <a:buNone/>
              <a:tabLst>
                <a:tab algn="l" pos="0"/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utre présen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édition simultanée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semble/Partie : Manifestation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Volume d’une manifestation en plusieurs volum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Bande sonore d’un film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mposante d’un ensemble multi-support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mposantes séparées ou composantes matériellement inséparabl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Méthodologie FRBR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46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 modèle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entité-relation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(E-R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éfinition des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entité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iste de leurs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attribut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dentification des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relations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(liens) entre les entité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1426"/>
              </a:spcBef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rrélation avec les quatre types d’opérations effectuées par les utilisateurs (les tâche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re Item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434988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configur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produc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308200" y="1754280"/>
            <a:ext cx="434988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lié avec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ivisé e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trait d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produc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icroreproduc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ac-simil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semble/Partie : Item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mposante matérielle d’un ite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25520" indent="-2160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intégrée, par ex.: une pag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425520" indent="-2160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distincte, par ex.: un volum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27000"/>
                <a:tab algn="l" pos="476280"/>
                <a:tab algn="l" pos="925560"/>
                <a:tab algn="l" pos="1374840"/>
                <a:tab algn="l" pos="1824120"/>
                <a:tab algn="l" pos="2273400"/>
                <a:tab algn="l" pos="2722680"/>
                <a:tab algn="l" pos="3171960"/>
                <a:tab algn="l" pos="3621240"/>
                <a:tab algn="l" pos="4070520"/>
                <a:tab algn="l" pos="4519440"/>
                <a:tab algn="l" pos="4968720"/>
                <a:tab algn="l" pos="5418000"/>
                <a:tab algn="l" pos="5867280"/>
                <a:tab algn="l" pos="6316560"/>
                <a:tab algn="l" pos="6765840"/>
                <a:tab algn="l" pos="7215120"/>
                <a:tab algn="l" pos="7664400"/>
                <a:tab algn="l" pos="8113680"/>
                <a:tab algn="l" pos="856296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liure d’un li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25480" y="114480"/>
            <a:ext cx="8524800" cy="13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FRAD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30080" y="1754280"/>
            <a:ext cx="85456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2920" indent="-30816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unctional Requirements for Authority Dat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2920" indent="-30816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Groupe de travail, FRANAR, de la Division du contrôle bibliographique de l'IFLA, 1999-2009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2920" indent="-30816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exte final, décembre 2008, approuvé mars 2009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2920" indent="-30816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ublié juin 2009 en anglai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2920" indent="-30816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n français: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Fonctionnalités requises des données d’autorité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traduit par la BnF en 2010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Portée des FRAD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onnées pertinentes au contrôle d'autor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out types de données d'autorité à un niveau globa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étails pour vedettes de nom, nom-titre, titre uniform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ussi les entités qui participent à la création des vedett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Pas inclu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etails des attributs des entités du Groupe 3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lations entre les entités du Groupe 3 (concept, objet, événement, lieu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'est à dire: les autorités de sujet (vedettes-matière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éfère aux FRSAR (2005-2010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Pas inclu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lations entre les entités du Groupe 2 et du Groupe 1 (designations de relation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onnées sur le traitement des collectio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onnées administratives dans les notices d'autorités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29720" y="72720"/>
            <a:ext cx="8618760" cy="13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Utilisateurs selon les FRAD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20720" y="1617480"/>
            <a:ext cx="855504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 personnel des bibliothèques qui travaille directement avec les notices d'autor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s usagers qui utilisent les données d'autor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arfois directeme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lus souvent via les points d'accès contrôlés dans les notices bibliographiqu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8680" y="166320"/>
            <a:ext cx="8659800" cy="13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1280" indent="0" algn="ctr">
              <a:lnSpc>
                <a:spcPct val="93000"/>
              </a:lnSpc>
              <a:buNone/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Tâches qu’accomplissent </a:t>
            </a:r>
            <a:br>
              <a:rPr sz="4000"/>
            </a:b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les utilisateurs (FRAD)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00200" y="1763640"/>
            <a:ext cx="85788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Trouve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les entités qui correspondent aux critères de recherche,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ou explorer l'univers des entités bibliographiqu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Identifie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une entité (confirmer qu'elle correspond à celle recherchée),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ou valider la forme du nom à utiliser pour établir un point d'accès contrôl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Contextualise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Justifie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09560" y="134640"/>
            <a:ext cx="8639280" cy="13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5960" indent="0" algn="ctr">
              <a:lnSpc>
                <a:spcPct val="93000"/>
              </a:lnSpc>
              <a:buNone/>
              <a:tabLst>
                <a:tab algn="l" pos="0"/>
                <a:tab algn="l" pos="345960"/>
                <a:tab algn="l" pos="793800"/>
                <a:tab algn="l" pos="1243080"/>
                <a:tab algn="l" pos="1692360"/>
                <a:tab algn="l" pos="2141640"/>
                <a:tab algn="l" pos="2590920"/>
                <a:tab algn="l" pos="3040200"/>
                <a:tab algn="l" pos="3489480"/>
                <a:tab algn="l" pos="3938760"/>
                <a:tab algn="l" pos="4387680"/>
                <a:tab algn="l" pos="4836960"/>
                <a:tab algn="l" pos="5286240"/>
                <a:tab algn="l" pos="5735520"/>
                <a:tab algn="l" pos="6184800"/>
                <a:tab algn="l" pos="6634080"/>
                <a:tab algn="l" pos="7083360"/>
                <a:tab algn="l" pos="7532640"/>
                <a:tab algn="l" pos="7981920"/>
                <a:tab algn="l" pos="8431200"/>
                <a:tab algn="l" pos="8880480"/>
                <a:tab algn="l" pos="9329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Tâche FRAD : Contextualiser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30080" y="1608120"/>
            <a:ext cx="8547120" cy="52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ituer une personne, une collectivité, une œuvre, etc. dans son contex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larifier la relation entre deux ou plusieurs personnes, collectivités, œuvres, etc.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larifier la relation entre une personne, une collectivité, etc. et un nom par lequel cette personne, collectivité, etc. est connu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09560" y="134640"/>
            <a:ext cx="8639280" cy="13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1280" indent="0" algn="ctr">
              <a:lnSpc>
                <a:spcPct val="93000"/>
              </a:lnSpc>
              <a:buNone/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Tâche FRAD : Justifier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30080" y="1608120"/>
            <a:ext cx="8547120" cy="52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406440" indent="-30456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ocumenter les raisons du choix du nom ou de la forme du nom sur lequel est basé un point d'accès contrôl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6440" indent="0">
              <a:lnSpc>
                <a:spcPct val="95000"/>
              </a:lnSpc>
              <a:spcAft>
                <a:spcPts val="1701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6440" indent="0">
              <a:lnSpc>
                <a:spcPct val="95000"/>
              </a:lnSpc>
              <a:spcAft>
                <a:spcPts val="1701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Autrement dit 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6440" indent="-30456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Comprendr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pourquoi un nom ou un titre en particulier, ou une forme du nom ou du titre, a été choisi comme le nom ou titre préféré de l'ent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6440" indent="-30456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âche du catalogueu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Utilisateurs selon les FRBR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Bef>
                <a:spcPts val="2276"/>
              </a:spcBef>
              <a:spcAft>
                <a:spcPts val="227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tilisateurs des systèmes informatisés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2276"/>
              </a:spcBef>
              <a:spcAft>
                <a:spcPts val="227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ersonnel des bibliothèques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2276"/>
              </a:spcBef>
              <a:spcAft>
                <a:spcPts val="227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sponsables de la gestion des bases de donné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ités selon FRAD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41240" y="1753920"/>
            <a:ext cx="8909280" cy="53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ités bibliographiques (des FRBR)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ersonne,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famill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, collectiv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œuvre, expression, manifestation, ite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ncept, objet, événement, lieu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ités qui sont l'objet des notices d'autor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s entités dites d'autorité s'y réfère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Personn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40880" y="1742760"/>
            <a:ext cx="8487000" cy="54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 individu ou une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identité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attribuée ou adoptée par un individu ou par un group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e personne bibliographique, peut ne pas être une personne physiqu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seudonymes conjoints, pseudonymes multiples utilisés par une seule personn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Famill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40880" y="1681200"/>
            <a:ext cx="8455320" cy="54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eux personnes ou plus liées par la naissance, le mariage, l'adoption, l'union civile ou tout autre statut légal du même ordre, ou qui se présentent comme une famill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e l'ISAAR(CPF), description des fonds d'archiv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ait logiquement partie du Groupe 2 en FRB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40880" y="19476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Collectivité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41240" y="1754280"/>
            <a:ext cx="8910720" cy="53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 organisme ou un groupe de personnes et/ou d’organismes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identifié par un nom particulie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et agissant comme un tou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Aft>
                <a:spcPts val="1701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 groupe doit être nomm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mprend les congrès, les conférenc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70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mprend les gouvernement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Relations principales du Groupe 2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46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ERSONN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AMILL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LLECTIV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responsable(s) pou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ités du groupe 1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œuvre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press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anifes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te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Personn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ates (naissance, mort, activité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itre (Duc, Sir, prof., Dr.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Gen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Lieu (naissance, mort, résidence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Pay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Affiliation (emploi, membre, identité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Adress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Personne (2)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Langu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Domaine d'activ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Profession/occup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Biographie/histoi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utre information associée à la personne (saint, Jr.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Famill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ype de famille (clan, dynastie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ates associé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ieu (résidence, association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omaine d'activ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Historique de la famill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Collectivité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ieu (localisé à, tenu à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ates (de tenue, d'activité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Langu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Adress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Domaine d'activ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Historiqu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utres informations (statut juridique, ajout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Œuvr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orm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a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Sujet de l'</a:t>
            </a:r>
            <a:r>
              <a:rPr b="0" lang="en-GB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œu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Lieu d'origin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Historiqu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utre caractéristique distinctiv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5960" indent="0" algn="ctr">
              <a:lnSpc>
                <a:spcPct val="93000"/>
              </a:lnSpc>
              <a:buNone/>
              <a:tabLst>
                <a:tab algn="l" pos="0"/>
                <a:tab algn="l" pos="345960"/>
                <a:tab algn="l" pos="793800"/>
                <a:tab algn="l" pos="1243080"/>
                <a:tab algn="l" pos="1692360"/>
                <a:tab algn="l" pos="2141640"/>
                <a:tab algn="l" pos="2590920"/>
                <a:tab algn="l" pos="3040200"/>
                <a:tab algn="l" pos="3489480"/>
                <a:tab algn="l" pos="3938760"/>
                <a:tab algn="l" pos="4387680"/>
                <a:tab algn="l" pos="4836960"/>
                <a:tab algn="l" pos="5286240"/>
                <a:tab algn="l" pos="5735520"/>
                <a:tab algn="l" pos="6184800"/>
                <a:tab algn="l" pos="6634080"/>
                <a:tab algn="l" pos="7083360"/>
                <a:tab algn="l" pos="7532640"/>
                <a:tab algn="l" pos="7981920"/>
                <a:tab algn="l" pos="8431200"/>
                <a:tab algn="l" pos="8880480"/>
                <a:tab algn="l" pos="9329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Tâches qu’accomplissent </a:t>
            </a:r>
            <a:br>
              <a:rPr sz="4000"/>
            </a:b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les utilisateurs (FRBR)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46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Trouve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les ressources qui correspondent aux critères de recherch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Identifie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une ressource qui correspond à celle recherchée par l’utilisateu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Choisi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une ressource qui soit en adéquation avec ses besoi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Avoir accès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à la ressource décri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Item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Localis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Historique de la conservation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FRBR : Provenance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Source immédiate d'acquisi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+ Autres attributs définis en FRB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29720" y="187200"/>
            <a:ext cx="862020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ités en FRAD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30080" y="1690200"/>
            <a:ext cx="8545680" cy="51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04640" indent="-2998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om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4640" indent="-2998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dentifia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4640" indent="-2998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oint d'accès contrôl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Ces entités constituent les données d'autorité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04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4640" indent="-2998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ègl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4640" indent="-2998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gence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73280" y="166320"/>
            <a:ext cx="8578800" cy="12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Nom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47280" y="1658520"/>
            <a:ext cx="8628120" cy="521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04640" indent="-2998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 caractère ou une séquence de caractères ou de mots par lequel une entité est connue dans le monde ré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4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4640" indent="-2998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e nom ou terme de bas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4640" indent="-2998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el qu'utilisé dans le monde (à l'extérieur des bibliothèque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Nom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ype de nom (la catégorie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haîne du nom (séquence de caractères numériques et/ou alphabétiques ou de symbole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hamp d’utilis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ates d’utilis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angue du no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Écriture du no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ystème de translittération du no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41240" y="156960"/>
            <a:ext cx="8607600" cy="12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Identifiant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9040" y="1742760"/>
            <a:ext cx="8586720" cy="51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9960" indent="-29520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 numéro, code, mot, expression, logo, etc. associé avec une entité, visant à la différencier de toute autre entité appartenant au domaine d'activité dans lequel l'identifiant est attribu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9996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99960" indent="-29520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e sont pas seulement les identifiants bibliographiqu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Identifiant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ype d'identifia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Un code ou autre désignation indiquant la catégorie de l’identifiant (domaine d’attribution de l’identifiant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8680" y="166320"/>
            <a:ext cx="8659800" cy="12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Point d'Accès Contrôlé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07760" y="1879560"/>
            <a:ext cx="856764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04640" indent="-2998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 nom, terme, code, etc. sous lequel on peut trouver une notice bibliographique ou une notice d'autorité ou un renvoi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4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4640" indent="-2998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mprend les formes établies / autorisées / préféré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04640" indent="-2998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Font typeface="Symbol" charset="2"/>
              <a:buChar char=""/>
              <a:tabLst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t les variantes de forme (renvoi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Point d'Accès Contrôlé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40880" y="1406520"/>
            <a:ext cx="8913960" cy="544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ype du point d'accès contrôl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tatut du point d’accès contrôl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sage du point d’accès contrôlé (autorisé / variant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oint d’accès indifférenci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angue, écriture, translittération de la racine du point d'accès et de catalogag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ourc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acine (base) du point d'accè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Éléments additionnels (ajouts, qualificatif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09560" y="146160"/>
            <a:ext cx="8639280" cy="12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5960" indent="0" algn="ctr">
              <a:lnSpc>
                <a:spcPct val="93000"/>
              </a:lnSpc>
              <a:buNone/>
              <a:tabLst>
                <a:tab algn="l" pos="0"/>
                <a:tab algn="l" pos="345960"/>
                <a:tab algn="l" pos="793800"/>
                <a:tab algn="l" pos="1243080"/>
                <a:tab algn="l" pos="1692360"/>
                <a:tab algn="l" pos="2141640"/>
                <a:tab algn="l" pos="2590920"/>
                <a:tab algn="l" pos="3040200"/>
                <a:tab algn="l" pos="3489480"/>
                <a:tab algn="l" pos="3938760"/>
                <a:tab algn="l" pos="4387680"/>
                <a:tab algn="l" pos="4836960"/>
                <a:tab algn="l" pos="5286240"/>
                <a:tab algn="l" pos="5735520"/>
                <a:tab algn="l" pos="6184800"/>
                <a:tab algn="l" pos="6634080"/>
                <a:tab algn="l" pos="7083360"/>
                <a:tab algn="l" pos="7532640"/>
                <a:tab algn="l" pos="7981920"/>
                <a:tab algn="l" pos="8431200"/>
                <a:tab algn="l" pos="8880480"/>
                <a:tab algn="l" pos="9329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Modèle FRAD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50960" y="1784160"/>
            <a:ext cx="8904240" cy="48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ITÉS BIBLIOGRAPHIQU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sont connues pa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OMS et / ou IDENTIFIANT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      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avec lesquels sont formés d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OINTS d'ACCÈS CONT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Ô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É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Règle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40880" y="1670040"/>
            <a:ext cx="8372520" cy="54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'ensemble des instructions sur la formulation et/ou l'enregistrement des points d'accès contrôlés (formes autorisées, variantes de formes ou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nvois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, etc.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mprend les règles de catalogage et leurs intérprétatio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mprend les conventions de codag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44200" y="396720"/>
            <a:ext cx="85057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Groupes d'entités FRBR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30080" y="1754280"/>
            <a:ext cx="8545680" cy="51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Groupe 1: Productions artistiques ou intellectuell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Groupe 2: Responsables des entités du groupe 1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Groupe 3: Sujets des œuvr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Règle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itation de la règl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dentifiant de la règl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Agenc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40880" y="1731960"/>
            <a:ext cx="8487000" cy="54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 organisme responsable de la création et de la modification des points d'accès contrôlé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t de l'application et de l'interprétation des règles qu'elle crée et/ou utilis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41240" y="195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ttributs : Agence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om de l’agenc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dentifiant de l’agenc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Localisation de l’agenc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20360" y="166320"/>
            <a:ext cx="8628120" cy="12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Relations FRAD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30080" y="1784520"/>
            <a:ext cx="8545680" cy="50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3840" indent="-290520">
              <a:lnSpc>
                <a:spcPct val="95000"/>
              </a:lnSpc>
              <a:spcBef>
                <a:spcPts val="575"/>
              </a:spcBef>
              <a:spcAft>
                <a:spcPts val="1987"/>
              </a:spcAft>
              <a:buClr>
                <a:srgbClr val="0066cc"/>
              </a:buClr>
              <a:buFont typeface="Symbol" charset="2"/>
              <a:buChar char=""/>
              <a:tabLst>
                <a:tab algn="l" pos="42084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les Personnes, les Familles, les Collectivités, les Œuvr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93840" indent="-290520">
              <a:lnSpc>
                <a:spcPct val="95000"/>
              </a:lnSpc>
              <a:spcBef>
                <a:spcPts val="575"/>
              </a:spcBef>
              <a:spcAft>
                <a:spcPts val="1987"/>
              </a:spcAft>
              <a:buClr>
                <a:srgbClr val="0066cc"/>
              </a:buClr>
              <a:buFont typeface="Symbol" charset="2"/>
              <a:buChar char=""/>
              <a:tabLst>
                <a:tab algn="l" pos="42084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les Noms des Personnes, des Familles, des Collectivités, des Œuvres et les entités qu'ils représente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93840" indent="-290520">
              <a:lnSpc>
                <a:spcPct val="95000"/>
              </a:lnSpc>
              <a:spcBef>
                <a:spcPts val="575"/>
              </a:spcBef>
              <a:spcAft>
                <a:spcPts val="1987"/>
              </a:spcAft>
              <a:buClr>
                <a:srgbClr val="0066cc"/>
              </a:buClr>
              <a:buFont typeface="Symbol" charset="2"/>
              <a:buChar char=""/>
              <a:tabLst>
                <a:tab algn="l" pos="42084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plusieurs Points d'Accès Contrôlés pour une entité donné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41240" y="622440"/>
            <a:ext cx="8601120" cy="12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Relations FRAD</a:t>
            </a:r>
            <a:br>
              <a:rPr sz="4000"/>
            </a:b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re Entités bibliographique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112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une entité donnée et une seconde entité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bibliographiquement distinc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ermettent de naviguer entre points d'accès contrôlés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autorisés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pour des entités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distinct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dage MARC 21 : 5XX (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Voir aussi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Relations FRAD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112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Personn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une Personne et une Famill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une Personne et une Collectiv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Famill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une Famille et une Collectiv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Collectivité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Œ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vres, Expressions, Manifestations, Item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re Personne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112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seudonymi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Identité Séculière/Religieus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onctions officiell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ttribu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llabor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ratri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arent/Enfa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re Personne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112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seudonymie, Identités bibliographiques multipl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Mertz, Barbara</a:t>
            </a: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i="1" lang="en-GB" sz="2800" spc="-1" strike="noStrike">
                <a:solidFill>
                  <a:srgbClr val="333333"/>
                </a:solidFill>
                <a:latin typeface="Times New Roman"/>
              </a:rPr>
              <a:t>utilise aussi les pseudonymes</a:t>
            </a: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 Barbara Michaels </a:t>
            </a:r>
            <a:r>
              <a:rPr b="0" i="1" lang="en-GB" sz="2800" spc="-1" strike="noStrike">
                <a:solidFill>
                  <a:srgbClr val="333333"/>
                </a:solidFill>
                <a:latin typeface="Times New Roman"/>
              </a:rPr>
              <a:t>et</a:t>
            </a: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 Elizabeth Peter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Une personne physique, 3 identités bibliographiques distinct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3 notices d'autorité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re Personne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112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om séculier / Nom en relig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Roncalli, Angelo Giuseppe </a:t>
            </a:r>
            <a:r>
              <a:rPr b="0" i="1" lang="en-GB" sz="2800" spc="-1" strike="noStrike">
                <a:solidFill>
                  <a:srgbClr val="333333"/>
                </a:solidFill>
                <a:latin typeface="Times New Roman"/>
              </a:rPr>
              <a:t>nom séculier de</a:t>
            </a: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 Jean XXIII, pap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onctions officiell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Paul Martin </a:t>
            </a:r>
            <a:r>
              <a:rPr b="0" i="1" lang="en-GB" sz="2800" spc="-1" strike="noStrike">
                <a:solidFill>
                  <a:srgbClr val="333333"/>
                </a:solidFill>
                <a:latin typeface="Times New Roman"/>
              </a:rPr>
              <a:t>nom officiel</a:t>
            </a: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 Canada. Premier ministre pour 2003-2006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lation d'attribu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Brutus, Marcus Junius </a:t>
            </a:r>
            <a:r>
              <a:rPr b="0" i="1" lang="en-GB" sz="2800" spc="-1" strike="noStrike">
                <a:solidFill>
                  <a:srgbClr val="333333"/>
                </a:solidFill>
                <a:latin typeface="Times New Roman"/>
              </a:rPr>
              <a:t>versus</a:t>
            </a: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 Pseudo-Brutu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re Personne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112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llabor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Erckmann-Chatrian </a:t>
            </a:r>
            <a:r>
              <a:rPr b="0" i="1" lang="en-GB" sz="2800" spc="-1" strike="noStrike">
                <a:solidFill>
                  <a:srgbClr val="333333"/>
                </a:solidFill>
                <a:latin typeface="Times New Roman"/>
              </a:rPr>
              <a:t>pseudonyme collectif de</a:t>
            </a: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 Erckmann, Emile </a:t>
            </a:r>
            <a:r>
              <a:rPr b="0" i="1" lang="en-GB" sz="2800" spc="-1" strike="noStrike">
                <a:solidFill>
                  <a:srgbClr val="333333"/>
                </a:solidFill>
                <a:latin typeface="Times New Roman"/>
              </a:rPr>
              <a:t>et</a:t>
            </a: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 Chatrian, Alexandr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2 personnes physiques, 3 identités bibliographiqu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ratrie (frères et soeur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arent/Enfa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ités du Groupe 1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0880" y="1754280"/>
            <a:ext cx="8913960" cy="53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ont le cœur de la notice bibliographiqu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2 entités abstraites reflètent le contenu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œuv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press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2 entités concrètes reflètent la présentation matériell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anifes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ocument (ou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item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ou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xemplair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41240" y="622440"/>
            <a:ext cx="8601120" cy="12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re une Personne et </a:t>
            </a:r>
            <a:br>
              <a:rPr sz="4000"/>
            </a:b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une Famille ou une Collectivité 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112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ppartenanc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une Personne et sa Famill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une Personne associé à une Collectivité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Par exemple,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Personne membre d'un groupe musical 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Buddy Rich </a:t>
            </a:r>
            <a:r>
              <a:rPr b="0" i="1" lang="en-GB" sz="2800" spc="-1" strike="noStrike">
                <a:solidFill>
                  <a:srgbClr val="333333"/>
                </a:solidFill>
                <a:latin typeface="Times New Roman"/>
              </a:rPr>
              <a:t>est membre de</a:t>
            </a: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 Buddy Rich Band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re Famille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112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Généalogique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Maison des Conti </a:t>
            </a:r>
            <a:r>
              <a:rPr b="0" i="1" lang="en-GB" sz="2800" spc="-1" strike="noStrike">
                <a:solidFill>
                  <a:srgbClr val="333333"/>
                </a:solidFill>
                <a:latin typeface="Times New Roman"/>
              </a:rPr>
              <a:t>famille descendante de</a:t>
            </a: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 Maison des Condé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re une Famille et une Collectivité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ond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Hall (Famille) </a:t>
            </a:r>
            <a:r>
              <a:rPr b="0" i="1" lang="en-GB" sz="2800" spc="-1" strike="noStrike">
                <a:solidFill>
                  <a:srgbClr val="333333"/>
                </a:solidFill>
                <a:latin typeface="Times New Roman"/>
              </a:rPr>
              <a:t>a fondé</a:t>
            </a: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 Fondation Famille Hal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roprié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Herlin (Famille) </a:t>
            </a:r>
            <a:r>
              <a:rPr b="0" i="1" lang="en-GB" sz="2800" spc="-1" strike="noStrike">
                <a:solidFill>
                  <a:srgbClr val="333333"/>
                </a:solidFill>
                <a:latin typeface="Times New Roman"/>
              </a:rPr>
              <a:t>est propriétaire de</a:t>
            </a: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 Kon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re Collectivité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112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Hiérarchiqu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Subordinatio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équentiell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Prédécesseur / Successeur (Nom précédent / suivant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Scission / Fusio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72920" y="157320"/>
            <a:ext cx="8986680" cy="12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Entre Entités du Groupe 1</a:t>
            </a:r>
            <a:br>
              <a:rPr sz="4000"/>
            </a:b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selon FRAD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52400" y="1784520"/>
            <a:ext cx="7866000" cy="47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2280" indent="-31752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Équivalenc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2280" indent="-31752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ériv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2280" indent="-31752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Descrip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2280" indent="-31752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Tout/parti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2280" indent="-31752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ccompagneme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2280" indent="-31752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équenti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22280" indent="-31752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aractéristique partag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41240" y="622440"/>
            <a:ext cx="8601120" cy="12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Relations FRAD entre les Noms des Entités bibliographique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112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plusieurs noms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d'une entité donnée utilisés dans différents context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Sont généralement réciproqu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réent des renvois de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variantes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de nom au nom avec lequel est formé le point d'accès contrôlé autorisé pour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un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entité donné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dage MARC 21 : 4XX (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Voir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41240" y="622440"/>
            <a:ext cx="8601120" cy="12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Relations FRAD entre les Noms des Entités bibliographique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112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oms de Personn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oms de Famill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oms de Collectivité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oms des Oeuvr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Noms de Personne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112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om précédent / Nom ultérieur (nom suivant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Thibeault, Jacques-Anatole </a:t>
            </a:r>
            <a:r>
              <a:rPr b="0" i="1" lang="en-GB" sz="2800" spc="-1" strike="noStrike">
                <a:solidFill>
                  <a:srgbClr val="333333"/>
                </a:solidFill>
                <a:latin typeface="Times New Roman"/>
              </a:rPr>
              <a:t>nom précédent de</a:t>
            </a: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 France, Anatol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Nicholls, Charlotte </a:t>
            </a:r>
            <a:r>
              <a:rPr b="0" i="1" lang="en-GB" sz="2800" spc="-1" strike="noStrike">
                <a:solidFill>
                  <a:srgbClr val="333333"/>
                </a:solidFill>
                <a:latin typeface="Times New Roman"/>
              </a:rPr>
              <a:t>nom ultérieur de</a:t>
            </a: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 Brontë, Charlott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utre variante (variantes d'orthographe, etc.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Noms de Collectivité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112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orme développée du nom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cronyme/sigle/abréviatio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utre variante (variantes d'orthographe, etc.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Noms des Oeuvre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om conventionnel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ymphonie héroïque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est connue sous le nom conventionne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Symphonies, no 3, op. 55, mi bémol majeur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utre variante (variantes d'orthographe, etc.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7000" y="186840"/>
            <a:ext cx="8691480" cy="13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Définition : Item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0880" y="1731960"/>
            <a:ext cx="8534520" cy="51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Bef>
                <a:spcPts val="1987"/>
              </a:spcBef>
              <a:spcAft>
                <a:spcPts val="198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n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exemplair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isolé d’une manifes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1987"/>
              </a:spcBef>
              <a:spcAft>
                <a:spcPts val="198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Objet concret, généralement matériel, stocké dans les collections des bibliothèqu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1987"/>
              </a:spcBef>
              <a:spcAft>
                <a:spcPts val="1987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eut comprendre plusieurs parties (volumes d'un ouvrage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59968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Pour toute entité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40880" y="1979640"/>
            <a:ext cx="4946760" cy="48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68280"/>
                <a:tab algn="l" pos="817560"/>
                <a:tab algn="l" pos="1266840"/>
                <a:tab algn="l" pos="1716120"/>
                <a:tab algn="l" pos="2165400"/>
                <a:tab algn="l" pos="2614680"/>
                <a:tab algn="l" pos="3063960"/>
                <a:tab algn="l" pos="3513240"/>
                <a:tab algn="l" pos="3962520"/>
                <a:tab algn="l" pos="4411800"/>
                <a:tab algn="l" pos="4861080"/>
                <a:tab algn="l" pos="5310360"/>
                <a:tab algn="l" pos="5759280"/>
                <a:tab algn="l" pos="6208560"/>
                <a:tab algn="l" pos="6657840"/>
                <a:tab algn="l" pos="7107120"/>
                <a:tab algn="l" pos="7556400"/>
                <a:tab algn="l" pos="8005680"/>
                <a:tab algn="l" pos="8454960"/>
                <a:tab algn="l" pos="890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Variante linguistiqu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68280"/>
                <a:tab algn="l" pos="817560"/>
                <a:tab algn="l" pos="1266840"/>
                <a:tab algn="l" pos="1716120"/>
                <a:tab algn="l" pos="2165400"/>
                <a:tab algn="l" pos="2614680"/>
                <a:tab algn="l" pos="3063960"/>
                <a:tab algn="l" pos="3513240"/>
                <a:tab algn="l" pos="3962520"/>
                <a:tab algn="l" pos="4411800"/>
                <a:tab algn="l" pos="4861080"/>
                <a:tab algn="l" pos="5310360"/>
                <a:tab algn="l" pos="5759280"/>
                <a:tab algn="l" pos="6208560"/>
                <a:tab algn="l" pos="6657840"/>
                <a:tab algn="l" pos="7107120"/>
                <a:tab algn="l" pos="7556400"/>
                <a:tab algn="l" pos="8005680"/>
                <a:tab algn="l" pos="8454960"/>
                <a:tab algn="l" pos="890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Quintus Horatius Flaccus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68280"/>
                <a:tab algn="l" pos="817560"/>
                <a:tab algn="l" pos="1266840"/>
                <a:tab algn="l" pos="1716120"/>
                <a:tab algn="l" pos="2165400"/>
                <a:tab algn="l" pos="2614680"/>
                <a:tab algn="l" pos="3063960"/>
                <a:tab algn="l" pos="3513240"/>
                <a:tab algn="l" pos="3962520"/>
                <a:tab algn="l" pos="4411800"/>
                <a:tab algn="l" pos="4861080"/>
                <a:tab algn="l" pos="5310360"/>
                <a:tab algn="l" pos="5759280"/>
                <a:tab algn="l" pos="6208560"/>
                <a:tab algn="l" pos="6657840"/>
                <a:tab algn="l" pos="7107120"/>
                <a:tab algn="l" pos="7556400"/>
                <a:tab algn="l" pos="8005680"/>
                <a:tab algn="l" pos="8454960"/>
                <a:tab algn="l" pos="890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orac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68280"/>
                <a:tab algn="l" pos="817560"/>
                <a:tab algn="l" pos="1266840"/>
                <a:tab algn="l" pos="1716120"/>
                <a:tab algn="l" pos="2165400"/>
                <a:tab algn="l" pos="2614680"/>
                <a:tab algn="l" pos="3063960"/>
                <a:tab algn="l" pos="3513240"/>
                <a:tab algn="l" pos="3962520"/>
                <a:tab algn="l" pos="4411800"/>
                <a:tab algn="l" pos="4861080"/>
                <a:tab algn="l" pos="5310360"/>
                <a:tab algn="l" pos="5759280"/>
                <a:tab algn="l" pos="6208560"/>
                <a:tab algn="l" pos="6657840"/>
                <a:tab algn="l" pos="7107120"/>
                <a:tab algn="l" pos="7556400"/>
                <a:tab algn="l" pos="8005680"/>
                <a:tab algn="l" pos="8454960"/>
                <a:tab algn="l" pos="890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68280"/>
                <a:tab algn="l" pos="817560"/>
                <a:tab algn="l" pos="1266840"/>
                <a:tab algn="l" pos="1716120"/>
                <a:tab algn="l" pos="2165400"/>
                <a:tab algn="l" pos="2614680"/>
                <a:tab algn="l" pos="3063960"/>
                <a:tab algn="l" pos="3513240"/>
                <a:tab algn="l" pos="3962520"/>
                <a:tab algn="l" pos="4411800"/>
                <a:tab algn="l" pos="4861080"/>
                <a:tab algn="l" pos="5310360"/>
                <a:tab algn="l" pos="5759280"/>
                <a:tab algn="l" pos="6208560"/>
                <a:tab algn="l" pos="6657840"/>
                <a:tab algn="l" pos="7107120"/>
                <a:tab algn="l" pos="7556400"/>
                <a:tab algn="l" pos="8005680"/>
                <a:tab algn="l" pos="8454960"/>
                <a:tab algn="l" pos="890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amilie Trapp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68280"/>
                <a:tab algn="l" pos="817560"/>
                <a:tab algn="l" pos="1266840"/>
                <a:tab algn="l" pos="1716120"/>
                <a:tab algn="l" pos="2165400"/>
                <a:tab algn="l" pos="2614680"/>
                <a:tab algn="l" pos="3063960"/>
                <a:tab algn="l" pos="3513240"/>
                <a:tab algn="l" pos="3962520"/>
                <a:tab algn="l" pos="4411800"/>
                <a:tab algn="l" pos="4861080"/>
                <a:tab algn="l" pos="5310360"/>
                <a:tab algn="l" pos="5759280"/>
                <a:tab algn="l" pos="6208560"/>
                <a:tab algn="l" pos="6657840"/>
                <a:tab algn="l" pos="7107120"/>
                <a:tab algn="l" pos="7556400"/>
                <a:tab algn="l" pos="8005680"/>
                <a:tab algn="l" pos="8454960"/>
                <a:tab algn="l" pos="890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rappin perh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68280"/>
                <a:tab algn="l" pos="817560"/>
                <a:tab algn="l" pos="1266840"/>
                <a:tab algn="l" pos="1716120"/>
                <a:tab algn="l" pos="2165400"/>
                <a:tab algn="l" pos="2614680"/>
                <a:tab algn="l" pos="3063960"/>
                <a:tab algn="l" pos="3513240"/>
                <a:tab algn="l" pos="3962520"/>
                <a:tab algn="l" pos="4411800"/>
                <a:tab algn="l" pos="4861080"/>
                <a:tab algn="l" pos="5310360"/>
                <a:tab algn="l" pos="5759280"/>
                <a:tab algn="l" pos="6208560"/>
                <a:tab algn="l" pos="6657840"/>
                <a:tab algn="l" pos="7107120"/>
                <a:tab algn="l" pos="7556400"/>
                <a:tab algn="l" pos="8005680"/>
                <a:tab algn="l" pos="8454960"/>
                <a:tab algn="l" pos="890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68280"/>
                <a:tab algn="l" pos="817560"/>
                <a:tab algn="l" pos="1266840"/>
                <a:tab algn="l" pos="1716120"/>
                <a:tab algn="l" pos="2165400"/>
                <a:tab algn="l" pos="2614680"/>
                <a:tab algn="l" pos="3063960"/>
                <a:tab algn="l" pos="3513240"/>
                <a:tab algn="l" pos="3962520"/>
                <a:tab algn="l" pos="4411800"/>
                <a:tab algn="l" pos="4861080"/>
                <a:tab algn="l" pos="5310360"/>
                <a:tab algn="l" pos="5759280"/>
                <a:tab algn="l" pos="6208560"/>
                <a:tab algn="l" pos="6657840"/>
                <a:tab algn="l" pos="7107120"/>
                <a:tab algn="l" pos="7556400"/>
                <a:tab algn="l" pos="8005680"/>
                <a:tab algn="l" pos="8454960"/>
                <a:tab algn="l" pos="890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nited Nati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68280"/>
                <a:tab algn="l" pos="817560"/>
                <a:tab algn="l" pos="1266840"/>
                <a:tab algn="l" pos="1716120"/>
                <a:tab algn="l" pos="2165400"/>
                <a:tab algn="l" pos="2614680"/>
                <a:tab algn="l" pos="3063960"/>
                <a:tab algn="l" pos="3513240"/>
                <a:tab algn="l" pos="3962520"/>
                <a:tab algn="l" pos="4411800"/>
                <a:tab algn="l" pos="4861080"/>
                <a:tab algn="l" pos="5310360"/>
                <a:tab algn="l" pos="5759280"/>
                <a:tab algn="l" pos="6208560"/>
                <a:tab algn="l" pos="6657840"/>
                <a:tab algn="l" pos="7107120"/>
                <a:tab algn="l" pos="7556400"/>
                <a:tab algn="l" pos="8005680"/>
                <a:tab algn="l" pos="8454960"/>
                <a:tab algn="l" pos="890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ations Uni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545080" y="2050920"/>
            <a:ext cx="3795840" cy="661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368280"/>
                <a:tab algn="l" pos="817560"/>
                <a:tab algn="l" pos="1266840"/>
                <a:tab algn="l" pos="1716120"/>
                <a:tab algn="l" pos="2165400"/>
                <a:tab algn="l" pos="2614680"/>
                <a:tab algn="l" pos="3063960"/>
                <a:tab algn="l" pos="3513240"/>
                <a:tab algn="l" pos="3962520"/>
                <a:tab algn="l" pos="4411800"/>
                <a:tab algn="l" pos="4861080"/>
                <a:tab algn="l" pos="5310360"/>
                <a:tab algn="l" pos="5759280"/>
                <a:tab algn="l" pos="6208560"/>
                <a:tab algn="l" pos="6657840"/>
                <a:tab algn="l" pos="7107120"/>
                <a:tab algn="l" pos="7556400"/>
                <a:tab algn="l" pos="8005680"/>
                <a:tab algn="l" pos="8454960"/>
                <a:tab algn="l" pos="890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68280"/>
                <a:tab algn="l" pos="817560"/>
                <a:tab algn="l" pos="1266840"/>
                <a:tab algn="l" pos="1716120"/>
                <a:tab algn="l" pos="2165400"/>
                <a:tab algn="l" pos="2614680"/>
                <a:tab algn="l" pos="3063960"/>
                <a:tab algn="l" pos="3513240"/>
                <a:tab algn="l" pos="3962520"/>
                <a:tab algn="l" pos="4411800"/>
                <a:tab algn="l" pos="4861080"/>
                <a:tab algn="l" pos="5310360"/>
                <a:tab algn="l" pos="5759280"/>
                <a:tab algn="l" pos="6208560"/>
                <a:tab algn="l" pos="6657840"/>
                <a:tab algn="l" pos="7107120"/>
                <a:tab algn="l" pos="7556400"/>
                <a:tab algn="l" pos="8005680"/>
                <a:tab algn="l" pos="8454960"/>
                <a:tab algn="l" pos="890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&lt;nom en latin&gt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68280"/>
                <a:tab algn="l" pos="817560"/>
                <a:tab algn="l" pos="1266840"/>
                <a:tab algn="l" pos="1716120"/>
                <a:tab algn="l" pos="2165400"/>
                <a:tab algn="l" pos="2614680"/>
                <a:tab algn="l" pos="3063960"/>
                <a:tab algn="l" pos="3513240"/>
                <a:tab algn="l" pos="3962520"/>
                <a:tab algn="l" pos="4411800"/>
                <a:tab algn="l" pos="4861080"/>
                <a:tab algn="l" pos="5310360"/>
                <a:tab algn="l" pos="5759280"/>
                <a:tab algn="l" pos="6208560"/>
                <a:tab algn="l" pos="6657840"/>
                <a:tab algn="l" pos="7107120"/>
                <a:tab algn="l" pos="7556400"/>
                <a:tab algn="l" pos="8005680"/>
                <a:tab algn="l" pos="8454960"/>
                <a:tab algn="l" pos="890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&lt;nom en français&gt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68280"/>
                <a:tab algn="l" pos="817560"/>
                <a:tab algn="l" pos="1266840"/>
                <a:tab algn="l" pos="1716120"/>
                <a:tab algn="l" pos="2165400"/>
                <a:tab algn="l" pos="2614680"/>
                <a:tab algn="l" pos="3063960"/>
                <a:tab algn="l" pos="3513240"/>
                <a:tab algn="l" pos="3962520"/>
                <a:tab algn="l" pos="4411800"/>
                <a:tab algn="l" pos="4861080"/>
                <a:tab algn="l" pos="5310360"/>
                <a:tab algn="l" pos="5759280"/>
                <a:tab algn="l" pos="6208560"/>
                <a:tab algn="l" pos="6657840"/>
                <a:tab algn="l" pos="7107120"/>
                <a:tab algn="l" pos="7556400"/>
                <a:tab algn="l" pos="8005680"/>
                <a:tab algn="l" pos="8454960"/>
                <a:tab algn="l" pos="890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68280"/>
                <a:tab algn="l" pos="817560"/>
                <a:tab algn="l" pos="1266840"/>
                <a:tab algn="l" pos="1716120"/>
                <a:tab algn="l" pos="2165400"/>
                <a:tab algn="l" pos="2614680"/>
                <a:tab algn="l" pos="3063960"/>
                <a:tab algn="l" pos="3513240"/>
                <a:tab algn="l" pos="3962520"/>
                <a:tab algn="l" pos="4411800"/>
                <a:tab algn="l" pos="4861080"/>
                <a:tab algn="l" pos="5310360"/>
                <a:tab algn="l" pos="5759280"/>
                <a:tab algn="l" pos="6208560"/>
                <a:tab algn="l" pos="6657840"/>
                <a:tab algn="l" pos="7107120"/>
                <a:tab algn="l" pos="7556400"/>
                <a:tab algn="l" pos="8005680"/>
                <a:tab algn="l" pos="8454960"/>
                <a:tab algn="l" pos="890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&lt;nom en allemand&gt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68280"/>
                <a:tab algn="l" pos="817560"/>
                <a:tab algn="l" pos="1266840"/>
                <a:tab algn="l" pos="1716120"/>
                <a:tab algn="l" pos="2165400"/>
                <a:tab algn="l" pos="2614680"/>
                <a:tab algn="l" pos="3063960"/>
                <a:tab algn="l" pos="3513240"/>
                <a:tab algn="l" pos="3962520"/>
                <a:tab algn="l" pos="4411800"/>
                <a:tab algn="l" pos="4861080"/>
                <a:tab algn="l" pos="5310360"/>
                <a:tab algn="l" pos="5759280"/>
                <a:tab algn="l" pos="6208560"/>
                <a:tab algn="l" pos="6657840"/>
                <a:tab algn="l" pos="7107120"/>
                <a:tab algn="l" pos="7556400"/>
                <a:tab algn="l" pos="8005680"/>
                <a:tab algn="l" pos="8454960"/>
                <a:tab algn="l" pos="890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&lt;nom en finnois&gt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68280"/>
                <a:tab algn="l" pos="817560"/>
                <a:tab algn="l" pos="1266840"/>
                <a:tab algn="l" pos="1716120"/>
                <a:tab algn="l" pos="2165400"/>
                <a:tab algn="l" pos="2614680"/>
                <a:tab algn="l" pos="3063960"/>
                <a:tab algn="l" pos="3513240"/>
                <a:tab algn="l" pos="3962520"/>
                <a:tab algn="l" pos="4411800"/>
                <a:tab algn="l" pos="4861080"/>
                <a:tab algn="l" pos="5310360"/>
                <a:tab algn="l" pos="5759280"/>
                <a:tab algn="l" pos="6208560"/>
                <a:tab algn="l" pos="6657840"/>
                <a:tab algn="l" pos="7107120"/>
                <a:tab algn="l" pos="7556400"/>
                <a:tab algn="l" pos="8005680"/>
                <a:tab algn="l" pos="8454960"/>
                <a:tab algn="l" pos="890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68280"/>
                <a:tab algn="l" pos="817560"/>
                <a:tab algn="l" pos="1266840"/>
                <a:tab algn="l" pos="1716120"/>
                <a:tab algn="l" pos="2165400"/>
                <a:tab algn="l" pos="2614680"/>
                <a:tab algn="l" pos="3063960"/>
                <a:tab algn="l" pos="3513240"/>
                <a:tab algn="l" pos="3962520"/>
                <a:tab algn="l" pos="4411800"/>
                <a:tab algn="l" pos="4861080"/>
                <a:tab algn="l" pos="5310360"/>
                <a:tab algn="l" pos="5759280"/>
                <a:tab algn="l" pos="6208560"/>
                <a:tab algn="l" pos="6657840"/>
                <a:tab algn="l" pos="7107120"/>
                <a:tab algn="l" pos="7556400"/>
                <a:tab algn="l" pos="8005680"/>
                <a:tab algn="l" pos="8454960"/>
                <a:tab algn="l" pos="890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&lt;nom en anglais&gt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68280"/>
                <a:tab algn="l" pos="817560"/>
                <a:tab algn="l" pos="1266840"/>
                <a:tab algn="l" pos="1716120"/>
                <a:tab algn="l" pos="2165400"/>
                <a:tab algn="l" pos="2614680"/>
                <a:tab algn="l" pos="3063960"/>
                <a:tab algn="l" pos="3513240"/>
                <a:tab algn="l" pos="3962520"/>
                <a:tab algn="l" pos="4411800"/>
                <a:tab algn="l" pos="4861080"/>
                <a:tab algn="l" pos="5310360"/>
                <a:tab algn="l" pos="5759280"/>
                <a:tab algn="l" pos="6208560"/>
                <a:tab algn="l" pos="6657840"/>
                <a:tab algn="l" pos="7107120"/>
                <a:tab algn="l" pos="7556400"/>
                <a:tab algn="l" pos="8005680"/>
                <a:tab algn="l" pos="8454960"/>
                <a:tab algn="l" pos="890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&lt;nom en français&gt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68280"/>
                <a:tab algn="l" pos="817560"/>
                <a:tab algn="l" pos="1266840"/>
                <a:tab algn="l" pos="1716120"/>
                <a:tab algn="l" pos="2165400"/>
                <a:tab algn="l" pos="2614680"/>
                <a:tab algn="l" pos="3063960"/>
                <a:tab algn="l" pos="3513240"/>
                <a:tab algn="l" pos="3962520"/>
                <a:tab algn="l" pos="4411800"/>
                <a:tab algn="l" pos="4861080"/>
                <a:tab algn="l" pos="5310360"/>
                <a:tab algn="l" pos="5759280"/>
                <a:tab algn="l" pos="6208560"/>
                <a:tab algn="l" pos="6657840"/>
                <a:tab algn="l" pos="7107120"/>
                <a:tab algn="l" pos="7556400"/>
                <a:tab algn="l" pos="8005680"/>
                <a:tab algn="l" pos="8454960"/>
                <a:tab algn="l" pos="890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68280"/>
                <a:tab algn="l" pos="817560"/>
                <a:tab algn="l" pos="1266840"/>
                <a:tab algn="l" pos="1716120"/>
                <a:tab algn="l" pos="2165400"/>
                <a:tab algn="l" pos="2614680"/>
                <a:tab algn="l" pos="3063960"/>
                <a:tab algn="l" pos="3513240"/>
                <a:tab algn="l" pos="3962520"/>
                <a:tab algn="l" pos="4411800"/>
                <a:tab algn="l" pos="4861080"/>
                <a:tab algn="l" pos="5310360"/>
                <a:tab algn="l" pos="5759280"/>
                <a:tab algn="l" pos="6208560"/>
                <a:tab algn="l" pos="6657840"/>
                <a:tab algn="l" pos="7107120"/>
                <a:tab algn="l" pos="7556400"/>
                <a:tab algn="l" pos="8005680"/>
                <a:tab algn="l" pos="8454960"/>
                <a:tab algn="l" pos="890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68280"/>
                <a:tab algn="l" pos="817560"/>
                <a:tab algn="l" pos="1266840"/>
                <a:tab algn="l" pos="1716120"/>
                <a:tab algn="l" pos="2165400"/>
                <a:tab algn="l" pos="2614680"/>
                <a:tab algn="l" pos="3063960"/>
                <a:tab algn="l" pos="3513240"/>
                <a:tab algn="l" pos="3962520"/>
                <a:tab algn="l" pos="4411800"/>
                <a:tab algn="l" pos="4861080"/>
                <a:tab algn="l" pos="5310360"/>
                <a:tab algn="l" pos="5759280"/>
                <a:tab algn="l" pos="6208560"/>
                <a:tab algn="l" pos="6657840"/>
                <a:tab algn="l" pos="7107120"/>
                <a:tab algn="l" pos="7556400"/>
                <a:tab algn="l" pos="8005680"/>
                <a:tab algn="l" pos="8454960"/>
                <a:tab algn="l" pos="890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68280"/>
                <a:tab algn="l" pos="817560"/>
                <a:tab algn="l" pos="1266840"/>
                <a:tab algn="l" pos="1716120"/>
                <a:tab algn="l" pos="2165400"/>
                <a:tab algn="l" pos="2614680"/>
                <a:tab algn="l" pos="3063960"/>
                <a:tab algn="l" pos="3513240"/>
                <a:tab algn="l" pos="3962520"/>
                <a:tab algn="l" pos="4411800"/>
                <a:tab algn="l" pos="4861080"/>
                <a:tab algn="l" pos="5310360"/>
                <a:tab algn="l" pos="5759280"/>
                <a:tab algn="l" pos="6208560"/>
                <a:tab algn="l" pos="6657840"/>
                <a:tab algn="l" pos="7107120"/>
                <a:tab algn="l" pos="7556400"/>
                <a:tab algn="l" pos="8005680"/>
                <a:tab algn="l" pos="8454960"/>
                <a:tab algn="l" pos="890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41240" y="622440"/>
            <a:ext cx="8601120" cy="12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Relations FRAD entre plusieurs </a:t>
            </a:r>
            <a:br>
              <a:rPr sz="4000"/>
            </a:b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Points d'Accès Contrôlé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112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Entre une forme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autorisé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d'un point d'accès contrôlé et une autre forme </a:t>
            </a:r>
            <a:r>
              <a:rPr b="0" i="1" lang="en-GB" sz="3200" spc="-1" strike="noStrike">
                <a:solidFill>
                  <a:srgbClr val="333333"/>
                </a:solidFill>
                <a:latin typeface="Times New Roman"/>
              </a:rPr>
              <a:t>autorisé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pour la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Times New Roman"/>
              </a:rPr>
              <a:t>même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entité dans un autre systèm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ont le lien entre fichiers d'autorit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Codage MARC 21 : 7XX (zones de liaison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41240" y="622440"/>
            <a:ext cx="8601120" cy="12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Relations entre plusieurs </a:t>
            </a:r>
            <a:br>
              <a:rPr sz="4000"/>
            </a:b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Points d'Accès Contrôlé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112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orme parallèle dans une autre langu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3920" indent="0">
              <a:lnSpc>
                <a:spcPct val="95000"/>
              </a:lnSpc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Bibliothèque et Archives Canad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53920" indent="0">
              <a:lnSpc>
                <a:spcPct val="95000"/>
              </a:lnSpc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= Library and Archives Canad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utre système d'écritu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3920" indent="0">
              <a:lnSpc>
                <a:spcPct val="95000"/>
              </a:lnSpc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cyrillique ou chinois versus romanisatio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41240" y="622440"/>
            <a:ext cx="8601120" cy="12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Relations entre plusieurs </a:t>
            </a:r>
            <a:br>
              <a:rPr sz="4000"/>
            </a:b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Points d'Accès Contrôlés (2)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112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utres règl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53920" indent="0">
              <a:lnSpc>
                <a:spcPct val="95000"/>
              </a:lnSpc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Benoît XVI, pape, 1927-      (RCAA2 - français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53920" indent="0">
              <a:lnSpc>
                <a:spcPct val="95000"/>
              </a:lnSpc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Benedict XVI, Pope, 1927-  (AACR2 - anglais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53920" indent="0">
              <a:lnSpc>
                <a:spcPct val="95000"/>
              </a:lnSpc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53920" indent="0">
              <a:lnSpc>
                <a:spcPct val="95000"/>
              </a:lnSpc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dré (religieux de la Congrégation de Sainte-Croix ; 1845-1937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Afnor - BnF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53920" indent="0">
              <a:lnSpc>
                <a:spcPct val="95000"/>
              </a:lnSpc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dré, frère, saint, 1845-1937     (RCAA2 - BAC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Autres relations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lation entre un point d'accès contrôlé pour une entité-sujet et un indice de classification corresponda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Gautama Buddha </a:t>
            </a:r>
            <a:r>
              <a:rPr b="0" i="1" lang="en-GB" sz="2800" spc="-1" strike="noStrike">
                <a:solidFill>
                  <a:srgbClr val="333333"/>
                </a:solidFill>
                <a:latin typeface="Times New Roman"/>
              </a:rPr>
              <a:t>et l'interval d'indices LC</a:t>
            </a: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 BQ860-BQ939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lation entre un point d'accès contrôlé pour une entité et un identifia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Advances in the history of rhetorique (périodique) </a:t>
            </a:r>
            <a:r>
              <a:rPr b="0" i="1" lang="en-GB" sz="2800" spc="-1" strike="noStrike">
                <a:solidFill>
                  <a:srgbClr val="333333"/>
                </a:solidFill>
                <a:latin typeface="Times New Roman"/>
              </a:rPr>
              <a:t>et son ISSN</a:t>
            </a: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 1536-2426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41240" y="19476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e594d"/>
                </a:solidFill>
                <a:latin typeface="Arial"/>
              </a:rPr>
              <a:t>FRSAD</a:t>
            </a:r>
            <a:endParaRPr b="1" lang="en-US" sz="4000" spc="-1" strike="noStrike">
              <a:solidFill>
                <a:srgbClr val="0e594d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40880" y="1711080"/>
            <a:ext cx="8455320" cy="55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RSAD: Functional Requirements for Subject Authority Data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2005-2010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-28260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résidente: Marcia Lei Zeng (Kent State University, Ohio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49240" indent="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19040" indent="-314280">
              <a:lnSpc>
                <a:spcPct val="95000"/>
              </a:lnSpc>
              <a:spcBef>
                <a:spcPts val="575"/>
              </a:spcBef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FRBR + FRAD + FRSAD = modèle complet de l'univers bibliographiqu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