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976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976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5120"/>
            <a:ext cx="85950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626B439-ADDA-4B0C-B323-239AD58F9E18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359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, révisé 27 juillet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68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4680" indent="-203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63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ossess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action ou une circonstance (un fait accompli ou surven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événement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emplacement (des coordonnées topographi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ou contempora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s gé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301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 ou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Item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simultané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Item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, FRANAR,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e final, décembre 2008, 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é juin 2009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onctionnalités requises des données d’autorit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raduit par la BnF en 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types de données d'autorité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2010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designations de rel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(confirmer qu'elle correspond à celle recherchée)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à utiliser pour établir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u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s raisons du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attribuée ou adoptée par un individu ou par un grou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eut ne pas être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liées par la naissance, le mariage, l'adoption, l'union civile ou tout autre statut légal du même ordre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, description des fonds d'arch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e personnes et/ou d’organisme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fié par un nom particul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Gen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(naissance, mort, réside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ay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ffiliation (emploi, membre, ident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rofession/occup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Biographie/histo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information associée à la personne (saint, J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famille (clan, dynas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associ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résidence, associ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de la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e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informations (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ujet de l'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d'orig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caractéristique distinc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oca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 de la conservatio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RBR : Proven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ource immédiate d'acqui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Autres attributs définis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caractères ou de mots par lequel une entité est connue dans le monde ré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nom (la catégor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îne du nom (séquence de caractères numériques et/ou alphabétiques ou de symbol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mp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critur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ystème de translittération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expression, logo, etc. associé avec une entité, visant à la différencier de toute autre entité appartenant au domaine d'activité dans lequel l'identifiant est attrib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'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 code ou autre désignation indiquant la catégorie de l’identifiant (domaine d’attribution de l’identifi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on peut trouver une notice bibliographique ou une notice d'autorité ou un renvo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06520"/>
            <a:ext cx="89139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u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atut du point d’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 du point d’accès contrôlé (autorisé / vari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’accès indifférenci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, écriture, translittération de la racine du point d'accès et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acine (base) du point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léments additionnels (ajouts, qualific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vec lesquels sont formés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tation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responsable de la création et de la modification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de l'application et de l'interprétation des règles qu'elle crée et/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ntité donnée et une seconde entité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bibliographiquement distinc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de naviguer entre points d'accès contrôlé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des entité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stinc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5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 aussi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amill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, Expressions, Manifestations,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té Séculière/Religieu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, Identités bibliographiques multip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ertz, Barbara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utilise aussi les pseudonyme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arbara Michael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lizabeth Pe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physique, 3 identités bibliographiques distinc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3 notic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séculier / Nom en reli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oncalli, Angelo Giusepp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séculie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Jean XXIII, pap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ul Marti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officiel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anada. Premier ministre pour 2003-200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d'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rutus, Marcus Juniu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versu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Pseudo-Brutu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rckmann-Chatria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pseudonyme collectif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rckmann, Emi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hatrian, Alexand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2 personnes physiques, 3 identités bibliographiq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 (frères et soeur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tem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Personne e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ne Famille ou une Collectivité 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art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et sa Famil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associé à une Collectiv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 exempl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ersonne membre d'un groupe musical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uddy Rich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memb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uddy Rich Ba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Famil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énéalogiqu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aison des Conti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famille descendant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Maison des Cond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Famille et une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d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all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a fondé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ondation Famille Ha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prié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erlin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propriétai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érarc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ubordi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rédécesseur / Successeur (Nom précédent / suiv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cission / Fus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du Groupe 1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/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parta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lusieurs nom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e entité donnée utilisés dans différents contex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généralement récipro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des renvois d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aria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nom au nom avec lequel est formé le point d'accès contrôlé autorisé pou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u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4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s Oe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précédent / Nom ultérieur (nom suiv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hibeault, Jacques-Anato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précédent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rance, Anato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Nicholls, Charlott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ultérieu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rontë, Charlot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développée du 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ronyme/sigle/abrévi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s Oeuv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conventionnel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phonie héroï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t connue sous le nom conventionn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ymphonies, no 3, op. 55, mi bémol majeu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ur toute ent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1979640"/>
            <a:ext cx="494676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nte linguist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ntus Horatius Flaccu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a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ie Trapp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ppin perh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Un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45080" y="2050920"/>
            <a:ext cx="379584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latin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llemand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inno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ngl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point d'accès contrôlé et une autr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ans un autre systè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t le lien entre fichier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7XX (zones de liais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parallèle dans une autre 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ibliothèque et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= Library and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système d'écri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yrillique ou chinois versus romanis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oît XVI, pape, 1927-      (RCAA2 - franç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edict XVI, Pope, 1927-  (AACR2 - angl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 (religieux de la Congrégation de Sainte-Croix ; 1845-1937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fnor - BnF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, frère, saint, 1845-1937     (RCAA2 - BAC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utres rel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-sujet et un indice de classification correspond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autama Buddha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l'interval d'indices LC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Q860-BQ93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 et un 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dvances in the history of rhetorique (périodiqu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son ISS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1536-242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D: Functional Requirements for Subject Authority Dat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D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