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6588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24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08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0440" y="175392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08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0440" y="4565880"/>
            <a:ext cx="28659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4760"/>
            <a:ext cx="859644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2440" y="456588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2440" y="1753920"/>
            <a:ext cx="43437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65880"/>
            <a:ext cx="8901360" cy="25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6598044-47C4-4E25-87B3-F489BEE12509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2746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jui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59644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1753920"/>
            <a:ext cx="8901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4120" indent="-2124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16120" indent="-20484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7760" indent="-206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7760" indent="-20628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7760" indent="-20628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rait être 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chaque fois 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individ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organisme ou un groupe d’individus et/ou d’organismes agissant comme un to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e modè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le modè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ns avec l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Review Grou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s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Saint, Jr., le Vaill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umérotation (d'un congrès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de 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5770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2800" y="1564920"/>
            <a:ext cx="84726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nt la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nu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 ou artistique d'une œuvre ou d'une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roduc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matérielle et de la distribution d'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gestion juridiqu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docu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 Relations de bas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49071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riétés de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&lt;propriété de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 &lt;produit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 &lt;réalisé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&lt;conçu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9320" y="1690560"/>
            <a:ext cx="34657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versité McGil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liè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ncep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notion abstraite ou une id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gue ou préc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théories, procédés, techniques, prat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Obje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réalité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imée ou inanim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ation humaine ou présente dans la na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immeubles, navires, plan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Événeme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fait accompli ou surv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e limite aux faits accomplis ou survenus pouvant constituer le sujet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événements historiques, époques, périodes chronolog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Lieu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 coordonnées top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s ou contempora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idents top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r la Terre ou dans l’e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villes, rivières, montagnes, planè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es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 détail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seul attribut: “terme désignant l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Functional Requirements of Subject Authority Records (FRSA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 catalogu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une struc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o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nd possible les tâch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la navig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les 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-3319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sont caractérisées pa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concer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érentielle ou Autono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 ou 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Œuvre et une autr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Expression (expressions d'œuvr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ffére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p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Œuvr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0880" y="1722600"/>
            <a:ext cx="41958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hapitre, section, partie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Volume ou numéro d’un périodi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llustration d’un tex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ande sonore d’un fil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6200" y="1763640"/>
            <a:ext cx="41338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onographie dans une coll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rticle de journal ou de rev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des Expression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e la </a:t>
            </a:r>
            <a:r>
              <a:rPr b="1" lang="en-GB" sz="4000" spc="-1" strike="noStrike" u="sng">
                <a:solidFill>
                  <a:srgbClr val="0e594d"/>
                </a:solidFill>
                <a:uFillTx/>
                <a:latin typeface="Arial"/>
              </a:rPr>
              <a:t>même</a:t>
            </a: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ré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vi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rrangement (musiqu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Manifestation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ou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Manifestation et un Exemplaire (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Exempl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Manifest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460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tern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92360" y="1722600"/>
            <a:ext cx="386244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im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e miro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460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prés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ion parue simultané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modèl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olume d’une manifestation en plusieurs volu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ande sonore d’un fil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d’un ensemble multi-sup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s séparées ou composantes matériellement insépara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xempl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nfigu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é av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visé 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trait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matérielle d’un 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ntégrée, par ex.: une p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696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stincte, par ex.: un volu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556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ure d’un li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NAR, FRAR ou FRAD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NAR: Functional Requirements and Numbering of Authority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groupe de travail de l'IFL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pend de la Division du contrôl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Fran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ç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oise Bourdon (BnF) (1999-200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lenn Patton (OCLC) (2002-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229680"/>
            <a:ext cx="86500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andat des FRANA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880" y="1763640"/>
            <a:ext cx="853452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r les spécifications fonctionnelles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tudier la faisabilité d'un numéro d'identification international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ssurer la liaison avec tous les groupes connex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239400"/>
            <a:ext cx="86076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unctional Requirements for Authority Data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1795320"/>
            <a:ext cx="85345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remier volet du mandat des FRAN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élisation entité-rel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dèle conceptuel des données pertinentes au contrôle et à la gestion des points d'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iliter l'échange international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880" y="595080"/>
            <a:ext cx="8670960" cy="11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Arial"/>
              </a:rPr>
              <a:t>ATTENTION!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09200" y="1763280"/>
            <a:ext cx="8566200" cy="46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La suite s'appuie sur le 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anglais d'avril 2007 qui n'est qu'u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ocument de consultatio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Des modifications ultérieures sont 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voir avant la publication final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(terminologie française non-officiel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0840" indent="0" algn="ctr">
              <a:lnSpc>
                <a:spcPct val="95000"/>
              </a:lnSpc>
              <a:buNone/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rtée d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pertinentes au contrôle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 genre de vedettes à un niveau glob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tails pour vedettes de nom, nom-titre, titre uni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ssi les entités qui participent à la création des vedet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tails des attributs des entités du Groupe 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3 (concept, objet, événement, lie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'est à dire: les autorités de sujet (vedettes-matiè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 FRSAR (2005-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2 et du Groupe 1 (termes de relation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sur le traitement des collec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administratives dans les notices d'autorit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cteurs, 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sagers qui se servent d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it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fréquemment,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it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pour confirmer quelle correspond à celle recherché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it valider la forme de la vedette retenue comme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ttre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liciter les liens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liciter les liens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 du catalogu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928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 (des FRBR)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,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famill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, expression, manifestation, 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, objet, événement, 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qui sont l'objet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entités dites d'autorité s'y réfèr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0880" y="1742760"/>
            <a:ext cx="848700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individu ou un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établie ou adoptée par un individu ou par un group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(FRAD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personne bibliographique, pas toujours une personne phys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es conjoints, pseudonymes multiples utilisés par une seule 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8455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ux personnes ou plus reliées par la naissance, le mariage, l'adoption, ou tout autre statut, ou qui se présentent comme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'ISAAR(CPF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it logiquement partie du Groupe 2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1240" y="1754280"/>
            <a:ext cx="8910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ou un groupe d’individus et/ou d’organismes agissant comme un tou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groupe doit être nom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grès, les con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gouvern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e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s entités constituent les données d'autorité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document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pour confirmer que le document correspond à celui recherch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’entité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mots ou caractères par lequel une entité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phrase, logo, sigle, etc. associé de façon unique avec une entité, qui différencie cette entité d'autres entités dans le domaine d'activité dans lequel l'identifiant est appliqu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que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une notice bibliographique ou une notice d'autorité ou une référence peut être loc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vedettes établies ou autorisé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ou ré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7760" indent="0" algn="ctr">
              <a:lnSpc>
                <a:spcPct val="93000"/>
              </a:lnSpc>
              <a:buNone/>
              <a:tabLst>
                <a:tab algn="l" pos="0"/>
                <a:tab algn="l" pos="347760"/>
                <a:tab algn="l" pos="795240"/>
                <a:tab algn="l" pos="1244520"/>
                <a:tab algn="l" pos="1693800"/>
                <a:tab algn="l" pos="2143080"/>
                <a:tab algn="l" pos="2592360"/>
                <a:tab algn="l" pos="3041640"/>
                <a:tab algn="l" pos="3490920"/>
                <a:tab algn="l" pos="3940200"/>
                <a:tab algn="l" pos="4389480"/>
                <a:tab algn="l" pos="4838760"/>
                <a:tab algn="l" pos="5288040"/>
                <a:tab algn="l" pos="5737320"/>
                <a:tab algn="l" pos="6186600"/>
                <a:tab algn="l" pos="6635880"/>
                <a:tab algn="l" pos="7085160"/>
                <a:tab algn="l" pos="7534440"/>
                <a:tab algn="l" pos="7983360"/>
                <a:tab algn="l" pos="8432640"/>
                <a:tab algn="l" pos="8881920"/>
                <a:tab algn="l" pos="9331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 / 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ur lesquels se basent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organisation responsable pour la création ou la modification d'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pour l'application et l'interprétation des 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dans les autor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des Personnes, des Familles, des Collectivités,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et les entités qu'ils représent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168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mpact d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1240" y="1669680"/>
            <a:ext cx="857088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« 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un cadre conceptuel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ermettant de comprendre clairement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us une forme précisément exprim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dans un langage qui soit parlant pour tout le monde, l’essence même de ce sur quoi la notice bibliographique est censée renseigner 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langage commun facilite la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ntérêt renouvelé pour ce domaine d'étu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mpact des FRBR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sur les normes de catalogag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ISBD : niveau minim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E ICC et la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Déclaration des principes internationaux de catalo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rmes de catalogage: RCAA2 =&gt;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DA = Resource Description and Acc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 françai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87"/>
              </a:spcBef>
              <a:spcAft>
                <a:spcPts val="5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ssources : description et 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DA et FRBR/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s FRBR et FRAD sont intégrés à la structure et à la philosophie des R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e des RDA organisé selon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Attributs des 11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Relations par groupes d'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Tâches en FRBR et 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vs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0360" y="135000"/>
            <a:ext cx="86281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 Review Group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09200" y="1774440"/>
            <a:ext cx="856620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3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arder à jour le modèle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parer des documents complé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motion du modèle et liaison avec des groupes connex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74260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rojets courant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09200" y="1774800"/>
            <a:ext cx="894564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mendement à l'entité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sur les agrég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Namespace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 les entités FRBR sur le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SA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1711080"/>
            <a:ext cx="84553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SAR: Functional Requirements for Subject Authority Record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5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e: Marcia Lei Zeng (Kent State University, Ohi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+ FRAD + FRSAR = modèle complet de l'univers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9560" y="250920"/>
            <a:ext cx="86392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de Travail FRBR/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731600"/>
            <a:ext cx="84661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3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-présidents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rtin Doerr pour l'ICOM CIDOC CRM SI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k LeBœuf pour l'IFLA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M = Modèle conceptuel de référence du CIDO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oo version 0.9 en janvier 200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9560" y="250920"/>
            <a:ext cx="86392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de Travail FRBR/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0360" y="1731600"/>
            <a:ext cx="84661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ire le modèle FRBR en méthodologie orientée objet (nommé FRBRo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richir des concepts du CR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75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iliter l'interopérabilité sémantique des structures informationnelles des bibliothèques et des mus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187200"/>
            <a:ext cx="8586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oo et CIDOC CR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30080" y="1680840"/>
            <a:ext cx="886320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nformation sur le groupe de travail FRBRoo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Times New Roman"/>
              </a:rPr>
              <a:t>http://www.ifla.org/VII/s13/wgfrbr/FRBR-CRMdialogue_wg.htm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frbr_inro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s de consul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frbr_drafts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DOC CR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cidoc.ics.forth.gr/index.htm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9560" y="177480"/>
            <a:ext cx="8305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Informations supplémentai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9720" y="1346040"/>
            <a:ext cx="875844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FLANET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s13/wgfrbr/index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d4/wg-franar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ifla.org/VII/s29/wgfrsar.ht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discussion FRBR à l'IFL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infoserv.inist.fr/wwsympa.fcgi/info/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logue FRB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ttp://www.frbr.org/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1240" y="219240"/>
            <a:ext cx="86076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erci de votre atten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1240" y="1763640"/>
            <a:ext cx="828864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actions et commentai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tricia.riva@banq.qc.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éta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éta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10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(ou item o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emplai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0840" indent="-3160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