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</p:sldIdLst>
  <p:sldSz cx="10080625" cy="7559675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9644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89013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1240" y="4565880"/>
            <a:ext cx="89013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9644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43437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2440" y="1753920"/>
            <a:ext cx="43437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1240" y="4565880"/>
            <a:ext cx="43437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02440" y="4565880"/>
            <a:ext cx="43437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9644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28659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50840" y="1753920"/>
            <a:ext cx="28659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60440" y="1753920"/>
            <a:ext cx="28659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1240" y="4565880"/>
            <a:ext cx="28659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50840" y="4565880"/>
            <a:ext cx="28659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60440" y="4565880"/>
            <a:ext cx="28659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9644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1240" y="1753920"/>
            <a:ext cx="8901360" cy="53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9644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8901360" cy="53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9644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4343760" cy="53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02440" y="1753920"/>
            <a:ext cx="4343760" cy="53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9644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194760"/>
            <a:ext cx="8596440" cy="57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9644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43437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02440" y="1753920"/>
            <a:ext cx="4343760" cy="53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1240" y="4565880"/>
            <a:ext cx="43437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9644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4343760" cy="53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02440" y="1753920"/>
            <a:ext cx="43437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02440" y="4565880"/>
            <a:ext cx="43437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9644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43437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02440" y="1753920"/>
            <a:ext cx="43437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1240" y="4565880"/>
            <a:ext cx="89013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453960" cy="7560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8924760" y="6962760"/>
            <a:ext cx="365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40B636C3-C54B-42B1-B841-154B3C3AC678}" type="slidenum"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3160" y="6846840"/>
            <a:ext cx="2746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12 juin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9644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e594d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41240" y="1753920"/>
            <a:ext cx="8901360" cy="53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284120" indent="-2124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716120" indent="-20484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147760" indent="-206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147760" indent="-20628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147760" indent="-20628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1240" y="193320"/>
            <a:ext cx="8609040" cy="12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endParaRPr b="1" lang="en-US" sz="44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40880" y="323640"/>
            <a:ext cx="8913960" cy="68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0e594d"/>
                </a:solidFill>
                <a:latin typeface="Arial"/>
                <a:ea typeface="Arial"/>
              </a:rPr>
              <a:t>Les modèles conceptuel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0e594d"/>
                </a:solidFill>
                <a:latin typeface="Arial"/>
                <a:ea typeface="Arial"/>
              </a:rPr>
              <a:t>FRBR et FRAD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lvl="1"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lvl="1"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333333"/>
                </a:solidFill>
                <a:latin typeface="Times New Roman"/>
                <a:ea typeface="Arial Unicode MS"/>
              </a:rPr>
              <a:t>présenté pa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333333"/>
                </a:solidFill>
                <a:latin typeface="Times New Roman"/>
                <a:ea typeface="Arial Unicode MS"/>
              </a:rPr>
              <a:t>Pat Riv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253200" y="5580000"/>
            <a:ext cx="3154320" cy="13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67800" y="135000"/>
            <a:ext cx="8680680" cy="14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Manifestat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99840" y="1754280"/>
            <a:ext cx="8577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850"/>
              </a:spcBef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matérialisation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de l’expression d’une 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850"/>
              </a:spcBef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'ensemble des exemplaires ayant les mêmes caractéristiques, aussi bien la présentation matérielle que le contenu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850"/>
              </a:spcBef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ourrait être une édition commerciale, ou un objet unique comme un manuscrit d’auteu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77880" y="166320"/>
            <a:ext cx="8670960" cy="13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Express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99840" y="1742760"/>
            <a:ext cx="8577000" cy="51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réalisation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intellectuelle ou artistique d’une 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a forme intellectuelle ou artistique spécifique que revêt une œuvre chaque fois qu’elle est réalisé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s mots spécifiques qui forment un texte, les notes spécifiques d'une œuvre musica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4280" y="355680"/>
            <a:ext cx="8764560" cy="10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Œuvr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9840" y="1701720"/>
            <a:ext cx="8577000" cy="51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e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création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intellectuelle ou artistique déterminé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bstraction du contenu commun de ses express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éside dans une identité de contenu au sein des diverses express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e correspond à aucun objet matériel iso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03160" y="406080"/>
            <a:ext cx="8545680" cy="11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Qu'est-ce qu'un “livre”?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29200" y="1973160"/>
            <a:ext cx="33624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emplai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61960" y="2003040"/>
            <a:ext cx="42148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J'ai perdu mon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liv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l faut commander ce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liv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J'aimerais lire ce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liv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en français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e film s'inspire de mon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liv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préféré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Groupe 1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4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OE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trouve sa réalisation da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e concrétise da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est représentée pa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EMPLAI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Œuvr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it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orm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0820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L'ava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ièce de théât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1668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Express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it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orm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ang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46200" y="1699920"/>
            <a:ext cx="4511880" cy="545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The mise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extu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1987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nglai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Manifestat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47280" y="1492200"/>
            <a:ext cx="4443480" cy="52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it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ention de responsabil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eu d'édi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Éditeu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 d'édi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ype de suppor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ités matériel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imens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dentifia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92360" y="1430280"/>
            <a:ext cx="4133880" cy="57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The miser : a comed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 new translation by Albert Berm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ew York, N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pplause Theatre Book Publisher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1987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vre imprim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126 p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19 c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SBN 0936839759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Exemplair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dentifia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rovenan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nnotations / Inscript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0820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Q1825 E5 1987b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ch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cu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47640" y="364680"/>
            <a:ext cx="870264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du Groupe 2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14320" y="1701720"/>
            <a:ext cx="846144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éfinitions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Personn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(un individu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Collectivité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(un organisme ou un groupe d’individus et/ou d’organismes agissant comme un tout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Pla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2520" cy="53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RB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tâches des utilisateur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le modèl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RAD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tâches des utilisateur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le modèl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ens avec les RD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RBR Review Group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Personn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s (naissance, mort, d'activité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itres (Duc, Sir, prof., dr.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tres qualificatifs (Saint, Jr., le Vaillant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Collectivité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umérotation (d'un congrès, etc.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ocalisation (localisé à, tenu à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s (de tenu, d'activité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tres qualificatifs (de statut juridique, ajout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Groupe 2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4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ERSON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LLECTIV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responsable pou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ités du groupe 1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emplai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2920" y="198360"/>
            <a:ext cx="857700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du Groupe 2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02800" y="1564920"/>
            <a:ext cx="8472600" cy="53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Ont la responsabilité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u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contenu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intellectuel ou artistique d'une œuvre ou d'une 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e l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production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matérielle et de la distribution d'une 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e l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gestion juridiqu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d'un docum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Groupe 2 Relations de bas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40880" y="1681200"/>
            <a:ext cx="4907160" cy="54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Variétés de responsabilité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ocument &lt;propriété de&gt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ifestation &lt;produite par&gt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ression &lt;réalisée par&gt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 &lt;conçue par&gt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719320" y="1690560"/>
            <a:ext cx="3465720" cy="543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emple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iversité McGil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pplause Theatre Book Publisher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lbert Berm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oliè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7880" y="250920"/>
            <a:ext cx="8670960" cy="12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du Groupe 3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73280" y="1774440"/>
            <a:ext cx="8503920" cy="51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ont les sujets des œuvres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ncep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Obje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Événement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eu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Concept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e notion abstraite ou une idé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Vague ou précis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 exemple: théories, procédés, techniques, pratiques, 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Objet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e réalité matériel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nimée ou inanimé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réation humaine ou présente dans la natu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 exemple: immeubles, navires, plantes, 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Événement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fait accompli ou survenu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e limite aux faits accomplis ou survenus pouvant constituer le sujet d’une 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 exemple: événements historiques, époques, périodes chronologiques, 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Lieu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es coordonnées topographi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Historiques ou contemporain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ccidents topographi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ur la Terre ou dans l’espa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 exemple: villes, rivières, montagnes, planètes, 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FRB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unctional Requirements for Bibliographic Record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Groupe de travail du Comité permanent de la Section de catalogage de l’IFLA, 1992-1997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ublié en 1998 en anglai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 français: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pécifications fonctionnelles des notices bibliographiques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, publiées par la Bibliothèque nationale de France en 2001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Groupe 3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cun détail en FRB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seul attribut: “terme désignant le”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éfère aux: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Functional Requirements of Subject Authority Records (FRSAR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Groupe 3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NCEP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OBJE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ÉVÉNEM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EU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+ entités des groupes 1 et 2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ont les sujets d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'entité du groupe 1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6760" y="239400"/>
            <a:ext cx="8723160" cy="12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dans le catalogu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82640" y="1743120"/>
            <a:ext cx="8493120" cy="54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9680" indent="-331920">
              <a:lnSpc>
                <a:spcPct val="95000"/>
              </a:lnSpc>
              <a:spcBef>
                <a:spcPts val="575"/>
              </a:spcBef>
              <a:spcAft>
                <a:spcPts val="2837"/>
              </a:spcAft>
              <a:buClr>
                <a:srgbClr val="0066cc"/>
              </a:buClr>
              <a:buFont typeface="Symbol" charset="2"/>
              <a:buChar char=""/>
              <a:tabLst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réent une structu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9680" indent="-33192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lloc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nd possible les tâche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Trouv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et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Identifie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9680" indent="-33192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ermettent la navig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6760" y="239400"/>
            <a:ext cx="8723160" cy="12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bibliographiques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les entités du Groupe 1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82640" y="1743120"/>
            <a:ext cx="8493120" cy="54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9680" indent="-331920">
              <a:lnSpc>
                <a:spcPct val="95000"/>
              </a:lnSpc>
              <a:spcBef>
                <a:spcPts val="575"/>
              </a:spcBef>
              <a:spcAft>
                <a:spcPts val="2837"/>
              </a:spcAft>
              <a:buClr>
                <a:srgbClr val="0066cc"/>
              </a:buClr>
              <a:buFont typeface="Symbol" charset="2"/>
              <a:buChar char=""/>
              <a:tabLst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lations sont caractérisées par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ités concerné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éférentielle ou Autonom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tie dépendante ou partie indépendan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Niveau Œuvre ou Express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une Œuvre et une autre 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une Expression et une autre Expression (expressions d'œuvre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différentes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une Expression et une autre Œuvre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Niveau Œuvre ou Express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ui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upplém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lém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ésum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dap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ransform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mi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semble/Partie : Œuvre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ou Express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40880" y="1722600"/>
            <a:ext cx="4195800" cy="52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tie dépendan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2696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Chapitre, section, partie, etc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2696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Volume ou numéro d’un périodiqu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2696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Partie intellectuelle d’une œuvre en plusieurs parti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2696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Illustration d’un text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2696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Bande sonore d’un fil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46200" y="1763640"/>
            <a:ext cx="413388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tie indépendan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2696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Monographie dans une collec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2696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Article de journal ou de revu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2696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Partie intellectuelle d’une œuvre en plusieurs parti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des Expressions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e la </a:t>
            </a:r>
            <a:r>
              <a:rPr b="1" lang="en-GB" sz="4000" spc="-1" strike="noStrike" u="sng">
                <a:solidFill>
                  <a:srgbClr val="0e594d"/>
                </a:solidFill>
                <a:uFillTx/>
                <a:latin typeface="Arial"/>
              </a:rPr>
              <a:t>même</a:t>
            </a: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 Œuvr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brég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évi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raduc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rrangement (musiqu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Niveau Manifestation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 ou Exemplair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Manifestations de l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mêm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une Manifestation et un Exemplaire (manifestations de l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mêm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expression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Exemplair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Manifestation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produc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1074600" indent="0">
              <a:lnSpc>
                <a:spcPct val="95000"/>
              </a:lnSpc>
              <a:spcAft>
                <a:spcPts val="286"/>
              </a:spcAft>
              <a:buNone/>
              <a:tabLst>
                <a:tab algn="l" pos="0"/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lternativ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92360" y="1722600"/>
            <a:ext cx="3862440" cy="54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produc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icroreproduc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éim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ac-simi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ite miroir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1074600" indent="0">
              <a:lnSpc>
                <a:spcPct val="95000"/>
              </a:lnSpc>
              <a:spcAft>
                <a:spcPts val="286"/>
              </a:spcAft>
              <a:buNone/>
              <a:tabLst>
                <a:tab algn="l" pos="0"/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tre présen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édition parue simultanément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Méthodologie FRB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4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modèle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entité-relation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(E-R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éfinition de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entité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ste de leur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attribu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dentification de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relations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(liens) entre les entité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rrélation avec les quatre types d’opérations effectuées par les utilisateurs (les tâche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semble/Partie : Manifestat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Volume d’une manifestation en plusieurs volum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Bande sonore d’un film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osante d’un ensemble multi-suppor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osantes séparées ou composantes matériellement inséparab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Exemplair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configur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produc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0820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lié avec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ivisé e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trait d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produc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icroreproduc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ac-simi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semble/Partie : Exemplair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osante matérielle d’un exemplai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2696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intégrée, par ex.: une pag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2696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distincte, par ex.: un volum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liure d’un li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25480" y="114480"/>
            <a:ext cx="8524800" cy="13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FRANAR, FRAR ou FRAD?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30080" y="1754280"/>
            <a:ext cx="85456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RANAR: Functional Requirements and Numbering of Authority Record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groupe de travail de l'IFL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épend de la Division du contrôle bibliographiq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résidents: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Fran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ç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oise Bourdon (BnF) (1999-2001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Glenn Patton (OCLC) (2002-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00200" y="229680"/>
            <a:ext cx="8650080" cy="12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Mandat des FRANA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40880" y="1763640"/>
            <a:ext cx="853452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éfinir les spécifications fonctionnelles des notices d'autor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Étudier la faisabilité d'un numéro d'identification international des données d'autor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ssurer la liaison avec tous les groupes connex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1240" y="239400"/>
            <a:ext cx="8607600" cy="14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Functional Requirements for Authority Data (FRAD)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40880" y="1795320"/>
            <a:ext cx="8534520" cy="508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 premier volet du mandat des FRANA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odélisation entité-rel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odèle conceptuel des données pertinentes au contrôle et à la gestion des points d'accè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aciliter l'échange international des données d'autor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77880" y="595080"/>
            <a:ext cx="8670960" cy="11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Arial"/>
              </a:rPr>
              <a:t>ATTENTION!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709200" y="1763280"/>
            <a:ext cx="8566200" cy="466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0840" indent="0" algn="ctr">
              <a:lnSpc>
                <a:spcPct val="95000"/>
              </a:lnSpc>
              <a:buNone/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333333"/>
                </a:solidFill>
                <a:latin typeface="Times New Roman"/>
                <a:ea typeface="Arial Unicode MS"/>
              </a:rPr>
              <a:t>La suite s'appuie sur le tex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20840" indent="0" algn="ctr">
              <a:lnSpc>
                <a:spcPct val="95000"/>
              </a:lnSpc>
              <a:buNone/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333333"/>
                </a:solidFill>
                <a:latin typeface="Times New Roman"/>
                <a:ea typeface="Arial Unicode MS"/>
              </a:rPr>
              <a:t>anglais d'avril 2007 qui n'est qu'u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20840" indent="0" algn="ctr">
              <a:lnSpc>
                <a:spcPct val="95000"/>
              </a:lnSpc>
              <a:buNone/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333333"/>
                </a:solidFill>
                <a:latin typeface="Times New Roman"/>
                <a:ea typeface="Arial Unicode MS"/>
              </a:rPr>
              <a:t>document de consultation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20840" indent="0" algn="ctr">
              <a:lnSpc>
                <a:spcPct val="95000"/>
              </a:lnSpc>
              <a:buNone/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20840" indent="0" algn="ctr">
              <a:lnSpc>
                <a:spcPct val="95000"/>
              </a:lnSpc>
              <a:buNone/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333333"/>
                </a:solidFill>
                <a:latin typeface="Times New Roman"/>
                <a:ea typeface="Arial Unicode MS"/>
              </a:rPr>
              <a:t>Des modifications ultérieures sont à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20840" indent="0" algn="ctr">
              <a:lnSpc>
                <a:spcPct val="95000"/>
              </a:lnSpc>
              <a:buNone/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333333"/>
                </a:solidFill>
                <a:latin typeface="Times New Roman"/>
                <a:ea typeface="Arial Unicode MS"/>
              </a:rPr>
              <a:t>prévoir avant la publication finale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20840" indent="0" algn="ctr">
              <a:lnSpc>
                <a:spcPct val="95000"/>
              </a:lnSpc>
              <a:buNone/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333333"/>
                </a:solidFill>
                <a:latin typeface="Times New Roman"/>
                <a:ea typeface="Arial Unicode MS"/>
              </a:rPr>
              <a:t>(terminologie française non-officiell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20840" indent="0" algn="ctr">
              <a:lnSpc>
                <a:spcPct val="95000"/>
              </a:lnSpc>
              <a:buNone/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Portée des 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onnées pertinentes au contrôle d'autor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out genre de vedettes à un niveau globa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étails pour vedettes de nom, nom-titre, titre uniform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ssi les entités qui participent à la création des vedett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Pas inclu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etails des attributs des entités du Groupe 3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lations entre les entités du Groupe 3 (concept, objet, événement, lieu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'est à dire: les autorités de sujet (vedettes-matièr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éfère aux FRSAR (2005-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Pas inclu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lations entre les entités du Groupe 2 et du Groupe 1 (termes de relation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onnées sur le traitement des collect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onnées administratives dans les notices d'autorités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Utilisateurs selon les FRB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2276"/>
              </a:spcBef>
              <a:spcAft>
                <a:spcPts val="227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cteurs, utilisateurs des systèmes informatisés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2276"/>
              </a:spcBef>
              <a:spcAft>
                <a:spcPts val="227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ersonnel des bibliothèques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2276"/>
              </a:spcBef>
              <a:spcAft>
                <a:spcPts val="227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sponsables de la gestion des bases de donné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29720" y="72720"/>
            <a:ext cx="8618760" cy="13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Utilisateurs selon les 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20720" y="1617480"/>
            <a:ext cx="85550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 personnel des bibliothèques qui travaille directement avec les notices d'autor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sagers qui se servent des données d'autor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oit directem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lus fréquemment, via les points d'accès contrôlés dans les notices bibliographi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8680" y="166320"/>
            <a:ext cx="865980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7760" indent="0" algn="ctr">
              <a:lnSpc>
                <a:spcPct val="93000"/>
              </a:lnSpc>
              <a:buNone/>
              <a:tabLst>
                <a:tab algn="l" pos="0"/>
                <a:tab algn="l" pos="347760"/>
                <a:tab algn="l" pos="795240"/>
                <a:tab algn="l" pos="1244520"/>
                <a:tab algn="l" pos="1693800"/>
                <a:tab algn="l" pos="2143080"/>
                <a:tab algn="l" pos="2592360"/>
                <a:tab algn="l" pos="3041640"/>
                <a:tab algn="l" pos="3490920"/>
                <a:tab algn="l" pos="3940200"/>
                <a:tab algn="l" pos="4389480"/>
                <a:tab algn="l" pos="4838760"/>
                <a:tab algn="l" pos="5288040"/>
                <a:tab algn="l" pos="5737320"/>
                <a:tab algn="l" pos="6186600"/>
                <a:tab algn="l" pos="6635880"/>
                <a:tab algn="l" pos="7085160"/>
                <a:tab algn="l" pos="7534440"/>
                <a:tab algn="l" pos="7983360"/>
                <a:tab algn="l" pos="8432640"/>
                <a:tab algn="l" pos="8881920"/>
                <a:tab algn="l" pos="9331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Tâches qu’accomplissent 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les utilisateurs (FRAD)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00200" y="1763640"/>
            <a:ext cx="85788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Trouv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les entités qui correspondent aux critères de recherche,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oit explorer l'univers des entités bibliographi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Identifi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une entité pour confirmer quelle correspond à celle recherchée,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oit valider la forme de la vedette retenue comme point d'accès contrô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Contextualise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Justifie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09560" y="134640"/>
            <a:ext cx="863928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7760" indent="0" algn="ctr">
              <a:lnSpc>
                <a:spcPct val="93000"/>
              </a:lnSpc>
              <a:buNone/>
              <a:tabLst>
                <a:tab algn="l" pos="0"/>
                <a:tab algn="l" pos="347760"/>
                <a:tab algn="l" pos="795240"/>
                <a:tab algn="l" pos="1244520"/>
                <a:tab algn="l" pos="1693800"/>
                <a:tab algn="l" pos="2143080"/>
                <a:tab algn="l" pos="2592360"/>
                <a:tab algn="l" pos="3041640"/>
                <a:tab algn="l" pos="3490920"/>
                <a:tab algn="l" pos="3940200"/>
                <a:tab algn="l" pos="4389480"/>
                <a:tab algn="l" pos="4838760"/>
                <a:tab algn="l" pos="5288040"/>
                <a:tab algn="l" pos="5737320"/>
                <a:tab algn="l" pos="6186600"/>
                <a:tab algn="l" pos="6635880"/>
                <a:tab algn="l" pos="7085160"/>
                <a:tab algn="l" pos="7534440"/>
                <a:tab algn="l" pos="7983360"/>
                <a:tab algn="l" pos="8432640"/>
                <a:tab algn="l" pos="8881920"/>
                <a:tab algn="l" pos="9331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Tâche FRAD : Contextualise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30080" y="1608120"/>
            <a:ext cx="8547120" cy="52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ettre une personne, une collectivité, une œuvre, etc. dans son contex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liciter les liens entre deux ou plusieurs personnes, collectivités, œuvres, etc.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liciter les liens entre une personne, une collectivité, etc. et un nom par lequel cette personne, collectivité, etc. est conn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09560" y="134640"/>
            <a:ext cx="863928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7760" indent="0" algn="ctr">
              <a:lnSpc>
                <a:spcPct val="93000"/>
              </a:lnSpc>
              <a:buNone/>
              <a:tabLst>
                <a:tab algn="l" pos="0"/>
                <a:tab algn="l" pos="347760"/>
                <a:tab algn="l" pos="795240"/>
                <a:tab algn="l" pos="1244520"/>
                <a:tab algn="l" pos="1693800"/>
                <a:tab algn="l" pos="2143080"/>
                <a:tab algn="l" pos="2592360"/>
                <a:tab algn="l" pos="3041640"/>
                <a:tab algn="l" pos="3490920"/>
                <a:tab algn="l" pos="3940200"/>
                <a:tab algn="l" pos="4389480"/>
                <a:tab algn="l" pos="4838760"/>
                <a:tab algn="l" pos="5288040"/>
                <a:tab algn="l" pos="5737320"/>
                <a:tab algn="l" pos="6186600"/>
                <a:tab algn="l" pos="6635880"/>
                <a:tab algn="l" pos="7085160"/>
                <a:tab algn="l" pos="7534440"/>
                <a:tab algn="l" pos="7983360"/>
                <a:tab algn="l" pos="8432640"/>
                <a:tab algn="l" pos="8881920"/>
                <a:tab algn="l" pos="9331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Tâche FRAD : Justifie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30080" y="1608120"/>
            <a:ext cx="8547120" cy="52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ocumenter le choix du nom ou de la forme du nom sur lequel est basé un point d'accès contrô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âche du catalogueu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selon 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8909280" cy="53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ités bibliographiques (des FRBR)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ersonne,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famill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, collectiv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, expression, manifestation, exemplai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ncept, objet, événement, lieu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ités qui sont l'objet des notices d'autor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s entités dites d'autorité s'y réfèr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Personn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40880" y="1742760"/>
            <a:ext cx="8487000" cy="54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individu ou une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identité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établie ou adoptée par un individu ou par un groupe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(FRAD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e personne bibliographique, pas toujours une personne physiq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seudonymes conjoints, pseudonymes multiples utilisés par une seule person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Famill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40880" y="1681200"/>
            <a:ext cx="8455320" cy="54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eux personnes ou plus reliées par la naissance, le mariage, l'adoption, ou tout autre statut, ou qui se présentent comme une famil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e l'ISAAR(CPF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ait logiquement partie du Groupe 2 en FRB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Collectivité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41240" y="1754280"/>
            <a:ext cx="8910720" cy="53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organisme ou un groupe d’individus et/ou d’organismes agissant comme un tou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Aft>
                <a:spcPts val="1701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 groupe doit être nomm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rend les congrès, les conférenc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rend les gouvernemen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Groupe 2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4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ERSON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AMIL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LLECTIV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responsable pou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ités du groupe 1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emplai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29720" y="187200"/>
            <a:ext cx="862020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en 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30080" y="1690200"/>
            <a:ext cx="8545680" cy="51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6440" indent="-3016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m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-3016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dentifia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-3016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oint d'accès contrô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-3016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es entités constituent les données d'autorité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7760" indent="0" algn="ctr">
              <a:lnSpc>
                <a:spcPct val="93000"/>
              </a:lnSpc>
              <a:buNone/>
              <a:tabLst>
                <a:tab algn="l" pos="0"/>
                <a:tab algn="l" pos="347760"/>
                <a:tab algn="l" pos="795240"/>
                <a:tab algn="l" pos="1244520"/>
                <a:tab algn="l" pos="1693800"/>
                <a:tab algn="l" pos="2143080"/>
                <a:tab algn="l" pos="2592360"/>
                <a:tab algn="l" pos="3041640"/>
                <a:tab algn="l" pos="3490920"/>
                <a:tab algn="l" pos="3940200"/>
                <a:tab algn="l" pos="4389480"/>
                <a:tab algn="l" pos="4838760"/>
                <a:tab algn="l" pos="5288040"/>
                <a:tab algn="l" pos="5737320"/>
                <a:tab algn="l" pos="6186600"/>
                <a:tab algn="l" pos="6635880"/>
                <a:tab algn="l" pos="7085160"/>
                <a:tab algn="l" pos="7534440"/>
                <a:tab algn="l" pos="7983360"/>
                <a:tab algn="l" pos="8432640"/>
                <a:tab algn="l" pos="8881920"/>
                <a:tab algn="l" pos="9331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Tâches qu’accomplissent 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les utilisateurs (FRBR)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4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trouv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les documents qui correspondent aux critères de recherch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identifi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une entité pour confirmer que le document correspond à celui recherch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choisi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une entité qui soit en adéquation avec ses besoi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avoir accès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à l’entité décri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3280" y="166320"/>
            <a:ext cx="8578800" cy="12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Nom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47280" y="1658520"/>
            <a:ext cx="8628120" cy="521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6440" indent="-3016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caractère ou une séquence de mots ou caractères par lequel une entité est conn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-3016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 nom ou terme de bas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-3016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el qu'utilisé dans le monde (à l'extérieur des bibliothèque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41240" y="156960"/>
            <a:ext cx="8607600" cy="12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Identifiant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9040" y="1742760"/>
            <a:ext cx="8586720" cy="51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6440" indent="-3016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numéro, code, mot, phrase, logo, sigle, etc. associé de façon unique avec une entité, qui différencie cette entité d'autres entités dans le domaine d'activité dans lequel l'identifiant est appliqu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-3016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lus que les identifiants bibliographi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8680" y="166320"/>
            <a:ext cx="8659800" cy="12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Point d'Accès Contrôlé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07760" y="1879560"/>
            <a:ext cx="856764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6440" indent="-3016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nom, terme, code, etc. sous lequel une notice bibliographique ou une notice d'autorité ou une référence peut être localisé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-3016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rend les vedettes établies ou autorisées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-3016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t les variantes ou référenc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09560" y="146160"/>
            <a:ext cx="8639280" cy="12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7760" indent="0" algn="ctr">
              <a:lnSpc>
                <a:spcPct val="93000"/>
              </a:lnSpc>
              <a:buNone/>
              <a:tabLst>
                <a:tab algn="l" pos="0"/>
                <a:tab algn="l" pos="347760"/>
                <a:tab algn="l" pos="795240"/>
                <a:tab algn="l" pos="1244520"/>
                <a:tab algn="l" pos="1693800"/>
                <a:tab algn="l" pos="2143080"/>
                <a:tab algn="l" pos="2592360"/>
                <a:tab algn="l" pos="3041640"/>
                <a:tab algn="l" pos="3490920"/>
                <a:tab algn="l" pos="3940200"/>
                <a:tab algn="l" pos="4389480"/>
                <a:tab algn="l" pos="4838760"/>
                <a:tab algn="l" pos="5288040"/>
                <a:tab algn="l" pos="5737320"/>
                <a:tab algn="l" pos="6186600"/>
                <a:tab algn="l" pos="6635880"/>
                <a:tab algn="l" pos="7085160"/>
                <a:tab algn="l" pos="7534440"/>
                <a:tab algn="l" pos="7983360"/>
                <a:tab algn="l" pos="8432640"/>
                <a:tab algn="l" pos="8881920"/>
                <a:tab algn="l" pos="9331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Modèle 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50960" y="1784160"/>
            <a:ext cx="8904240" cy="48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ITÉS BIBLIOGRAPHI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ont connues pa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MS et / ou IDENTIFIAN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ur lesquels se basent d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OINTS d'ACCÈS CONT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Ô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É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Règl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40880" y="1670040"/>
            <a:ext cx="8372520" cy="54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'ensemble des instructions sur la formulation et/ou l'enregistrement des points d'accès contrôlé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Agenc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40880" y="1731960"/>
            <a:ext cx="8487000" cy="54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e organisation responsable pour la création ou la modification d'un point d'accès contrô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t pour l'application et l'interprétation des règ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20360" y="166320"/>
            <a:ext cx="8628120" cy="12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dans les autorité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30080" y="1784520"/>
            <a:ext cx="8545680" cy="50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6440" indent="-30168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des Personnes, des Familles, des Collectivités, des Œuvr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-30168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les Noms et les entités qu'ils représent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-30168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plusieurs Points d'Accès Contrôlés pour une entité donné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Impact des FRB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41240" y="1669680"/>
            <a:ext cx="857088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1987"/>
              </a:spcBef>
              <a:spcAft>
                <a:spcPts val="19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« 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un cadre conceptuel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permettant de comprendre clairement,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ous une forme précisément exprimé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et dans un langage qui soit parlant pour tout le monde, l’essence même de ce sur quoi la notice bibliographique est censée renseigner »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987"/>
              </a:spcBef>
              <a:spcAft>
                <a:spcPts val="19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e langage commun facilite la recherch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987"/>
              </a:spcBef>
              <a:spcAft>
                <a:spcPts val="19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ntérêt renouvelé pour ce domaine d'étud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Impact des FRBR 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sur les normes de catalogag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587"/>
              </a:spcBef>
              <a:spcAft>
                <a:spcPts val="5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s ISBD : niveau minima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587"/>
              </a:spcBef>
              <a:spcAft>
                <a:spcPts val="5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ME ICC et la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Déclaration des principes internationaux de catalogag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587"/>
              </a:spcBef>
              <a:spcAft>
                <a:spcPts val="5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rmes de catalogage: RCAA2 =&gt; RD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587"/>
              </a:spcBef>
              <a:spcAft>
                <a:spcPts val="5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DA = Resource Description and Acces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587"/>
              </a:spcBef>
              <a:spcAft>
                <a:spcPts val="5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itre français: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Bef>
                <a:spcPts val="587"/>
              </a:spcBef>
              <a:spcAft>
                <a:spcPts val="5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s ressources : description et accè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DA et FRBR/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ncepts FRBR et FRAD sont intégrés à la structure et à la philosophie des RD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exte des RDA organisé selon 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s Attributs des 11 entités bibliographi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s Relations par groupes d'entité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s Tâches en FRBR et FRAD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m vs Point d'accès contrô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44200" y="396720"/>
            <a:ext cx="8505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Groupes d'entités FRB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30080" y="1754280"/>
            <a:ext cx="854568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Groupe 1: Productions artistiques ou intellectuel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Groupe 2: Responsables des entités du groupe 1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Groupe 3: Sujets des œuvr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20360" y="135000"/>
            <a:ext cx="862812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FRBR Review Group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09200" y="1774440"/>
            <a:ext cx="8566200" cy="51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2003-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Garder à jour le modèle FRB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réparer des documents complémentair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romotion du modèle et liaison avec des groupes connex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29720" y="187200"/>
            <a:ext cx="874260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Projets courant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09200" y="1774800"/>
            <a:ext cx="894564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mendement à l'entité 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Groupe de travail sur les agrégat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Namespace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our les entités FRBR sur le web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FRSA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40880" y="1711080"/>
            <a:ext cx="8455320" cy="55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RSAR: Functional Requirements for Subject Authority Records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2005-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résidente: Marcia Lei Zeng (Kent State University, Ohio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RBR + FRAD + FRSAR = modèle complet de l'univers bibliographiq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09560" y="250920"/>
            <a:ext cx="86392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Groupe de Travail FRBR/CRM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20360" y="1731600"/>
            <a:ext cx="8466120" cy="51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2003-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-présidents: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rtin Doerr pour l'ICOM CIDOC CRM SI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trick LeBœuf pour l'IFLA FRB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RM = Modèle conceptuel de référence du CIDOC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RBRoo version 0.9 en janvier 2008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09560" y="250920"/>
            <a:ext cx="86392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Groupe de Travail FRBR/CRM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20360" y="1731600"/>
            <a:ext cx="8466120" cy="51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575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raduire le modèle FRBR en méthodologie orientée objet (nommé FRBRoo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575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'enrichir des concepts du CR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575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aciliter l'interopérabilité sémantique des structures informationnelles des bibliothèques et des musé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187200"/>
            <a:ext cx="85867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FRBRoo et CIDOC CRM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30080" y="1680840"/>
            <a:ext cx="8863200" cy="50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nformation sur le groupe de travail FRBRoo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Times New Roman"/>
              </a:rPr>
              <a:t>http://www.ifla.org/VII/s13/wgfrbr/FRBR-CRMdialogue_wg.htm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http://cidoc.ics.forth.gr/frbr_inro.htm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ocuments de consul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http://cidoc.ics.forth.gr/frbr_drafts.htm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IDOC CR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http://cidoc.ics.forth.gr/index.htm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09560" y="177480"/>
            <a:ext cx="8305920" cy="12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Informations supplémentair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29720" y="1346040"/>
            <a:ext cx="8758440" cy="54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FLANET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http://www.ifla.org/VII/s13/wgfrbr/index.ht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http://www.ifla.org/VII/d4/wg-franar.ht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http://www.ifla.org/VII/s29/wgfrsar.ht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ste de discussion FRBR à l'IFLA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http://infoserv.inist.fr/wwsympa.fcgi/info/frb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Blogue FRBR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http://www.frbr.org/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41240" y="219240"/>
            <a:ext cx="860760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Merci de votre attent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41240" y="1763640"/>
            <a:ext cx="8288640" cy="54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0" algn="ctr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 algn="ctr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 algn="ctr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éactions et commentair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 algn="ctr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t Riv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 algn="ctr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tricia.riva@banq.qc.c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du Groupe 1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ont le cœur de la notice bibliographiq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2 entités abstraites reflétant le contenu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2 entités concrètes reflétant la présentation matériel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ocument (ou item ou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exemplai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7000" y="186840"/>
            <a:ext cx="8691480" cy="13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Exemplair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0880" y="1731960"/>
            <a:ext cx="8534520" cy="51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1987"/>
              </a:spcBef>
              <a:spcAft>
                <a:spcPts val="19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exemplai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isolé d’une 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987"/>
              </a:spcBef>
              <a:spcAft>
                <a:spcPts val="19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Objet concret, généralement matériel, stocké dans les collections des bibliothè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987"/>
              </a:spcBef>
              <a:spcAft>
                <a:spcPts val="19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eut comprendre plusieurs parties (volumes d'un ouvrag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