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10080625" cy="7559675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13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65880"/>
            <a:ext cx="89013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24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50840" y="175392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0440" y="175392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6588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50840" y="456588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0440" y="456588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753920"/>
            <a:ext cx="89013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13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194760"/>
            <a:ext cx="859644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24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65880"/>
            <a:ext cx="89013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453960" cy="7560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924760" y="6962760"/>
            <a:ext cx="365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52CDA88-7008-4A09-8BE7-2F0CF67354C1}" type="slidenum"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3160" y="6846840"/>
            <a:ext cx="2746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12 juin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e594d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1240" y="1753920"/>
            <a:ext cx="89013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4120" indent="-2124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716120" indent="-20484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147760" indent="-206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147760" indent="-20628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147760" indent="-20628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933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0880" y="323640"/>
            <a:ext cx="8913960" cy="68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modèles conceptuel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FRBR et FRA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senté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53200" y="5580000"/>
            <a:ext cx="315432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7800" y="135000"/>
            <a:ext cx="86806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9840" y="1754280"/>
            <a:ext cx="8577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atéri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l’expression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exemplaires ayant les mêmes caractéristiques, aussi bien la présentation matérielle que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urrait être une édition commerciale, ou un objet unique comme un manuscrit d’au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7880" y="166320"/>
            <a:ext cx="867096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9840" y="1742760"/>
            <a:ext cx="857700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é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forme intellectuelle ou artistique spécifique que revêt une œuvre chaque fois qu’elle est ré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mots spécifiques qui forment un texte, les notes spécifiques d'une œuvre musica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55680"/>
            <a:ext cx="8764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9840" y="1701720"/>
            <a:ext cx="857700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ré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étermi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straction du contenu commun de 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ide dans une identité de contenu au sein des diver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correspond à aucun objet matériel iso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3160" y="406080"/>
            <a:ext cx="854568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Qu'est-ce qu'un “livre”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29200" y="1973160"/>
            <a:ext cx="3362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61960" y="2003040"/>
            <a:ext cx="4214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 perdu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l faut commander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merais lire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 françai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film s'inspire de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référé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E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rouve sa réalisation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e concrétise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est représentée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'ava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ièce de théâ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66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6200" y="1699920"/>
            <a:ext cx="451188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u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280" y="1492200"/>
            <a:ext cx="444348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ntion de responsabil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supp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tés matér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men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92360" y="1430280"/>
            <a:ext cx="4133880" cy="5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 : a comed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 new translation by 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w York, N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vre impri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26 p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 c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SBN 0936839759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v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notations / Inscri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Q1825 E5 1987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h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364680"/>
            <a:ext cx="87026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14320" y="1701720"/>
            <a:ext cx="846144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individ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organisme ou un groupe d’individus et/ou d’organismes agissant comme un to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la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2520" cy="53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le modè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le modè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ns avec l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Review Grou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naissance, mort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s (Duc, Sir, prof., d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Saint, Jr., le Vaill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umérotation (d'un congrès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ocalisation (localisé à, tenu à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de tenu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de statut juridique, ajout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57700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2800" y="1564920"/>
            <a:ext cx="84726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nt la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nu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 ou artistique d'une œuvre ou d'une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roduc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matérielle et de la distribution d'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gestion juridiqu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 docu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 Relations de bas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490716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riétés de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 &lt;propriété de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 &lt;produit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 &lt;réalisé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&lt;conçu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19320" y="1690560"/>
            <a:ext cx="3465720" cy="5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versité McGil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liè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880" y="250920"/>
            <a:ext cx="8670960" cy="12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3280" y="1774440"/>
            <a:ext cx="8503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s sujets des œuv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ncep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notion abstraite ou une id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gue ou préc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théories, procédés, techniques, prat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Obje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réalité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imée ou inanim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ation humaine ou présente dans la na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immeubles, navires, plan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Événeme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fait accompli ou surv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e limite aux faits accomplis ou survenus pouvant constituer le sujet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événements historiques, époques, périodes chronolog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Lieu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s coordonnées top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storiques ou contemporai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cidents top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r la Terre ou dans l’espa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villes, rivières, montagnes, planè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Bibliographic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u Comité permanent de la Section de catalogage de l’IFLA, 1992-199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en 1998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pécifications fonctionnelles des notices bibliographiqu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publiées par la Bibliothèque nationale de France en 200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 détail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seul attribut: “terme désignant le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ère aux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Functional Requirements of Subject Authority Records (FRSA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entités des groupes 1 et 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les sujets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tité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 catalogu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ent une struc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oc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nd possible les tâch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mettent la navig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bibliographique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les 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sont caractérisées pa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concer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érentielle ou Autono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 ou 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Œuvre et une autr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Expression (expressions d'œuvr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ifférent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p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u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dap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nsform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mi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Œuvre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0880" y="1722600"/>
            <a:ext cx="4195800" cy="52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hapitre, section, partie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Volume ou numéro d’un périodiq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llustration d’un tex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ande sonore d’un fil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6200" y="1763640"/>
            <a:ext cx="41338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onographie dans une collec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rticle de journal ou de rev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des Expression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e la </a:t>
            </a:r>
            <a:r>
              <a:rPr b="1" lang="en-GB" sz="4000" spc="-1" strike="noStrike" u="sng">
                <a:solidFill>
                  <a:srgbClr val="0e594d"/>
                </a:solidFill>
                <a:uFillTx/>
                <a:latin typeface="Arial"/>
              </a:rPr>
              <a:t>même</a:t>
            </a: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rég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vi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rrangement (musiqu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Manifestation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 ou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Manifestation et un Exemplaire (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Exempl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Manifestation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460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ternat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92360" y="1722600"/>
            <a:ext cx="3862440" cy="54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im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ite miroi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460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présen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ion parue simultanémen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éthodologie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modèl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-rel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E-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leur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ca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elation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liens) entre les 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rrélation avec les quatre types d’opérations effectuées par les utilisateurs (les tâch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olume d’une manifestation en plusieurs volum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ande sonore d’un fil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d’un ensemble multi-suppor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s séparées ou composantes matériellement inséparab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Exemplai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configu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é ave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visé e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trait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matérielle d’un 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ntégrée, par ex.: une pag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distincte, par ex.: un volu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ure d’un li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5480" y="114480"/>
            <a:ext cx="8524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ANAR, FRAR ou FRAD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NAR: Functional Requirements and Numbering of Authority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groupe de travail de l'IFL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pend de la Division du contrôl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idents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Fran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ç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oise Bourdon (BnF) (1999-200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Glenn Patton (OCLC) (2002-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229680"/>
            <a:ext cx="865008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andat des FRANA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0880" y="1763640"/>
            <a:ext cx="853452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r les spécifications fonctionnelles d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tudier la faisabilité d'un numéro d'identification international d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ssurer la liaison avec tous les groupes connex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239400"/>
            <a:ext cx="86076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unctional Requirements for Authority Data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0880" y="1795320"/>
            <a:ext cx="85345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remier volet du mandat des FRAN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délisation entité-rel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dèle conceptuel des données pertinentes au contrôle et à la gestion des points d'accè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iliter l'échange international d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7880" y="595080"/>
            <a:ext cx="8670960" cy="11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Arial"/>
              </a:rPr>
              <a:t>ATTENTION!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09200" y="1763280"/>
            <a:ext cx="8566200" cy="46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La suite s'appuie sur le 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anglais d'avril 2007 qui n'est qu'u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document de consultation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Des modifications ultérieures sont 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voir avant la publication finale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(terminologie française non-officiell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rtée d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pertinentes au contrôle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out genre de vedettes à un niveau glob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tails pour vedettes de nom, nom-titre, titre uni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ssi les entités qui participent à la création des vedet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tails des attributs des entités du Groupe 3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3 (concept, objet, événement, lie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'est à dire: les autorités de sujet (vedettes-matièr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ère aux FRSAR (2005-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2 et du Groupe 1 (termes de relation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sur le traitement des collec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administratives dans les notices d'autorit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cteurs, utilisateurs des systèmes informatis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l des bibliothèqu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sponsables de la gestion des bases de don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9720" y="72720"/>
            <a:ext cx="8618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720" y="1617480"/>
            <a:ext cx="855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ersonnel des bibliothèques qui travaille directement avec l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sagers qui se servent d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it direct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fréquemment, via les points d'accès contrôlés dans les notice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00200" y="1763640"/>
            <a:ext cx="85788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entités qui correspondent aux critères de recherch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it explorer l'univers des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pour confirmer quelle correspond à celle recherché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it valider la forme de la vedette retenue comme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xtual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Jus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Contextualis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ttre une personne, une collectivité, une œuvre, etc. dans son con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liciter les liens entre deux ou plusieurs personnes, collectivités, œuvres, etc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liciter les liens entre une personne, une collectivité, etc. et un nom par lequel cette personne, collectivité, etc.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Justifi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er le choix du nom ou de la forme du nom sur lequel est basé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âche du catalogu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selo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928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 (des FRBR)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,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famill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, expression, manifestation, 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, objet, événement, 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qui sont l'objet d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entités dites d'autorité s'y réfèr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40880" y="1742760"/>
            <a:ext cx="848700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individu ou un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ident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établie ou adoptée par un individu ou par un group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(FRAD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personne bibliographique, pas toujours une personne phys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es conjoints, pseudonymes multiples utilisés par une seule 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Famill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845532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ux personnes ou plus reliées par la naissance, le mariage, l'adoption, ou tout autre statut, ou qui se présentent comme une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'ISAAR(CPF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it logiquement partie du Groupe 2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1240" y="1754280"/>
            <a:ext cx="89107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organisme ou un groupe d’individus et/ou d’organismes agissant comme un tou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groupe doit être nom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grès, les conféren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gouvernem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6202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e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0080" y="1690200"/>
            <a:ext cx="854568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s entités constituent les données d'autorité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BR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documents qui correspondent aux critères de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pour confirmer que le document correspond à celui recherch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hois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qui soit en adéquation avec ses besoi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voir accè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à l’entité décr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3280" y="166320"/>
            <a:ext cx="85788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47280" y="1658520"/>
            <a:ext cx="86281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caractère ou une séquence de mots ou caractères par lequel une entité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nom ou terme de ba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l qu'utilisé dans le monde (à l'extérieur des bibliothè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156960"/>
            <a:ext cx="8607600" cy="12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9040" y="1742760"/>
            <a:ext cx="85867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uméro, code, mot, phrase, logo, sigle, etc. associé de façon unique avec une entité, qui différencie cette entité d'autres entités dans le domaine d'activité dans lequel l'identifiant est appliqu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que les identifiant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07760" y="1879560"/>
            <a:ext cx="85676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om, terme, code, etc. sous lequel une notice bibliographique ou une notice d'autorité ou une référence peut être loc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vedettes établies ou autorisé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les variantes ou référen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09560" y="146160"/>
            <a:ext cx="86392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odèle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0960" y="1784160"/>
            <a:ext cx="890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connues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et / ou IDENTIFIA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ur lesquels se basent 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S d'ACCÈS CONT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Ô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0880" y="1670040"/>
            <a:ext cx="837252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instructions sur la formulation et/ou l'enregistrement des points d'accès contrô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4870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organisation responsable pour la création ou la modification d'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pour l'application et l'interprétation des 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s autor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des Personnes, des Familles, des Collectivités,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Noms et les entités qu'ils représent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lusieurs Points d'Accès Contrôlés pour une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mpact d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41240" y="1669680"/>
            <a:ext cx="857088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« 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un cadre conceptuel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ermettant de comprendre clairement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us une forme précisément exprimé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dans un langage qui soit parlant pour tout le monde, l’essence même de ce sur quoi la notice bibliographique est censée renseigner »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langage commun facilite la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ntérêt renouvelé pour ce domaine d'étu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mpact des FRBR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sur les normes de catalogag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ISBD : niveau minim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ME ICC et la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Déclaration des principes internationaux de catalog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rmes de catalogage: RCAA2 =&gt;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DA = Resource Description and Acces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 français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ressources : description et accè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DA et FRBR/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s FRBR et FRAD sont intégrés à la structure et à la philosophie d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e des RDA organisé selon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Attributs des 11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Relations par groupes d'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Tâches en FRBR et 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vs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44200" y="396720"/>
            <a:ext cx="8505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s d'entité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1: Productions artistiques ou intellectu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2: Responsables d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3: Sujets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0360" y="135000"/>
            <a:ext cx="86281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 Review Group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09200" y="1774440"/>
            <a:ext cx="856620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3-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arder à jour le modèle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parer des documents complément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motion du modèle et liaison avec des groupes connex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74260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rojets courant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09200" y="1774800"/>
            <a:ext cx="894564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mendement à l'entité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sur les agrég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Namespace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ur les entités FRBR sur le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SA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1711080"/>
            <a:ext cx="8455320" cy="55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SAR: Functional Requirements for Subject Authority Record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5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idente: Marcia Lei Zeng (Kent State University, Ohi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+ FRAD + FRSAR = modèle complet de l'univers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9560" y="250920"/>
            <a:ext cx="86392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de Travail FRBR/CR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731600"/>
            <a:ext cx="84661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3-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-présidents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rtin Doerr pour l'ICOM CIDOC CRM SI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rick LeBœuf pour l'IFLA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M = Modèle conceptuel de référence du CIDO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oo version 0.9 en janvier 200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09560" y="250920"/>
            <a:ext cx="86392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de Travail FRBR/CR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0360" y="1731600"/>
            <a:ext cx="84661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duire le modèle FRBR en méthodologie orientée objet (nommé FRBRo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richir des concepts du CR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iliter l'interopérabilité sémantique des structures informationnelles des bibliothèques et des mus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187200"/>
            <a:ext cx="8586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oo et CIDOC CR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30080" y="1680840"/>
            <a:ext cx="886320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nformation sur le groupe de travail FRBRoo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Times New Roman"/>
              </a:rPr>
              <a:t>http://www.ifla.org/VII/s13/wgfrbr/FRBR-CRMdialogue_wg.htm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cidoc.ics.forth.gr/frbr_inro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s de consul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cidoc.ics.forth.gr/frbr_drafts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IDOC CR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cidoc.ics.forth.gr/index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9560" y="177480"/>
            <a:ext cx="830592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nformations supplémentai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29720" y="1346040"/>
            <a:ext cx="8758440" cy="54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FLANET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VII/s13/wgfrbr/index.ht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VII/d4/wg-franar.ht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VII/s29/wgfrsar.ht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discussion FRBR à l'IFL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infoserv.inist.fr/wwsympa.fcgi/info/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logue FRB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frbr.org/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76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erci de votre atten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41240" y="1763640"/>
            <a:ext cx="82886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actions et comment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ricia.riva@banq.qc.c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 cœur de la notic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abstraites reflétant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concrètes reflétant la présentation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 (ou item o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7000" y="186840"/>
            <a:ext cx="869148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5345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solé d’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concret, généralement matériel, stocké dans les collections des bibliothè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ut comprendre plusieurs parties (volumes d'un ouvrag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