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868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612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868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612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8996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737F8F3-6ECC-49DA-AE84-09823B433B1D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novembr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7800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09640" indent="-1983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1640" indent="-2001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dessous de la norme RDA 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dans l’univers bibliographiqu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larifier/explicite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omprend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ac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(ou document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entation de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et FRAD en lien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(lie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(ajoutée par 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 (une notion abstraite ou une idé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(une réalité matér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(une action ou une circonst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un emplaceme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de caractères par lequel une entité est connue dans le mon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emblème, etc. associé avec une entité, qui différencie cette entité d'autres entités dans le domaine d'activité dans lequel l'identifiant est assig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 renvoi peut être localis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/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 qu'elle développe 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s’occupe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onné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autorité, pas des not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paration entre le Nom (ou Identifiant) et le Point d'accès contrôlé basé sur le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formes préférées et les variantes de formes de noms so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ypes de 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semble-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comm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 (p. ex. suppléments, adaptations, ensemble/par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s (p. ex. révisions, traduc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s (p. ex. reproductions, formats altern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final décembre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juin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en/frbr-r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nkos.slis.kent.edu/FRSA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et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/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concepts et la terminologie FRBR et FRAD sont intégrés à la structur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texte des RDA est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des utilisateurs sont omniprésentes dans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