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10080625" cy="7559675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89488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62280"/>
            <a:ext cx="889488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9920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6228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99200" y="456228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8680" y="175392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56120" y="175392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6228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8680" y="456228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56120" y="4562280"/>
            <a:ext cx="286380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753920"/>
            <a:ext cx="889488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89488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052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99200" y="1753920"/>
            <a:ext cx="434052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194760"/>
            <a:ext cx="858996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99200" y="1753920"/>
            <a:ext cx="434052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6228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052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9920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99200" y="456228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99200" y="1753920"/>
            <a:ext cx="434052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62280"/>
            <a:ext cx="8894880" cy="25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453960" cy="7560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924760" y="6962760"/>
            <a:ext cx="365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F11CBC75-9254-458F-8CD1-932F3138ECCB}" type="slidenum"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3160" y="6846840"/>
            <a:ext cx="2746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12 novembre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899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e594d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1240" y="1753920"/>
            <a:ext cx="8894880" cy="53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278000" indent="-21276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709640" indent="-19836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141640" indent="-20016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141640" indent="-20016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141640" indent="-20016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193320"/>
            <a:ext cx="860904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40880" y="323640"/>
            <a:ext cx="8913960" cy="68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Les dessous de la norme RDA 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les modèles conceptuels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FRBR et FRAD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dans l’univers bibliographiqu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résenté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at R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53200" y="5580000"/>
            <a:ext cx="315432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AD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00200" y="1763640"/>
            <a:ext cx="85788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entités qui correspondent aux critères de recherche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ou explorer l'univers des 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entité qui correspond à celle recherchée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ou valider la forme du nom retenue comme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ntextualis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clarifier/explicite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Jus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comprendr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Contextualis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lacer une personne, une collectivité, une œuvre, etc. dans son contex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plicit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relations entre deux ou plusieurs personnes, collectivités, œuvres, etc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plicit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relations entre une personne, une collectivité, etc. et un nom par lequel cette personne, collectivité, etc. est conn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Justifi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er le choix du nom ou de la forme du nom sur lequel est basé 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utrement dit 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mprend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ourquoi un nom ou un titre en particulier, ou une forme du nom ou du titre, a été choisi comme le nom ou titre préféré de l'ent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4200" y="396720"/>
            <a:ext cx="8505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s d'entité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1: Productions artistiques ou intellectu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2: Responsables des entités du groupe 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3: Sujets d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 cœur de la notice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abstraites reflètent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concrètes reflètent la présentation matér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 (ou document ou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7000" y="186840"/>
            <a:ext cx="869148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53452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solé d’une 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 concret, généralement matériel, stocké dans les collections des bibliothè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ut comprendre plusieurs parties (volumes d'un ouvrag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7800" y="135000"/>
            <a:ext cx="868068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9840" y="1754280"/>
            <a:ext cx="8577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atéri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e l’expression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exemplaires ayant les mêmes caractéristiques, aussi bien la présentation matérielle que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édition commerciale, ou un objet unique comme un manuscrit d’au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880" y="166320"/>
            <a:ext cx="867096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99840" y="1742760"/>
            <a:ext cx="857700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é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forme intellectuelle ou artistique spécifique que revêt une œuvre lorsqu’elle est réalis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mots spécifiques qui forment un texte, les notes spécifiques d'une œuvre musicale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84280" y="355680"/>
            <a:ext cx="876456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9840" y="1701720"/>
            <a:ext cx="8577000" cy="51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ré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étermi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bstraction du contenu commun de 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side dans une identité de contenu au sein des diver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 correspond à aucun objet matériel iso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03160" y="406080"/>
            <a:ext cx="854568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Qu'est-ce qu'un “livre”?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29200" y="1973160"/>
            <a:ext cx="3362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61960" y="2003040"/>
            <a:ext cx="4214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 perdu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l faut commander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merais lire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n françai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e film s'inspire de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référé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la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2520" cy="53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ésentation de FRBR et FRA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 et FRAD en lien avec les R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âches des utilisateu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/ Attribu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(lien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E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rouve sa réalisation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e concrétise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est représentée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'ava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ièce de théâ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66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46200" y="1699920"/>
            <a:ext cx="4511880" cy="54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xtu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47280" y="1492200"/>
            <a:ext cx="444348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ention de responsabil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di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e suppor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ités matéri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imen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92360" y="1430280"/>
            <a:ext cx="4133880" cy="57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 : a comed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 new translation by Albert Berm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w York, N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lause Theatre Book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vre impri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26 p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 c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SBN 0936839759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ven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notations / Inscrip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Q1825 E5 1987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h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cu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7640" y="364680"/>
            <a:ext cx="870264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14320" y="1701720"/>
            <a:ext cx="846144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(ajoutée par FRAD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responsable(s) po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7880" y="250920"/>
            <a:ext cx="8670960" cy="12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3280" y="1774440"/>
            <a:ext cx="8503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s sujets des œuvre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 (une notion abstraite ou une idé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 (une réalité matériell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 (une action ou une circonstanc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(un emplacemen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+ entités des groupes 1 et 2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les sujets 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tité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9720" y="187200"/>
            <a:ext cx="86202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30080" y="1690200"/>
            <a:ext cx="854568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èg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g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unctional Requirements for Bibliographic Recor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 du Comité permanent de la Section de catalogage de l’IFLA, 1992-199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ublié en 1998 en 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 français: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pécifications fonctionnelles des notices bibliographiqu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publié par la Bibliothèque nationale de France en 200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3280" y="166320"/>
            <a:ext cx="85788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No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7280" y="1658520"/>
            <a:ext cx="86281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caractère ou une séquence de mots ou de caractères par lequel une entité est connue dans le mon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nom ou terme de ba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l qu'utilisé dans le monde (à l'extérieur des bibliothèqu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156960"/>
            <a:ext cx="8607600" cy="12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Identifia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9040" y="1742760"/>
            <a:ext cx="858672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uméro, code, mot, phrase, logo, emblème, etc. associé avec une entité, qui différencie cette entité d'autres entités dans le domaine d'activité dans lequel l'identifiant est assign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 sont pas seulement les identifiant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Point d'Accès Contrôl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07760" y="1879560"/>
            <a:ext cx="856764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om, terme, code, etc. sous lequel une notice bibliographique ou une notice d'autorité ou un renvoi peut être localis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formes établies / autorisées / préfér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les variantes de forme (renvoi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9560" y="146160"/>
            <a:ext cx="863928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odèle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0960" y="1784160"/>
            <a:ext cx="8904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connues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et/ou IDENTIFIA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ur lesquels se basent 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S d'ACCÈS CONT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Ô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Règl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880" y="1670040"/>
            <a:ext cx="837252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instructions sur la formulation et/ou l'enregistrement des points d'accès contrôlés (formes autorisées, variantes de formes ou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nvoi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règles de catalogage et leurs intérpréta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conventions de codag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Agenc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4870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organisation responsable pour la création ou la modification d'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pour l'application et l'interprétation des règles qu'elle développe ou utili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FRAD dans RDA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DA s’occupe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donné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'autorité, pas des noti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éparation entre le Nom (ou Identifiant) et le Point d'accès contrôlé basé sur le 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formes préférées et les variantes de formes de noms sont des Points d'accès contrô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6760" y="239400"/>
            <a:ext cx="87231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dans le catalogu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82640" y="1743120"/>
            <a:ext cx="8493120" cy="54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3200" indent="-325440">
              <a:lnSpc>
                <a:spcPct val="95000"/>
              </a:lnSpc>
              <a:spcBef>
                <a:spcPts val="575"/>
              </a:spcBef>
              <a:spcAft>
                <a:spcPts val="283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éent une structu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3200" indent="-32544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oc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nd possible les tâch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t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3200" indent="-32544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mettent la navig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2920" y="157320"/>
            <a:ext cx="898668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ypes de Relations bibliographiqu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2400" y="1784520"/>
            <a:ext cx="786600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quival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riv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scrip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semble-parti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compagn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équenti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aractéristique commu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0360" y="166320"/>
            <a:ext cx="862812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bibliographiqu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0080" y="1784520"/>
            <a:ext cx="85456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entités du Groupe 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Œ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vres (p. ex. suppléments, adaptations, ensemble/parti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s (p. ex. révisions, traduction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s (p. ex. reproductions, formats alternatif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5480" y="114480"/>
            <a:ext cx="852480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unctional Requirements for Authority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 de la Division du contrôle bibliographique de l'IFLA, 1999-200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xte final décembre 200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rouvé mars 200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ublié juin 200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0360" y="166320"/>
            <a:ext cx="862812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dans les autorit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30080" y="1784520"/>
            <a:ext cx="85456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Personnes, les Familles, les Collectivités, l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Noms des Personnes, des Familles, des Collectivités, d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plusieurs Points d'Accès Contrôlés pour une entité don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9560" y="177480"/>
            <a:ext cx="830592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Informations supplémentair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9720" y="1346040"/>
            <a:ext cx="8758440" cy="54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FLANET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ifla.org/en/frbr-r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nkos.slis.kent.edu/FRSAR/index.htm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ste de discussion FRBR à l'IFL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infoserv.inist.fr/wwsympa.fcgi/info/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Blogue FRBR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frbr.org/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1240" y="219240"/>
            <a:ext cx="86076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erci de votre atten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1240" y="1763640"/>
            <a:ext cx="828864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actions et commentai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t R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tricia.riva@banq.qc.c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éthodologie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 et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odèl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-rel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E-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ste de leur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ttribu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ca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elation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liens) entre les 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rrélation avec les quatre types d’opérations effectuées par les utilisateurs (les tâch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/FRAD dans RDA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concepts et la terminologie FRBR et FRAD sont intégrés à la structure des R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texte des RDA est organisé selon 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Attributs des 11 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Relations par groupes d'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tâches des utilisateurs sont omniprésentes dans le tex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tilisateurs des systèmes informatisé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l des bibliothèqu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sponsables de la gestion des bases de donn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BR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ressources qui correspondent aux critères de recherch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ressource qui correspond à celle recherchée par l’utilisa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hoisi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ressource qui soit en adéquation avec ses besoi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voir accè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à la ressource décr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9720" y="72720"/>
            <a:ext cx="861876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0720" y="1617480"/>
            <a:ext cx="85550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personnel des bibliothèques qui travaille directement avec l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4360" indent="-309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usagers qui utilisent les donné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fois direct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456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lus souvent via les points d'accès contrôlés dans les notice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