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752BD-4043-40BC-9E88-A8345F605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3D2C-B298-4BD1-A5DE-A25C82B74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89E88-7FAD-48AD-921F-49012D904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E158C-D242-437C-BE52-07EA0136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46A0-B029-4D84-8D8D-D50CD6AEF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EFD5E-43C5-4BC8-AA76-B2FEAB378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D63B3-F087-4275-B664-8BF73D16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F9455-79D8-4193-8C8E-14B6732F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6A12E-BF84-49B7-9DC1-1E421471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C18F-5FF0-4386-9BCA-7149BA78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B1BC-7994-4D43-9DCD-3C88AFC13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92F8-D834-4227-952B-FFBA2A7E6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9E4DF3-3BDC-4946-9A7F-8A749A92CADF}" type="slidenum">
              <a:rPr b="0" lang="en-C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 RDA</a:t>
            </a:r>
            <a:br>
              <a:rPr sz="4400"/>
            </a:br>
            <a:r>
              <a:rPr b="0" lang="en-CA" sz="4400" spc="-1" strike="noStrike">
                <a:solidFill>
                  <a:srgbClr val="000000"/>
                </a:solidFill>
                <a:latin typeface="Arial"/>
              </a:rPr>
              <a:t>Publications en séri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i="1" lang="en-CA" sz="2800" spc="-1" strike="noStrike">
                <a:solidFill>
                  <a:srgbClr val="000000"/>
                </a:solidFill>
                <a:latin typeface="Arial"/>
              </a:rPr>
              <a:t>Cataloguer les publications en série est comme résoudre des mots croisés</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55520" y="46080"/>
            <a:ext cx="1552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Faire</a:t>
            </a:r>
            <a:r>
              <a:rPr b="1" lang="fr-CA" sz="3200" spc="-1" strike="noStrike">
                <a:solidFill>
                  <a:srgbClr val="000000"/>
                </a:solidFill>
                <a:latin typeface="Arial"/>
              </a:rPr>
              <a:t> toujours</a:t>
            </a:r>
            <a:r>
              <a:rPr b="0" lang="fr-CA" sz="3200" spc="-1" strike="noStrike">
                <a:solidFill>
                  <a:srgbClr val="000000"/>
                </a:solidFill>
                <a:latin typeface="Arial"/>
              </a:rPr>
              <a:t> une note sur la source du titre propre. La combiner avec la note </a:t>
            </a:r>
            <a:r>
              <a:rPr b="0" i="1" lang="fr-CA" sz="3200" spc="-1" strike="noStrike">
                <a:solidFill>
                  <a:srgbClr val="000000"/>
                </a:solidFill>
                <a:latin typeface="Arial"/>
              </a:rPr>
              <a:t>Description d’après</a:t>
            </a: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 </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départ; description d’après : 2</a:t>
            </a:r>
            <a:r>
              <a:rPr b="0" lang="fr-CA" sz="2800" spc="-1" strike="noStrike" baseline="30000">
                <a:solidFill>
                  <a:srgbClr val="000000"/>
                </a:solidFill>
                <a:latin typeface="Arial"/>
              </a:rPr>
              <a:t>e</a:t>
            </a:r>
            <a:r>
              <a:rPr b="0" lang="fr-CA" sz="2800" spc="-1" strike="noStrike">
                <a:solidFill>
                  <a:srgbClr val="000000"/>
                </a:solidFill>
                <a:latin typeface="Arial"/>
              </a:rPr>
              <a:t> année, numéro 3 (4 décembre 2012)</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dentification de manifestation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SSN (2.1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itre (2.3)</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responsabilité (2.4)</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édition (2.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publication (2.8)</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SSN (2.1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Sert à distinguer une manifestation d’autres manifestations</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Prendre l’ISSN de la manifestation de n’importe quelle source </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Enregistrer l’ISSN selon le format d’affichage prescrit </a:t>
            </a:r>
            <a:endParaRPr b="0" lang="en-US" sz="3200" spc="-1" strike="noStrike">
              <a:solidFill>
                <a:srgbClr val="000000"/>
              </a:solidFill>
              <a:latin typeface="Arial"/>
            </a:endParaRPr>
          </a:p>
          <a:p>
            <a:pPr marL="341280" indent="-338040">
              <a:lnSpc>
                <a:spcPct val="90000"/>
              </a:lnSpc>
              <a:spcBef>
                <a:spcPts val="4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Exemple: </a:t>
            </a:r>
            <a:endParaRPr b="0" lang="en-US" sz="2000" spc="-1" strike="noStrike">
              <a:solidFill>
                <a:srgbClr val="000000"/>
              </a:solidFill>
              <a:latin typeface="Arial"/>
            </a:endParaRPr>
          </a:p>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    </a:t>
            </a:r>
            <a:r>
              <a:rPr b="1" lang="en-CA" sz="3200" spc="-1" strike="noStrike">
                <a:solidFill>
                  <a:srgbClr val="000000"/>
                </a:solidFill>
                <a:latin typeface="Arial"/>
              </a:rPr>
              <a:t>022 ## $a2165-476X $y1096-184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 2.3.2)</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ranscrire le titre propre dans la zone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245 $a $n $p</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Appliquer les instructions sur l’emploi des majuscules données dans l’annexe </a:t>
            </a:r>
            <a:r>
              <a:rPr b="1" lang="en-CA" sz="3200" spc="-1" strike="noStrike">
                <a:solidFill>
                  <a:srgbClr val="000000"/>
                </a:solidFill>
                <a:latin typeface="Arial"/>
              </a:rPr>
              <a:t>A</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nclure les articles initiaux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Transcrire un titre tel qu’il figure sur la source d’information</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Corriger les erreurs typographiques évidentes et faire une note indiquant le titre tel qu’il figure sur la source d’information. En cas de doute sur l’orthographe d’un mot, transcrire l’orthographe telle qu’elle figure.</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18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5 10 $aRapport annuel</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6 1# $i</a:t>
            </a:r>
            <a:r>
              <a:rPr b="1" lang="fr-CA" sz="2400" spc="-1" strike="noStrike">
                <a:solidFill>
                  <a:srgbClr val="000000"/>
                </a:solidFill>
                <a:latin typeface="Arial"/>
              </a:rPr>
              <a:t>Le titre figure sur le volume 1, numéro 1 comme suit :</a:t>
            </a:r>
            <a:r>
              <a:rPr b="0" lang="fr-CA" sz="2400" spc="-1" strike="noStrike">
                <a:solidFill>
                  <a:srgbClr val="000000"/>
                </a:solidFill>
                <a:latin typeface="Arial"/>
              </a:rPr>
              <a:t> $aRaport annuel</a:t>
            </a:r>
            <a:endParaRPr b="0" lang="en-US" sz="2400" spc="-1" strike="noStrike">
              <a:solidFill>
                <a:srgbClr val="000000"/>
              </a:solidFill>
              <a:latin typeface="Arial"/>
            </a:endParaRPr>
          </a:p>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3402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un titre d’une publication en série comprend une date, un nom, un numéro, etc. qui varient d’une livraison à l’autre, omettre cette date, ce nom, ce numéro, etc. Utiliser les points de suspension (...) pour indiquer une telle omission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Rapport intermédiaire 2010</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0  $aRapport intermédiaire …</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664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un titre d’une publication en série comprend une mention qui indique un titre antérieur, un titre absorbé, etc. pouvant être ou non grammaticalement lié au reste du titre, ne pas transcrire une telle mention comme partie du titre. Ne pas utiliser les points de suspension (...) pour indiquer une telle omission. Enregistrer le titre antérieur, le titre absorbé, etc. comme le titre d’une œuvre en rel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4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1600" spc="-1" strike="noStrike">
                <a:solidFill>
                  <a:srgbClr val="000000"/>
                </a:solidFill>
                <a:latin typeface="Arial"/>
              </a:rPr>
              <a:t>: </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nternational gas report, including 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245 00 $aInternational gas repor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780 04 $a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un titre est constitué uniquement du nom d’une personne, d’une famille ou d’une collectivité, enregistrer le nom comme titr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Ajouter une note explicative, si nécessaire</a:t>
            </a:r>
            <a:endParaRPr b="0" lang="en-US" sz="32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2000" spc="-1" strike="noStrike">
                <a:solidFill>
                  <a:srgbClr val="000000"/>
                </a:solidFill>
                <a:latin typeface="Arial"/>
              </a:rPr>
              <a:t>Exemple: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45 00 $aHydro-Québec</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500 ## $aRapport intermédiaire abrégé</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6)</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Ne pas transcrire les mots qui servent d’introduction et qui ne font pas partie intégrante du titr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forme sous laquelle le titre figure sur la source d’information est jugée importante pour l’identification ou l’accès, enregistrer cette forme du titre comme une variante de titre (246)</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3197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Titres de parties, de sections et de suppléments</a:t>
            </a:r>
            <a:r>
              <a:rPr b="0" lang="fr-CA" sz="2400" spc="-1" strike="noStrike">
                <a:solidFill>
                  <a:srgbClr val="000000"/>
                </a:solidFill>
                <a:latin typeface="Arial"/>
              </a:rPr>
              <a:t> (2.3.1.7)</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1" lang="fr-CA" sz="2400" spc="-1" strike="noStrike">
                <a:solidFill>
                  <a:srgbClr val="000000"/>
                </a:solidFill>
                <a:latin typeface="Arial"/>
              </a:rPr>
              <a:t>Titre sous plus d’une forme</a:t>
            </a:r>
            <a:r>
              <a:rPr b="0" lang="fr-CA" sz="2400" spc="-1" strike="noStrike">
                <a:solidFill>
                  <a:srgbClr val="000000"/>
                </a:solidFill>
                <a:latin typeface="Arial"/>
              </a:rPr>
              <a:t> (2.3.2.5)</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Si le titre figure sur la source d’information du titre propre dans une forme développée ainsi que sous la forme d’un acronyme ou d’un sigle, choisir la forme développée comme le titre propre. Enregistrer l’acronyme ou le sigle comme variante du titr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00 $aLinguistics and language behavior abstract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3 $aLLLB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2400" spc="-1" strike="noStrike">
                <a:solidFill>
                  <a:srgbClr val="000000"/>
                </a:solidFill>
                <a:latin typeface="Arial"/>
              </a:rPr>
              <a:t>Cataloguer une publication en série …</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705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400" spc="-1" strike="noStrike">
                <a:solidFill>
                  <a:srgbClr val="000000"/>
                </a:solidFill>
                <a:latin typeface="Arial"/>
              </a:rPr>
              <a:t>… </a:t>
            </a:r>
            <a:r>
              <a:rPr b="0" i="1" lang="fr-CA" sz="2400" spc="-1" strike="noStrike">
                <a:solidFill>
                  <a:srgbClr val="000000"/>
                </a:solidFill>
                <a:latin typeface="Arial"/>
              </a:rPr>
              <a:t>a beaucoup de choses en commun avec les mots croisés, et un catalogueur qui fait ce travail aime ce genre de problèmes en ce sens qu’il faut souvent aller au-delà du document en main et tenter de voir ce qui a été publié avant, et même ce qui le sera après. Un peu comme un amateur de mots croisés tente de voir ce qui se cache derrière les termes de la définition du mot à trouver</a:t>
            </a:r>
            <a:endParaRPr b="0" lang="en-US" sz="2400" spc="-1" strike="noStrike">
              <a:solidFill>
                <a:srgbClr val="000000"/>
              </a:solidFill>
              <a:latin typeface="Arial"/>
            </a:endParaRPr>
          </a:p>
          <a:p>
            <a:pPr marL="343080" indent="-338400">
              <a:lnSpc>
                <a:spcPct val="80000"/>
              </a:lnSpc>
              <a:spcBef>
                <a:spcPts val="4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t>
            </a:r>
            <a:r>
              <a:rPr b="0" lang="en-US" sz="1600" spc="-1" strike="noStrike">
                <a:solidFill>
                  <a:srgbClr val="000000"/>
                </a:solidFill>
                <a:latin typeface="Arial"/>
              </a:rPr>
              <a:t>The serials cataloger who trained me once said that, if he were hiring a new serials cataloger, he would ask if that person liked crossword puzzles.  I think this is apt, for cataloging serials requires an interest in solving puzzles.  Occasionally a serials cataloger will have multiple issues of a serial from which to catalog the title.  Generally, though, it is just a single piece from which you must create a record that will describe not merely what you have in hand, but any other issues of that serial, including those that have not yet been published.  The concept of relationships, of one issue to others and often of one title to others, is crucial in serials cataloging, and our catalogers and copy catalogers must prioritize it in their work.” Theron Westervelt (Library of Congress Cataloging Newsline)</a:t>
            </a:r>
            <a:endParaRPr b="0" lang="en-US" sz="1600" spc="-1" strike="noStrike">
              <a:solidFill>
                <a:srgbClr val="000000"/>
              </a:solidFill>
              <a:latin typeface="Arial"/>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essource sans titre </a:t>
            </a:r>
            <a:r>
              <a:rPr b="0" lang="en-CA" sz="2800" spc="-1" strike="noStrike">
                <a:solidFill>
                  <a:srgbClr val="000000"/>
                </a:solidFill>
                <a:latin typeface="Arial"/>
              </a:rPr>
              <a:t>(2.3.2.10)</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il n’y a pas de titre dans la ressource elle-même, enregistrer comme le titre propre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a) un titre puisé d’une autre source (voir 2.2.4)</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b) un titre forgé (voir 2.3.2.11).</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Faire une note pour indiquer la source du titre propre (588)</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etc.</a:t>
            </a:r>
            <a:endParaRPr b="0" lang="en-US" sz="4400" spc="-1" strike="noStrike">
              <a:solidFill>
                <a:srgbClr val="000000"/>
              </a:solidFill>
              <a:latin typeface="Arial"/>
            </a:endParaRPr>
          </a:p>
        </p:txBody>
      </p:sp>
      <p:sp>
        <p:nvSpPr>
          <p:cNvPr id="83" name="PlaceHolder 2"/>
          <p:cNvSpPr>
            <a:spLocks noGrp="1"/>
          </p:cNvSpPr>
          <p:nvPr>
            <p:ph/>
          </p:nvPr>
        </p:nvSpPr>
        <p:spPr>
          <a:xfrm>
            <a:off x="395280" y="1700280"/>
            <a:ext cx="8229600" cy="570384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ment des titres propres parallèles</a:t>
            </a:r>
            <a:r>
              <a:rPr b="1" lang="fr-CA" sz="2400" spc="-1" strike="noStrike">
                <a:solidFill>
                  <a:srgbClr val="000000"/>
                </a:solidFill>
                <a:latin typeface="Arial"/>
              </a:rPr>
              <a:t> </a:t>
            </a:r>
            <a:r>
              <a:rPr b="0" lang="fr-CA" sz="2400" spc="-1" strike="noStrike">
                <a:solidFill>
                  <a:srgbClr val="000000"/>
                </a:solidFill>
                <a:latin typeface="Arial"/>
              </a:rPr>
              <a:t>(2.3.3.2)</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Variantes de titre (2.3.6)</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10 $a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courant : $aQAHN … 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au dos : $aQuébec Anglophone Heritage Network, annual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mplément du titre (2.3.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NSER: Transcrire un complément du titre </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sera utile pour les usagers</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clarifie le titre propr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responsabilité (2.4)</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453708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Transcrire une mention de responsabilité sous la forme où elle figure sur la source d’information (2.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Excep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en-CA" sz="2400" spc="-1" strike="noStrike">
                <a:solidFill>
                  <a:srgbClr val="000000"/>
                </a:solidFill>
                <a:latin typeface="Arial"/>
              </a:rPr>
              <a:t>    </a:t>
            </a:r>
            <a:r>
              <a:rPr b="1" i="1" lang="en-CA" sz="2400" spc="-1" strike="noStrike">
                <a:solidFill>
                  <a:srgbClr val="000000"/>
                </a:solidFill>
                <a:latin typeface="Arial"/>
              </a:rPr>
              <a:t>Publications en série.</a:t>
            </a:r>
            <a:r>
              <a:rPr b="0" lang="en-CA" sz="2400" spc="-1" strike="noStrike">
                <a:solidFill>
                  <a:srgbClr val="000000"/>
                </a:solidFill>
                <a:latin typeface="Arial"/>
              </a:rPr>
              <a:t> Enregistrer une mention de responsabilité identifiant un éditeur intellectuel d’une publication en série uniquement si le nom de l’éditeur intellectuel est jugé important pour l’identification de la publication en série (par exemple, si une personne en particulier a édité la publication en série pendant toute ou la majeure partie de l’existence de cette publication ; si le nom de la personne est vraisemblablement mieux connu que le titre de la publication en séri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a:t>
            </a:r>
            <a:r>
              <a:rPr b="0" lang="en-CA" sz="2400" spc="-1" strike="noStrike">
                <a:solidFill>
                  <a:srgbClr val="000000"/>
                </a:solidFill>
                <a:latin typeface="Arial"/>
              </a:rPr>
              <a:t>: fondée et publiée par Jean-Paul Sartr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édition (2.5)</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Transcrire une mention d’édition telle qu’elle figure sur la source d’informa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        </a:t>
            </a:r>
            <a:r>
              <a:rPr b="0" lang="fr-CA" sz="16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50 ## $aÉdition Nord-Oues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Mentions indiquant une révision régulière ou une numérotation</a:t>
            </a:r>
            <a:r>
              <a:rPr b="0" lang="fr-CA" sz="2400" spc="-1" strike="noStrike">
                <a:solidFill>
                  <a:srgbClr val="000000"/>
                </a:solidFill>
                <a:latin typeface="Arial"/>
              </a:rPr>
              <a:t> (2.5.2.5)</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r les mentions indiquant la numération (par exemple, </a:t>
            </a:r>
            <a:r>
              <a:rPr b="0" i="1" lang="fr-CA" sz="2400" spc="-1" strike="noStrike">
                <a:solidFill>
                  <a:srgbClr val="000000"/>
                </a:solidFill>
                <a:latin typeface="Arial"/>
              </a:rPr>
              <a:t>Première édition, Édition</a:t>
            </a:r>
            <a:r>
              <a:rPr b="0" lang="fr-CA" sz="2400" spc="-1" strike="noStrike">
                <a:solidFill>
                  <a:srgbClr val="000000"/>
                </a:solidFill>
                <a:latin typeface="Arial"/>
              </a:rPr>
              <a:t> </a:t>
            </a:r>
            <a:r>
              <a:rPr b="0" i="1" lang="fr-CA" sz="2400" spc="-1" strike="noStrike">
                <a:solidFill>
                  <a:srgbClr val="000000"/>
                </a:solidFill>
                <a:latin typeface="Arial"/>
              </a:rPr>
              <a:t>1916</a:t>
            </a:r>
            <a:r>
              <a:rPr b="0" lang="fr-CA" sz="2400" spc="-1" strike="noStrike">
                <a:solidFill>
                  <a:srgbClr val="000000"/>
                </a:solidFill>
                <a:latin typeface="Arial"/>
              </a:rPr>
              <a:t>)</a:t>
            </a:r>
            <a:r>
              <a:rPr b="0" i="1" lang="fr-CA" sz="2400" spc="-1" strike="noStrike">
                <a:solidFill>
                  <a:srgbClr val="000000"/>
                </a:solidFill>
                <a:latin typeface="Arial"/>
              </a:rPr>
              <a:t> </a:t>
            </a:r>
            <a:r>
              <a:rPr b="1" i="1" lang="fr-CA" sz="2400" spc="-1" strike="noStrike">
                <a:solidFill>
                  <a:srgbClr val="000000"/>
                </a:solidFill>
                <a:latin typeface="Arial"/>
              </a:rPr>
              <a:t>comme numérotation</a:t>
            </a:r>
            <a:endParaRPr b="0" lang="en-US" sz="24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1</a:t>
            </a:r>
            <a:r>
              <a:rPr b="0" lang="fr-CA" sz="1800" spc="-1" strike="noStrike" baseline="30000">
                <a:solidFill>
                  <a:srgbClr val="000000"/>
                </a:solidFill>
                <a:latin typeface="Arial"/>
              </a:rPr>
              <a:t>re</a:t>
            </a:r>
            <a:r>
              <a:rPr b="0" lang="fr-CA" sz="1800" spc="-1" strike="noStrike">
                <a:solidFill>
                  <a:srgbClr val="000000"/>
                </a:solidFill>
                <a:latin typeface="Arial"/>
              </a:rPr>
              <a:t> édition-</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Édition 1916-</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 (2.8)</a:t>
            </a:r>
            <a:endParaRPr b="0" lang="en-US" sz="4400" spc="-1" strike="noStrike">
              <a:solidFill>
                <a:srgbClr val="000000"/>
              </a:solidFill>
              <a:latin typeface="Arial"/>
            </a:endParaRPr>
          </a:p>
        </p:txBody>
      </p:sp>
      <p:sp>
        <p:nvSpPr>
          <p:cNvPr id="89" name="PlaceHolder 2"/>
          <p:cNvSpPr>
            <a:spLocks noGrp="1"/>
          </p:cNvSpPr>
          <p:nvPr>
            <p:ph/>
          </p:nvPr>
        </p:nvSpPr>
        <p:spPr>
          <a:xfrm>
            <a:off x="411120" y="1618920"/>
            <a:ext cx="8229600" cy="4970520"/>
          </a:xfrm>
          <a:prstGeom prst="rect">
            <a:avLst/>
          </a:prstGeom>
          <a:noFill/>
          <a:ln w="0">
            <a:noFill/>
          </a:ln>
        </p:spPr>
        <p:txBody>
          <a:bodyPr lIns="90000" rIns="90000" tIns="46800" bIns="46800" anchor="t">
            <a:normAutofit/>
          </a:bodyPr>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Transcrire les lieux de publication et les noms des éditeurs sous la forme où ils figurent sur la source d’information </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la zone </a:t>
            </a:r>
            <a:r>
              <a:rPr b="1" lang="en-CA" sz="1400" spc="-1" strike="noStrike">
                <a:solidFill>
                  <a:srgbClr val="000000"/>
                </a:solidFill>
                <a:latin typeface="Arial"/>
              </a:rPr>
              <a:t>264</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Premier indicateu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Séquence des mentions</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 Premie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a ressource est cataloguée pour la première fois. L'information fournie dans cette valeur demeure inchangée à moins qu'elle soit erronée ou que des numéros plus anciens d'une publication en série soient maintenant disponibles et contiennent des mentions différent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2 Intermédiaire</a:t>
            </a:r>
            <a:r>
              <a:rPr b="0" lang="en-CA" sz="1400" spc="-1" strike="noStrike">
                <a:solidFill>
                  <a:srgbClr val="000000"/>
                </a:solidFill>
                <a:latin typeface="Arial"/>
              </a:rPr>
              <a: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e lieu de production, d'édition, de diffusion, de distribution ou de fabrication change ou lorsque le nom de l'éditeur, du producteur, du diffuseur, du distributeur ou du fabricant change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3 Courant/Plus récen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des changements sont apportés au nom du producteur, de l'éditeur, du diffuseur, du distributeur ou du fabricant, ou lorsque des modifications sont apportées au lieu associé à la plus ancienne mention de la production, de la publication, de la diffusion, de la distribution ou de la fabrication. La mention actuelle peut être ajoutée avec la valeur « 3 » du premier indicateur. Les données fournies dans une mention subséquente peuvent être modifiées afin de refléter l'information courante seulement lorsque seules les données les plus anciennes et les plus récentes sont nécessair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55785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Second indicateur</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Fonction de l'entité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1 Public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 Diffusion, distribu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 Fabrication</a:t>
            </a:r>
            <a:endParaRPr b="0" lang="en-US" sz="2400" spc="-1" strike="noStrike">
              <a:solidFill>
                <a:srgbClr val="000000"/>
              </a:solidFill>
              <a:latin typeface="Arial"/>
            </a:endParaRPr>
          </a:p>
          <a:p>
            <a:pPr marL="338040" indent="0">
              <a:lnSpc>
                <a:spcPct val="80000"/>
              </a:lnSpc>
              <a:spcBef>
                <a:spcPts val="4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Exemple</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1 $3automne 2009-nov. 2011 $a[Québec] :$bFinances Québec, $c2009-</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31 $3nov. 2012- $a[Québec] : $bFinances et économie Québec</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Ne pas enregistrer la date de copyrigh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l n’y a que cette date dans la ressource, vous pouvez l’utiliser pour enregistrer une date probable dans la zone 264 #1 ... $c [2013])</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Lieu de publication (2.8.2)</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Inclure à la fois le nom de la localité (ville, municipalité, etc.) et le nom de la ou des juridictions plus vastes (État, province, etc. et/ou pays) s’ils sont présents sur la source d’information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Sherbrooke, Québec</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om de l’éditeur (2.8.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50371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Enregistrer tout mot ou toute expression indiquant la fonction (autre que celle de publication) exercée par une personne, une famille ou une collectivité tel qu’il figure sur la source d’information</a:t>
            </a:r>
            <a:endParaRPr b="0" lang="en-US" sz="2800" spc="-1" strike="noStrike">
              <a:solidFill>
                <a:srgbClr val="000000"/>
              </a:solidFill>
              <a:latin typeface="Arial"/>
            </a:endParaRPr>
          </a:p>
          <a:p>
            <a:pPr marL="338040" indent="-338040">
              <a:lnSpc>
                <a:spcPct val="9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 </a:t>
            </a:r>
            <a:endParaRPr b="0" lang="en-US" sz="1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Québec : $bYQB média pour Tourisme Mauricie, $c2011</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aucun éditeur n’est mentionné et que celui-ci ne peut pas être identifié à partir d’autres sources, enregistrer </a:t>
            </a:r>
            <a:r>
              <a:rPr b="0" i="1" lang="fr-CA" sz="2800" spc="-1" strike="noStrike">
                <a:solidFill>
                  <a:srgbClr val="000000"/>
                </a:solidFill>
                <a:latin typeface="Arial"/>
              </a:rPr>
              <a:t>éditeur non identifié</a:t>
            </a:r>
            <a:endParaRPr b="0" lang="en-US" sz="2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remière livraison est disponible, enregistrer la date de publication de cette livraison suivie d’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première et la dernière livraisons, sont disponibles, enregistrer les dates de publication de ces livraisons, reliées par 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dernière livraison est disponible, mais non la première, enregistrer la date de publication de la dernière livrais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date de publication est la même pour toutes les livraisons, parties ou itérations, enregistrer uniquement cette date comme la date uniq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Publication en série</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RDA 2.13</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   </a:t>
            </a:r>
            <a:r>
              <a:rPr b="0" lang="en-CA" sz="2800" spc="-1" strike="noStrike">
                <a:solidFill>
                  <a:srgbClr val="000000"/>
                </a:solidFill>
                <a:latin typeface="Arial"/>
              </a:rPr>
              <a:t>Ressource publiée en parties successives, portant en général une numérotation, sans fin prédéterminée (par exemple, un périodique, une collection de monographies, un journal). Inclut les ressources présentant les caractéristiques des publications en série, telles que livraisons successives, numérotation et périodicité, mais à durée limitée (par exemple, les journaux d’événements) et les reproductions de publications en séri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première et/ou la dernière livraison, partie ou itération n’est pas disponible, fournir une ou des dates approximatives en appliquant les instructions données sous 2.8.6.6.</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8]–   </a:t>
            </a:r>
            <a:r>
              <a:rPr b="1" lang="en-CA" sz="2000" spc="-1" strike="noStrike">
                <a:solidFill>
                  <a:srgbClr val="000000"/>
                </a:solidFill>
                <a:latin typeface="Arial"/>
              </a:rPr>
              <a:t>Plus ancienne livraison disponible : </a:t>
            </a:r>
            <a:r>
              <a:rPr b="0" lang="en-CA" sz="2000" spc="-1" strike="noStrike">
                <a:solidFill>
                  <a:srgbClr val="000000"/>
                </a:solidFill>
                <a:latin typeface="Arial"/>
              </a:rPr>
              <a:t>v. 1, no. 3, July 1998</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7–[2000] </a:t>
            </a:r>
            <a:r>
              <a:rPr b="1" lang="en-CA" sz="2000" spc="-1" strike="noStrike">
                <a:solidFill>
                  <a:srgbClr val="000000"/>
                </a:solidFill>
                <a:latin typeface="Arial"/>
              </a:rPr>
              <a:t>Dernière partie non disponible mais l’information sur la date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88–1991] </a:t>
            </a:r>
            <a:r>
              <a:rPr b="1" lang="en-CA" sz="2000" spc="-1" strike="noStrike">
                <a:solidFill>
                  <a:srgbClr val="000000"/>
                </a:solidFill>
                <a:latin typeface="Arial"/>
              </a:rPr>
              <a:t>Première et dernière livraisons non disponibles mais l’information sur les dates de début et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u="sng">
                <a:solidFill>
                  <a:srgbClr val="000000"/>
                </a:solidFill>
                <a:uFillTx/>
                <a:latin typeface="Arial"/>
              </a:rPr>
              <a:t>S’il n’est pas possible d’établir la ou les dates approximatives, ne pas enregistrer de date de publication</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Exemple</a:t>
            </a:r>
            <a:endParaRPr b="0" lang="en-US" sz="20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264 #1 $aMontréal : $bTVA publication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mportance matérielle (3.4)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L’importance matérielle est le nombre et le type d’unités et/ou de sous-unités formant une ressourc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volumes ; $c24 cm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1 ressource en lign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fr-CA" sz="2400" spc="-1" strike="noStrike">
                <a:solidFill>
                  <a:srgbClr val="000000"/>
                </a:solidFill>
                <a:latin typeface="Arial"/>
              </a:rPr>
              <a:t>Publications en série terminées (3.4.5.16)</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nregistrer l’importance matérielle en donnant le nombre de volumes bibliographiques conformément à la numérotation de la publication en série (voir 2.6) plutôt que le nombre de volumes physiques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contenu (6.9) </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54752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de contenu est une catégorisation reflétant la forme fondamentale de communication sous laquelle le contenu est exprimé et le sens humain par lequel il doit être perçu.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s termes listés dans le tableau 6.1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336 ## $atexte $btxt $2rdacontent</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média (3.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général de dispositif de médiation requis pour visionner, faire fonctionner, faire défiler, etc. le contenu d’une ressource</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imprimé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sans médiation $bn $2rdamedia</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électroniqu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informatique $bc $2rdamedia</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support matériel (3.3)</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8578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le format du support de stockage et du contenant d’un support matériel combiné avec le type de dispositif de médiation requis pour visionner, faire fonctionner, faire défiler, etc. le contenu d’une ressource</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a:t>
            </a:r>
            <a:r>
              <a:rPr b="1" lang="fr-CA" sz="2800" spc="-1" strike="noStrike">
                <a:solidFill>
                  <a:srgbClr val="000000"/>
                </a:solidFill>
                <a:latin typeface="Arial"/>
              </a:rPr>
              <a:t>volume </a:t>
            </a:r>
            <a:r>
              <a:rPr b="0" lang="fr-CA" sz="2800" spc="-1" strike="noStrike">
                <a:solidFill>
                  <a:srgbClr val="000000"/>
                </a:solidFill>
                <a:latin typeface="Arial"/>
              </a:rPr>
              <a:t>$bnc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ressource en ligne $bcr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Périodicité (2.14)</a:t>
            </a:r>
            <a:endParaRPr b="0" lang="en-US" sz="4400" spc="-1" strike="noStrike">
              <a:solidFill>
                <a:srgbClr val="000000"/>
              </a:solidFill>
              <a:latin typeface="Arial"/>
            </a:endParaRPr>
          </a:p>
        </p:txBody>
      </p:sp>
      <p:sp>
        <p:nvSpPr>
          <p:cNvPr id="113" name="PlaceHolder 2"/>
          <p:cNvSpPr>
            <a:spLocks noGrp="1"/>
          </p:cNvSpPr>
          <p:nvPr>
            <p:ph/>
          </p:nvPr>
        </p:nvSpPr>
        <p:spPr>
          <a:xfrm>
            <a:off x="611280" y="1557000"/>
            <a:ext cx="8229600" cy="524340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u="sng">
                <a:solidFill>
                  <a:srgbClr val="000000"/>
                </a:solidFill>
                <a:uFillTx/>
                <a:latin typeface="Arial"/>
              </a:rPr>
              <a:t>la zone 310 est obligatoire</a:t>
            </a:r>
            <a:r>
              <a:rPr b="1" lang="en-CA" sz="2000" spc="-1" strike="noStrike">
                <a:solidFill>
                  <a:srgbClr val="000000"/>
                </a:solidFill>
                <a:latin typeface="Arial"/>
              </a:rPr>
              <a:t>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la zone 321-ajouter si nécessaire pour la périodicité antérieure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utiliser un terme approprié de la liste ci-dessous (RDA 2.14.1.3) ou faire une note pour préciser la périodicité (ex.: dix fois par an)</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quotidien                               trois fois par semain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outes les deux semaines   hebdomadai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hebdomadaire                   trois fois par moi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striel                              mensuel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nsuel                             tri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ois fois par an                    se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nnuel                                   bienna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iennal                                  irrégul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 (1.7, 1.8, 2.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7-Transcription</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8-Nombres exprimés en chiffres ou en toutes lettres</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2.6-Numérotation des publications en séri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0# $a (Note structuré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1# $a (Note non structuré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Transcrire les termes et les chiffres tels que sur la ressourc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les nombres écrits en toutes lettres par des chiffres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dates extrêmes et d’autres nombres extrêmes, enregistrer le premier et le dernier nombre en ent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2000" spc="-1" strike="noStrike">
                <a:solidFill>
                  <a:srgbClr val="000000"/>
                </a:solidFill>
                <a:latin typeface="Arial"/>
              </a:rPr>
              <a:t>1er</a:t>
            </a:r>
            <a:r>
              <a:rPr b="0" lang="en-CA" sz="2000" spc="-1" strike="noStrike">
                <a:solidFill>
                  <a:srgbClr val="000000"/>
                </a:solidFill>
                <a:latin typeface="Arial"/>
              </a:rPr>
              <a:t>, </a:t>
            </a:r>
            <a:r>
              <a:rPr b="0" i="1" lang="en-CA" sz="2000" spc="-1" strike="noStrike">
                <a:solidFill>
                  <a:srgbClr val="000000"/>
                </a:solidFill>
                <a:latin typeface="Arial"/>
              </a:rPr>
              <a:t>1re</a:t>
            </a:r>
            <a:r>
              <a:rPr b="0" lang="en-CA" sz="2000" spc="-1" strike="noStrike">
                <a:solidFill>
                  <a:srgbClr val="000000"/>
                </a:solidFill>
                <a:latin typeface="Arial"/>
              </a:rPr>
              <a:t>, </a:t>
            </a:r>
            <a:r>
              <a:rPr b="0" i="1" lang="en-CA" sz="2000" spc="-1" strike="noStrike">
                <a:solidFill>
                  <a:srgbClr val="000000"/>
                </a:solidFill>
                <a:latin typeface="Arial"/>
              </a:rPr>
              <a:t>2e</a:t>
            </a:r>
            <a:r>
              <a:rPr b="0" lang="en-CA" sz="2000" spc="-1" strike="noStrike">
                <a:solidFill>
                  <a:srgbClr val="000000"/>
                </a:solidFill>
                <a:latin typeface="Arial"/>
              </a:rPr>
              <a:t>, </a:t>
            </a:r>
            <a:r>
              <a:rPr b="0" i="1" lang="en-CA" sz="2000" spc="-1" strike="noStrike">
                <a:solidFill>
                  <a:srgbClr val="000000"/>
                </a:solidFill>
                <a:latin typeface="Arial"/>
              </a:rPr>
              <a:t>3e</a:t>
            </a:r>
            <a:r>
              <a:rPr b="0" lang="en-CA" sz="2000" spc="-1" strike="noStrike">
                <a:solidFill>
                  <a:srgbClr val="000000"/>
                </a:solidFill>
                <a:latin typeface="Arial"/>
              </a:rPr>
              <a:t>, etc.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un trait d’union par une barre oblique, autant que nécessaire, pour plus de clarté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ume X, no 3 (janvier 20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 32, numéro 7 (septembre/octobre 2003</a:t>
            </a:r>
            <a:r>
              <a:rPr b="0" i="1" lang="fr-CA" sz="2000" spc="-1" strike="noStrike">
                <a:solidFill>
                  <a:srgbClr val="000000"/>
                </a:solidFill>
                <a:latin typeface="Arial"/>
              </a:rPr>
              <a:t>)-</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septembre-octobre)</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Édition 1999/2000-édition 2012/2013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2012/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3200" spc="-1" strike="noStrike">
                <a:solidFill>
                  <a:srgbClr val="000000"/>
                </a:solidFill>
                <a:latin typeface="Arial"/>
              </a:rPr>
              <a:t>      </a:t>
            </a:r>
            <a:r>
              <a:rPr b="0" lang="fr-CA" sz="2000" spc="-1" strike="noStrike">
                <a:solidFill>
                  <a:srgbClr val="000000"/>
                </a:solidFill>
                <a:latin typeface="Arial"/>
              </a:rPr>
              <a:t>362 0# $a[Partie 1] (mars 2001)-partie 5 (juillet 2005)</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120"/>
            <a:ext cx="8229600" cy="167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RDA 2.1.2.3 </a:t>
            </a: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a) Si les livraisons ou les parties ont une numérotation séquentielle, choisir une source d’information identifiant la livraison ou la partie disponible portant la plus petite numérotation.</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b) Si les livraisons ou les parties ne sont pas numérotées ou n’ont pas de numérotation séquentielle, choisir une source d’information identifiant la livraison ou la partie ayant la date de parution la plus ancien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c) Si le concept de parution séquentielle en parties ne s’applique pas (par exemple, un ensemble multi-supports), choisir une source d’information identifiant la ressource dans son intégralité, ou alors traiter les sources identifiant les parties individuelles comme une source d’information collective pour la ressource dans son intégralit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C-PCC PS pour RDA 2.1.2.3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Ne jamais faire la description d’après un numéro préliminaire (« numéro 0 », « volume 0 », « numéro pilote », etc.)</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La description sera faite après la réception du premier numéro (ex. volume 1, no 1; numéro 1, etc.)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la description est faite d’après la première livraison:</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0# $aVolume 1, no 1 (mai 2012)-</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RDA 2.20.5.3 Faire une note donnant la numérotation de la première livraison ou partie et/ou de la dernière livraison ou partie si cette information n’est pas enregistrée comme partie de l’élément </a:t>
            </a:r>
            <a:r>
              <a:rPr b="0" i="1" lang="fr-CA" sz="2400" spc="-1" strike="noStrike">
                <a:solidFill>
                  <a:srgbClr val="000000"/>
                </a:solidFill>
                <a:latin typeface="Arial"/>
              </a:rPr>
              <a:t>Numérotation des publications en série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1# $aCommence avec la livraison du 15 juin 1998; a cessé avec la livraison de juillet 2007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588 ## $aDescription d’après : 15 août 1999</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920"/>
            <a:ext cx="8229600" cy="19224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4000" spc="-1" strike="noStrike">
                <a:solidFill>
                  <a:srgbClr val="000000"/>
                </a:solidFill>
                <a:latin typeface="Arial"/>
              </a:rPr>
              <a:t>Changements requérant une nouvelle description (1.6.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1</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mode de parution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 une publication en série change pour une monographie en plusieurs parties ou une ressource intégratrice, ou si une monographie en plusieurs parties ou une ressource intégratrice change pour une publication en série (voir 2.13).</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2</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type de média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e type de média (voir 3.2) d’une publication en série.</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3</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majeur dans le titre propre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majeur dans le titre propre d’une publication en série (voir 2.3.2.12.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4</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e responsabilité pour 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a responsabilité qui requiert un changement dans l’identification de la publication en série comme œuvre (voir 6.1.3.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5</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a mention d’édition</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lorsqu’il y a un changement dans la mention d’édition indiquant un changement significatif de la portée ou de la couverture d’une publication en série.</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000000"/>
                </a:solidFill>
                <a:latin typeface="Arial"/>
              </a:rPr>
              <a:t>Changements majeurs et mineurs dans le titre propre des publications en série</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1 </a:t>
            </a:r>
            <a:r>
              <a:rPr b="1" lang="en-CA" sz="2400" spc="-1" strike="noStrike">
                <a:solidFill>
                  <a:srgbClr val="000000"/>
                </a:solidFill>
                <a:latin typeface="Arial"/>
              </a:rPr>
              <a:t>Changements majeurs</a:t>
            </a:r>
            <a:r>
              <a:rPr b="0" lang="en-CA" sz="2400" spc="-1" strike="noStrike">
                <a:solidFill>
                  <a:srgbClr val="000000"/>
                </a:solidFill>
                <a:latin typeface="Arial"/>
              </a:rPr>
              <a:t> </a:t>
            </a:r>
            <a:r>
              <a:rPr b="1" lang="en-CA" sz="2400" spc="-1" strike="noStrike">
                <a:solidFill>
                  <a:srgbClr val="000000"/>
                </a:solidFill>
                <a:latin typeface="Arial"/>
              </a:rPr>
              <a:t>dans le titre propre des publications en série</a:t>
            </a: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2 </a:t>
            </a:r>
            <a:r>
              <a:rPr b="1" lang="en-CA" sz="2400" spc="-1" strike="noStrike">
                <a:solidFill>
                  <a:srgbClr val="000000"/>
                </a:solidFill>
                <a:latin typeface="Arial"/>
              </a:rPr>
              <a:t>Changements mineurs dans le titre propre des publications en série</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s généra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personnes, des familles, des collectivités et des lieux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expressions (130 et 240)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es relations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Environnement hybride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60102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45 10 $aRapport annuel</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6 1# $i</a:t>
            </a:r>
            <a:r>
              <a:rPr b="0" lang="fr-CA" sz="2800" spc="-1" strike="noStrike">
                <a:solidFill>
                  <a:srgbClr val="000000"/>
                </a:solidFill>
                <a:latin typeface="Arial"/>
              </a:rPr>
              <a:t>Le titre figure sur le volume 1, numéro</a:t>
            </a:r>
            <a:r>
              <a:rPr b="0" lang="fr-CA" sz="2800" spc="-1" strike="noStrike">
                <a:solidFill>
                  <a:srgbClr val="000000"/>
                </a:solidFill>
                <a:latin typeface="Arial"/>
                <a:ea typeface="Arial"/>
              </a:rPr>
              <a:t> </a:t>
            </a:r>
            <a:r>
              <a:rPr b="0" lang="fr-CA" sz="2800" spc="-1" strike="noStrike">
                <a:solidFill>
                  <a:srgbClr val="000000"/>
                </a:solidFill>
                <a:latin typeface="Arial"/>
              </a:rPr>
              <a:t>1 comme suit : $a Raport annuel</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5 00 $aHydro-Québec</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500 ## $aRapport intermédiaire abrég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245 00 $aLinguistics and language behavior abstracts</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6 13 $aLLLB</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800" spc="-1" strike="noStrike">
                <a:solidFill>
                  <a:srgbClr val="000000"/>
                </a:solidFill>
                <a:latin typeface="Arial"/>
              </a:rPr>
              <a:t>Ne pas enregistrer la date de copyright </a:t>
            </a:r>
            <a:r>
              <a:rPr b="0" lang="fr-CA" sz="1800" spc="-1" strike="noStrike">
                <a:solidFill>
                  <a:srgbClr val="000000"/>
                </a:solidFill>
                <a:latin typeface="Arial"/>
              </a:rPr>
              <a:t>(s’il n’y a que cette date dans la ressource, enregistrer une date probable dans la zone 264 #1 ... $c[2013])</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1800" spc="-1" strike="noStrike">
                <a:solidFill>
                  <a:srgbClr val="000000"/>
                </a:solidFill>
                <a:latin typeface="Arial"/>
              </a:rPr>
              <a:t>Lieu de publication non identifié</a:t>
            </a:r>
            <a:r>
              <a:rPr b="0" lang="fr-CA" sz="1800" spc="-1" strike="noStrike">
                <a:solidFill>
                  <a:srgbClr val="000000"/>
                </a:solidFill>
                <a:latin typeface="Arial"/>
              </a:rPr>
              <a:t> </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 aucun éditeur n’est mentionné et que celui-ci ne peut pas être identifié à partir d’autres sources, enregistrer </a:t>
            </a:r>
            <a:r>
              <a:rPr b="0" i="1" lang="fr-CA" sz="1800" spc="-1" strike="noStrike">
                <a:solidFill>
                  <a:srgbClr val="000000"/>
                </a:solidFill>
                <a:latin typeface="Arial"/>
              </a:rPr>
              <a:t>éditeur non identifi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8229600" cy="101314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établir la ou les dates approximatives, ne pas enregistrer de date de publication</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264 #1 $aMontréal : $bTVA publication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volumes ; $c24 cm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1 ressource en ligne</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36 ## $atexte $btxt $2rdaconten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sans médiation $bn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informatique $bc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a:t>
            </a:r>
            <a:r>
              <a:rPr b="1" lang="fr-CA" sz="2400" spc="-1" strike="noStrike">
                <a:solidFill>
                  <a:srgbClr val="000000"/>
                </a:solidFill>
                <a:latin typeface="Arial"/>
              </a:rPr>
              <a:t>volume </a:t>
            </a:r>
            <a:r>
              <a:rPr b="0" lang="fr-CA" sz="2400" spc="-1" strike="noStrike">
                <a:solidFill>
                  <a:srgbClr val="000000"/>
                </a:solidFill>
                <a:latin typeface="Arial"/>
              </a:rPr>
              <a:t>$bnc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ressource en ligne $bcr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u="sng">
                <a:solidFill>
                  <a:srgbClr val="000000"/>
                </a:solidFill>
                <a:uFillTx/>
                <a:latin typeface="Arial"/>
              </a:rPr>
              <a:t>la zone 310 est obligatoire</a:t>
            </a:r>
            <a:r>
              <a:rPr b="1" lang="en-CA" sz="1800" spc="-1" strike="noStrike">
                <a:solidFill>
                  <a:srgbClr val="000000"/>
                </a:solidFill>
                <a:latin typeface="Arial"/>
              </a:rPr>
              <a:t>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a:solidFill>
                  <a:srgbClr val="000000"/>
                </a:solidFill>
                <a:latin typeface="Arial"/>
              </a:rPr>
              <a:t>la zone 321-ajouter si nécessaire pour la périodicité antérieur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Transcrire les termes et les chiffres tels que sur la ressourc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les nombres écrits en toutes lettres par des chiffres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dates extrêmes et d’autres nombres extrêmes, enregistrer le premier et le dernier nombre en entier</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1800" spc="-1" strike="noStrike">
                <a:solidFill>
                  <a:srgbClr val="000000"/>
                </a:solidFill>
                <a:latin typeface="Arial"/>
              </a:rPr>
              <a:t>1er</a:t>
            </a:r>
            <a:r>
              <a:rPr b="0" lang="en-CA" sz="1800" spc="-1" strike="noStrike">
                <a:solidFill>
                  <a:srgbClr val="000000"/>
                </a:solidFill>
                <a:latin typeface="Arial"/>
              </a:rPr>
              <a:t>, </a:t>
            </a:r>
            <a:r>
              <a:rPr b="0" i="1" lang="en-CA" sz="1800" spc="-1" strike="noStrike">
                <a:solidFill>
                  <a:srgbClr val="000000"/>
                </a:solidFill>
                <a:latin typeface="Arial"/>
              </a:rPr>
              <a:t>1re</a:t>
            </a:r>
            <a:r>
              <a:rPr b="0" lang="en-CA" sz="1800" spc="-1" strike="noStrike">
                <a:solidFill>
                  <a:srgbClr val="000000"/>
                </a:solidFill>
                <a:latin typeface="Arial"/>
              </a:rPr>
              <a:t>, </a:t>
            </a:r>
            <a:r>
              <a:rPr b="0" i="1" lang="en-CA" sz="1800" spc="-1" strike="noStrike">
                <a:solidFill>
                  <a:srgbClr val="000000"/>
                </a:solidFill>
                <a:latin typeface="Arial"/>
              </a:rPr>
              <a:t>2e</a:t>
            </a:r>
            <a:r>
              <a:rPr b="0" lang="en-CA" sz="1800" spc="-1" strike="noStrike">
                <a:solidFill>
                  <a:srgbClr val="000000"/>
                </a:solidFill>
                <a:latin typeface="Arial"/>
              </a:rPr>
              <a:t>, </a:t>
            </a:r>
            <a:r>
              <a:rPr b="0" i="1" lang="en-CA" sz="1800" spc="-1" strike="noStrike">
                <a:solidFill>
                  <a:srgbClr val="000000"/>
                </a:solidFill>
                <a:latin typeface="Arial"/>
              </a:rPr>
              <a:t>3e</a:t>
            </a:r>
            <a:r>
              <a:rPr b="0" lang="en-CA" sz="1800" spc="-1" strike="noStrike">
                <a:solidFill>
                  <a:srgbClr val="000000"/>
                </a:solidFill>
                <a:latin typeface="Arial"/>
              </a:rPr>
              <a:t>, etc.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un trait d’union par une barre oblique, autant que nécessaire, pour plus de clarté  </a:t>
            </a:r>
            <a:endParaRPr b="0" lang="en-US" sz="18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d) Si c’est une ressource à laquelle le concept des parties ordonnées ne s’applique pas et s’il n’y a aucune source d’information identifiant la ressource dans son intégralité (par exemple, un ensemble de vidéodisques de production locale sans aucune source d’information identifiant l’ensemble dans son intégralité), choisir une source d’information identifiant la partie principale, s’il y a une partie qui peut être considérée comme la partie principale de la ressource. Sinon, traiter les sources identifiant les parties individuelles comme une source d’information collective pour la ressource dans son intégralité.</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52293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62 1# $aCommence avec la livraison du 15 juin 1998; a cessé avec la livraison de juillet 2007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Ne jamais faire la description d’après un numéro préliminaire (« numéro 0 », « volume 0 », « numéro pilote », etc.)</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La description sera faite après la réception du premier numéro (ex. volume 1, no 1; numéro 1, etc.)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Merci!</a:t>
            </a: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juin 2013</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l’identification n’est pas basée sur la première livraison ou partie (voir 2.1.2.3), faire une note identifiant la livraison ou partie servant de base à l’identification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Exempl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588 ## $aDescription d’après : volume 2, numéro 3 (24 janvier 2011)</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DA </a:t>
            </a:r>
            <a:r>
              <a:rPr b="1" lang="en-CA" sz="2000" spc="-1" strike="noStrike">
                <a:solidFill>
                  <a:srgbClr val="000000"/>
                </a:solidFill>
                <a:latin typeface="Arial"/>
              </a:rPr>
              <a:t>2.2.2.2</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la page de titre, la feuille de titre ou la fiche de titre</a:t>
            </a:r>
            <a:r>
              <a:rPr b="0" lang="en-CA" sz="2000" spc="-1" strike="noStrike">
                <a:solidFill>
                  <a:srgbClr val="000000"/>
                </a:solidFill>
                <a:latin typeface="Arial"/>
              </a:rPr>
              <a:t> (ou l’image correspondante) comme source d’information privilégié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ressource n’a pas de page de titre, de feuille de titre ou de fiche de titre (ou d’image correspondante), utiliser comme source d’information privilégiée la première des sources suivantes qui porte un titr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couverture</a:t>
            </a:r>
            <a:r>
              <a:rPr b="0" lang="en-CA" sz="2000" spc="-1" strike="noStrike">
                <a:solidFill>
                  <a:srgbClr val="000000"/>
                </a:solidFill>
                <a:latin typeface="Arial"/>
              </a:rPr>
              <a:t> (ou une image d’une couvertu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 </a:t>
            </a:r>
            <a:r>
              <a:rPr b="1" lang="en-CA" sz="2000" spc="-1" strike="noStrike">
                <a:solidFill>
                  <a:srgbClr val="000000"/>
                </a:solidFill>
                <a:latin typeface="Arial"/>
              </a:rPr>
              <a:t>un titre de départ</a:t>
            </a:r>
            <a:r>
              <a:rPr b="0" lang="en-CA" sz="2000" spc="-1" strike="noStrike">
                <a:solidFill>
                  <a:srgbClr val="000000"/>
                </a:solidFill>
                <a:latin typeface="Arial"/>
              </a:rPr>
              <a:t> (ou une image d’un titre de dépar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c) </a:t>
            </a:r>
            <a:r>
              <a:rPr b="1" lang="en-CA" sz="2000" spc="-1" strike="noStrike">
                <a:solidFill>
                  <a:srgbClr val="000000"/>
                </a:solidFill>
                <a:latin typeface="Arial"/>
              </a:rPr>
              <a:t>un bloc générique</a:t>
            </a:r>
            <a:r>
              <a:rPr b="0" lang="en-CA" sz="2000" spc="-1" strike="noStrike">
                <a:solidFill>
                  <a:srgbClr val="000000"/>
                </a:solidFill>
                <a:latin typeface="Arial"/>
              </a:rPr>
              <a:t> (ou une image d’un bloc génériqu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d) </a:t>
            </a:r>
            <a:r>
              <a:rPr b="1" lang="en-CA" sz="2000" spc="-1" strike="noStrike">
                <a:solidFill>
                  <a:srgbClr val="000000"/>
                </a:solidFill>
                <a:latin typeface="Arial"/>
              </a:rPr>
              <a:t>un achevé d’imprimer</a:t>
            </a:r>
            <a:r>
              <a:rPr b="0" lang="en-CA" sz="2000" spc="-1" strike="noStrike">
                <a:solidFill>
                  <a:srgbClr val="000000"/>
                </a:solidFill>
                <a:latin typeface="Arial"/>
              </a:rPr>
              <a:t> (ou une image d’un achevé d’imprim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2.2.2.4</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utres ressourc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Pour une ressource autre que celles indiquées sous 2.2.2.2-2.2.2.3, utiliser comme source d’information privilégiée, lorsqu’elle s’appliqu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étiquette</a:t>
            </a:r>
            <a:r>
              <a:rPr b="0" lang="en-CA" sz="2000" spc="-1" strike="noStrike">
                <a:solidFill>
                  <a:srgbClr val="000000"/>
                </a:solidFill>
                <a:latin typeface="Arial"/>
              </a:rPr>
              <a:t> portant un titre, qui est imprimée ou apposée de façon permanente sur la ressource, à l’exception du matériel textuel d’accompagnement ou d’un conteneur (par exemple, une étiquette sur un CD audio ou sur une maquett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a:t>
            </a:r>
            <a:r>
              <a:rPr b="1" lang="en-CA" sz="2000" spc="-1" strike="noStrike">
                <a:solidFill>
                  <a:srgbClr val="000000"/>
                </a:solidFill>
                <a:latin typeface="Arial"/>
              </a:rPr>
              <a:t> des métadonnées intégrées sous forme textuelle qui contiennent un titre</a:t>
            </a:r>
            <a:r>
              <a:rPr b="0" lang="en-CA" sz="2000" spc="-1" strike="noStrike">
                <a:solidFill>
                  <a:srgbClr val="000000"/>
                </a:solidFill>
                <a:latin typeface="Arial"/>
              </a:rPr>
              <a:t> (par exemple, métadonnées intégrées dans un fichier audio MP3).</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ressource ne contient aucune source d’information correspondant à la catégorie a) ou b) ci-dessus, utiliser comme source d’information privilégiée </a:t>
            </a:r>
            <a:r>
              <a:rPr b="1" lang="en-CA" sz="3200" spc="-1" strike="noStrike">
                <a:solidFill>
                  <a:srgbClr val="000000"/>
                </a:solidFill>
                <a:latin typeface="Arial"/>
              </a:rPr>
              <a:t>une autre source faisant partie de la ressource elle-même, en donnant la préférence aux sources dans lesquelles l’information est présentée de façon formell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8:39:57Z</dcterms:created>
  <dc:creator>BANQ</dc:creator>
  <dc:description/>
  <dc:language>en-US</dc:language>
  <cp:lastModifiedBy>BANQ</cp:lastModifiedBy>
  <dcterms:modified xsi:type="dcterms:W3CDTF">2013-06-05T18:57:14Z</dcterms:modified>
  <cp:revision>81</cp:revision>
  <dc:subject/>
  <dc:title>Diapositive 1</dc:title>
</cp:coreProperties>
</file>