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9DD-13A7-4EDE-B1BD-F0878838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CC5-6743-4AE9-B7B0-2F2213F3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C9E-D537-47FB-AB39-1957C572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AA8-DD62-4835-BE05-CD0C39E1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26A-668C-48A8-A749-AA5187F3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58D-709D-481F-A8A3-BD540A41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15E-33DB-4FBD-BDC0-AA846BDA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92C-D433-4540-9EC1-9F40C4F7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6C2-A2BE-4134-BA4A-9E332340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F3A-1715-42D3-98FF-E491F74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E6D-3A5E-468F-992F-E198E6A4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572-D6D6-416F-B6FD-1513F7AA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3F7B-A415-4E1D-BC44-C2A1A91F1976}" type="datetime">
              <a:rPr b="0" lang="fr-CA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7C9D-C78C-49A7-80FD-7C1D8598171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774880"/>
          <a:ext cx="8229600" cy="3687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diteur intelle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ograp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ot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ur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alisateur d’émissions de télé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eur de commentaire ajou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ZoneTexte 6"/>
          <p:cNvSpPr/>
          <p:nvPr/>
        </p:nvSpPr>
        <p:spPr>
          <a:xfrm>
            <a:off x="468360" y="105264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œ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e manife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une personne/une collectivité/ou une famille et un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D04-C464-41D4-8E73-64E97EEB4B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alibri"/>
              </a:rPr>
              <a:t>Quels types de relations signalent les indicateurs suivants? Préciser l’endroit où vous avez trouvé la réponse dans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017880"/>
          <a:ext cx="8229600" cy="326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eur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de 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 de recher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épis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ir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la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oduction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phras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é av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ZoneTexte 5"/>
          <p:cNvSpPr/>
          <p:nvPr/>
        </p:nvSpPr>
        <p:spPr>
          <a:xfrm>
            <a:off x="539640" y="1341360"/>
            <a:ext cx="813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Types de rela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œuv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manif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Calibri"/>
              </a:rPr>
              <a:t>relation entr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92A-C968-4A63-AFF4-A4AA50A597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14:56Z</dcterms:created>
  <dc:creator>Tiburon</dc:creator>
  <dc:description/>
  <dc:language>en-US</dc:language>
  <cp:lastModifiedBy>Pat Riva</cp:lastModifiedBy>
  <dcterms:modified xsi:type="dcterms:W3CDTF">2013-04-15T17:59:45Z</dcterms:modified>
  <cp:revision>111</cp:revision>
  <dc:subject/>
  <dc:title>Quiz Module 8: les relations RDA</dc:title>
</cp:coreProperties>
</file>