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A84-C439-438D-805D-E12401D6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AD6-8427-45DB-A26B-69A48F90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3EA-A468-4B63-A767-88E2025A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04C-36D5-4E8F-B7FA-0CBAC2CA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386-2A5B-43C4-9289-71BA1935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51E-3F5E-40D8-8AD3-C3106FD8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87F-4B8B-4EE1-94A2-18099E4F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D43-0FAD-4AA7-9BC7-8B00263E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BEC-3DC8-4AA5-BE33-125F764A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164-3AF1-447D-8FA7-3D471218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4CB-7F97-4752-8EFB-CA1DD06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F9C-F937-4185-9BB3-42BD2C8C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F0BE-C671-4069-A5AB-D3018DCE87ED}" type="datetime">
              <a:rPr b="0" lang="fr-CA" sz="1200" spc="-1" strike="noStrike">
                <a:solidFill>
                  <a:srgbClr val="898989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BA77-61CD-47E0-B543-483B9955A39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AF9-AA3D-4B58-9AF5-2BAC1EDEFE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447-34A9-4A0F-B615-11CD28B598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7:59:45Z</dcterms:modified>
  <cp:revision>111</cp:revision>
  <dc:subject/>
  <dc:title>Quiz Module 8: les relations RDA</dc:title>
</cp:coreProperties>
</file>