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442E-5FC7-43AB-B51C-A1C6287D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83E4-4E06-4CBA-961A-7F71BC02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01CA-1C56-4A92-A489-96680F3FB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ABE9-1AB5-45B4-8166-69263CEE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94A9-873A-428F-89CE-2EB3C959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C635-F813-45A3-9850-292CC628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41E8-F9A3-49DA-9684-D7E0B1C8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C131-516C-452A-B04F-BFBE41E2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3C25-4C36-418E-8853-5A8CED13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CDC0-01FE-4C9C-9306-8C3350AD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5D40-DA64-45FD-B7BF-59A69ADB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D0BD-925F-4942-984B-EF031B98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D570-0EE7-4E1E-9E87-04231438DF2A}" type="datetime">
              <a:rPr b="0" lang="fr-CA" sz="1200" spc="-1" strike="noStrike">
                <a:solidFill>
                  <a:srgbClr val="898989"/>
                </a:solidFill>
                <a:latin typeface="Calibri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1C5A-8A45-4944-AEF0-DEF56BCF0974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68360" y="2774880"/>
          <a:ext cx="8229600" cy="3687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diteur intelle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hograp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ot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ew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aur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éalisateur d’émissions de télé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eur de commentaire ajou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3" name="ZoneTexte 6"/>
          <p:cNvSpPr/>
          <p:nvPr/>
        </p:nvSpPr>
        <p:spPr>
          <a:xfrm>
            <a:off x="468360" y="105264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œu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manife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0E23-13C5-4598-B8B8-0BC7DD62D7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re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3017880"/>
          <a:ext cx="8229600" cy="3267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ment de recher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r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épis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miro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la col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roduction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phrase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é av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6" name="ZoneTexte 5"/>
          <p:cNvSpPr/>
          <p:nvPr/>
        </p:nvSpPr>
        <p:spPr>
          <a:xfrm>
            <a:off x="539640" y="134136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œuv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manif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995F-2A95-4F6E-AA05-A52D92BC48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Pat Riva</cp:lastModifiedBy>
  <dcterms:modified xsi:type="dcterms:W3CDTF">2013-04-15T17:59:45Z</dcterms:modified>
  <cp:revision>111</cp:revision>
  <dc:subject/>
  <dc:title>Quiz Module 8: les relations RDA</dc:title>
</cp:coreProperties>
</file>