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22120CB-7F46-4C51-A023-428CBF36EC8C}"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1B84770-3FA0-49B2-AEB4-619A824457F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access.rdatoolkit.org/document.php?id=rdachp20&amp;target=rda20-115#rda20-115" TargetMode="External"/><Relationship Id="rId2" Type="http://schemas.openxmlformats.org/officeDocument/2006/relationships/hyperlink" Target="http://access.rdatoolkit.org/document.php?id=rdachp20&amp;target=rda20-115#rda20-115" TargetMode="External"/><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us allons maintenant traiter des relations RDA.</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peut exprimer les relations selon 3 méthodes, et le choix de la méthode employée dépend, en très grande partie, du type de relation qui est exprimé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première méthode, dont on vient tout juste de parler, consiste à employer un point d’accès autorisé avec un indicateur de relation (dans l’ex. à l’écran on a donc une collectivité qui est auteur d’une ressourc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seconde méthode consiste, pour sa part, à rédiger une description structurée, saisie dans une zone de liaison, et de qualifier la relation en $i.</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Enfin, la troisième méthode prévoit la rédaction d’une description non structurée, qui prend, alors, la forme d’un note en texte libre (par exemple, une note en 50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À présent, nous allons voir comment exprimer les relations dans les notices bibliographiques en utilisant le format MARC.</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Pour les zones 100 et 110, et les zones 700 et 710, on peut utiliser le $e pour donner l’indicateur de relation, qu’on ajoute après le point d’accès autorisé.</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Pour les zones 111 et 711, la sous-zone $e est déjà employée pour saisir le nom d’une collectivité subordonnée. Par conséquent, l’indicateur de relation ne peut pas est enregistré en $e, mais doit plutôt être donné en $j.</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La sous zone $i des zones 700 à 730 est également utilisée pour fournir de l’information sur la relation </a:t>
            </a:r>
            <a:r>
              <a:rPr b="0" lang="fr-FR" sz="1200" spc="-1" strike="noStrike">
                <a:solidFill>
                  <a:srgbClr val="000000"/>
                </a:solidFill>
                <a:latin typeface="Calibri"/>
              </a:rPr>
              <a:t>qui existe entre la ressource décrite dans la zone 7XX et celle décrite dans les zones 1XX et 245 de la notice. Il est possible de saisir des phrases non contrôlées en $i, mais dans le cadre de RDA et des options qu’on a décider d’appliquer, on doit s’en tenir, autant que possible, au phrase que l’on trouve dans l’annexe J (par exemple: « Traduction de »)</a:t>
            </a:r>
            <a:r>
              <a:rPr b="0" lang="fr-FR" sz="900" spc="-1" strike="noStrike">
                <a:solidFill>
                  <a:srgbClr val="000000"/>
                </a:solidFill>
                <a:latin typeface="Arial"/>
                <a:ea typeface="ＭＳ Ｐゴシック"/>
              </a:rPr>
              <a:t>.</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On peut également utiliser le $i au début des zones de liaison pour préciser la nature de la relation entre des ressources. </a:t>
            </a:r>
            <a:r>
              <a:rPr b="0" lang="fr-FR" sz="900" spc="-1" strike="noStrike" u="sng">
                <a:solidFill>
                  <a:srgbClr val="000000"/>
                </a:solidFill>
                <a:uFillTx/>
                <a:latin typeface="Arial"/>
                <a:ea typeface="ＭＳ Ｐゴシック"/>
              </a:rPr>
              <a:t>Sauf pour les zones 780 et 785</a:t>
            </a:r>
            <a:r>
              <a:rPr b="0" lang="fr-FR" sz="900" spc="-1" strike="noStrike">
                <a:solidFill>
                  <a:srgbClr val="000000"/>
                </a:solidFill>
                <a:latin typeface="Arial"/>
                <a:ea typeface="ＭＳ Ｐゴシック"/>
              </a:rPr>
              <a:t>, on emploie donc un indicateur de relation en $i, en s’assurant que </a:t>
            </a:r>
            <a:r>
              <a:rPr b="0" lang="fr-FR" sz="900" spc="-1" strike="noStrike">
                <a:solidFill>
                  <a:srgbClr val="000000"/>
                </a:solidFill>
                <a:latin typeface="Calibri"/>
              </a:rPr>
              <a:t>le second indicateur contient la valeur 8 (pour qu’aucune constante d’affichage soit générée). </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Le codage MARC peut également être utilisé pour exprimer une relation. Par exemple, dans les zone 780 et 785, le deuxième indicateur est employé pour générer une constante d’affichage (par ex., en 780, 0 = fait suite à ; 1= </a:t>
            </a:r>
            <a:r>
              <a:rPr b="0" lang="fr-FR" sz="900" spc="-1" strike="noStrike">
                <a:solidFill>
                  <a:srgbClr val="000000"/>
                </a:solidFill>
                <a:latin typeface="Calibri"/>
              </a:rPr>
              <a:t>Fait suite après scission à ; 2 = remplace, etc. ; tandis qu’en 785, vous avez les relations réciproques, donc 0 = Suivi de ; 1 = Suivi en partie de ; 2 = Remplacé par, etc.)</a:t>
            </a:r>
            <a:r>
              <a:rPr b="0" lang="fr-FR" sz="900" spc="-1" strike="noStrike">
                <a:solidFill>
                  <a:srgbClr val="000000"/>
                </a:solidFill>
                <a:latin typeface="Arial"/>
                <a:ea typeface="ＭＳ Ｐゴシック"/>
              </a:rPr>
              <a:t> </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De la même façon, on peut utiliser la valeur 2 comme 2</a:t>
            </a:r>
            <a:r>
              <a:rPr b="0" lang="fr-FR" sz="900" spc="-1" strike="noStrike" baseline="30000">
                <a:solidFill>
                  <a:srgbClr val="000000"/>
                </a:solidFill>
                <a:latin typeface="Arial"/>
                <a:ea typeface="ＭＳ Ｐゴシック"/>
              </a:rPr>
              <a:t>ième</a:t>
            </a:r>
            <a:r>
              <a:rPr b="0" lang="fr-FR" sz="900" spc="-1" strike="noStrike">
                <a:solidFill>
                  <a:srgbClr val="000000"/>
                </a:solidFill>
                <a:latin typeface="Arial"/>
                <a:ea typeface="ＭＳ Ｐゴシック"/>
              </a:rPr>
              <a:t> indicateur, dans la zone 740, pour indiquer, par exemple, qu’une œuvre fait partie de la ressource que l’on catalogue (i.e. une relation tout-partie).</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Enfin, nous avons vu que le deuxième indicateur de la zone 264 permet de préciser si l’entité nommé en $b est un producteur, un éditeur, un distributeur ou un fabricant, donc on peut dire que ça vient également qualifier la relation entre la ressource et l’entité concernée.    </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ea typeface="ＭＳ Ｐゴシック"/>
              </a:rPr>
              <a:t>Pour citer une ressource en re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utilise, comme on vient de le voir, les zones MARC 700, 710, 711, ou 730.</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forme du nom que l’on doit utiliser est la forme privilégiée telle qu’établi dans notre fichier d’autorité (en autant qu’il ne s’agisse pas d’une autorité RCAA1).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on trouve pas de notice d’autorité déjà établie, on doit donner la forme RDA (et créer une autorité s’il y a lieu).</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Cela dit, il y a une exception à laquelle il faut porter attention: il ne faut pas utiliser les autorités RCAA2 qui contiennent le terme « multilingue » pi qui contiennent plus d’une langue dans la sous-zone $l pour désigner les expressions multiples contenues dans une même manifestation, puis que, comme on l’a vu au module 7, chaque expression doit avoir son point d’accè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ea typeface="ＭＳ Ｐゴシック"/>
              </a:rPr>
              <a:t>Si on utilise une des zones de liaison pour citer une ressource en relation:</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Vous n’avez qu’à co</a:t>
            </a:r>
            <a:r>
              <a:rPr b="0" lang="fr-FR" sz="1200" spc="-1" strike="noStrike">
                <a:solidFill>
                  <a:srgbClr val="000000"/>
                </a:solidFill>
                <a:latin typeface="Calibri"/>
              </a:rPr>
              <a:t>pier/coller l’information telle qu’elle apparaît dans la notice de la ressource citée, puis ajouter le codage approprié pour les sous-zones. Il est évident que l’information que vous aller copier dans la zone de liaison ne suivra pas nécessairement les directives de RDA, notamment en ce qui à trait à la transcription (i.e. les abréviations, les majuscules, etc.). Ça ne vaut pas la peine, cependant, de prendre le temps de tout modifier en fonction de RDA (et ce, d’autant plus que vous n’aurez pas le document en main et que vous ne pourrez pas vérifier, par exemple, si le mot éd. a été abrégé par le catalogueur, où s’il apparaissait tel quel sur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Maintenant, nous allons nous attarder à la façon d’exprimer les relations dans les notices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 fondamentales LC sont représentées dans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sous-zone $w de la zone 500 et dans la zone 663  OU</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sous-zone $w de la 510</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es exemples vont vous être montrés plus tard dans le modul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optionnelles peuvent aussi être ajoutées dans la 5XX $w r $i (et ici aussi, nous avons des exemples à vous montrer plus tard pour vous donner une meilleure idée de comment il faut procéder).</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résumé, dans cette première partie du module nous avons v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nous établissions déjà des relations avec les RCAA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avec RDA, s’ajoutent certains nouveaux concepts concernant les relations entre les entités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les éléments fondamentaux LC sont identifiés dans le LC-PCC P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les relations sont enregistrées à l’aide de points d’accès autorisés, de notes et de zones de liais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À présent, nous allons aborder la seconde partie du module, qui traite des relations entre les entités du Group 1 (les personnes, familles, et collectivités) et du Groupe 2 (les œuvres, les expressions, les manifestations, et les item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diapositive vous montre quels sont les chapitres qui correspondent aux relations que les entités du groupe 2 ont avec les ressources (et, comme nous l’avons vu, ces relations sont enregistrée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créateurs et autres personnes/familles/collectivités qui sont associées aux œuvres sont présentées au chapitre 19</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contributeurs associés aux expressions sont présentées au chapitre 20</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fabricants, les éditeurs, distributeurs associés aux manifestations sont présentées au chapitre 21</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propriétaires, les annotateurs, les signataires autographes, etc., qui sont associés aux items sont couverts au chapitre 22</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Arial"/>
                <a:ea typeface="Arial"/>
              </a:rPr>
              <a:t>Les relations entre les œuvres et les créateur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personnes, familles, et collectivités associées aux œuvres comprennent: les auteurs, les compilateurs (e.g. les compilateurs de bibliographies), les cinéastes, les interviewers, les programmeurs etc. (la liste complète des indicateurs de relation pour les créateurs et les autres personnes associées aux œuvres sont donnés dans l’annexe I.2)</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LC-PCC-PS 19.2 nous dit que l’on doit obligatoirement donner le créateur ayant la responsabilité principale et qui est nommé en premier sur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plusieurs créateurs associés à l’œuvre sont nommés, le catalogueur doit juger s’il est pertinent de donner des points d’accès pour les autres créateurs.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Relations avec les créateur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entre l’œuvre et le créateurs est exprimée à l’aide des zones 1XX (100, 110 ou la 111) lorsque l’on a une ressource par un seul créateur. Les zones 1XX sont aussi utilisées pour le premier créateur nommé d’une ressource qui a été créée par plus d’une créateur ayant la responsabilité principale (et les autres créateurs peuvent alors être mentionnés en 7XX, ainsi que les autres personnes ou collectivités associées à l’œuvre). La seule exception, comme on l’a vu au module 6, sont les compilations d’œuvres par plusieurs créateurs (car, on s’en rappelle, on ne donne pas de 1XX, mais des points d’accès 7xx pour chacune des œuvres de la compi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de l’annexe I.2 sont enregistrés dans la sous-zone $e de la zone 1XX ou 7XX. Une fois de plus, on vous rappelle qu’il ne s’agit pas d’une liste fermée. Si aucun des termes de la liste ne convient (ce qui devrait arrivé exceptionnellement), vous devez suivre une procédure pour que le terme puisse être ajouté à la liste. Nous y reviendrons plus tard.</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i vous devez créer une notice d’autorité pour un créateur, ne pas inclure l’indicateur de relation dans la zone 1XX de la notice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objectifs du module sont les suivant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prendre les principes de base propres aux relations dans RDA</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dentifier les relations qui sont fondamentales dans LC</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Établir des relations correctement dans les noti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ur cette diapo, on vous montre des exemples de créateurs, auxquels on a ajouté un indicateur de relation.</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le premier exemple, deux collectivités qui remplissent le rôle de créateur sont données en 110 et 71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deux autres exemples montrent d’autres types de créateurs pour lesquels on trouve des indicateurs de relation à l’annexe I.2. Dans le premier cas, on a le compositeur d’une œuvre musicale, et dans le second, une juridiction qui a promulgué un acte ou un décret législatif.</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Hormis les créateurs, il y a d’autres personnes, familles ou collectivités qui peuvent être associées aux œuvres ; les instructions se rapportant à ces autres types de relation sont présentées sous 19.3.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Nous avons donc ici l’exemple d’un organisme de publication—i.e. une collectivité qui publie une ressource à titre d’organe officiel de l’organisme — ainsi que l’exemple d’une collectivité agissant à titre de commanditair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lations avec les contributeur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 terme « contributeur » désigne, selon le chapitre 20 de RDA, « les personnes, les familles et les collectivités qui contribuent à la réalisation d’une œuvre dans une </a:t>
            </a:r>
            <a:r>
              <a:rPr b="0" lang="fr-FR" sz="1200" spc="-1" strike="noStrike" u="sng">
                <a:solidFill>
                  <a:srgbClr val="000000"/>
                </a:solidFill>
                <a:uFillTx/>
                <a:latin typeface="Arial"/>
                <a:ea typeface="ＭＳ Ｐゴシック"/>
              </a:rPr>
              <a:t>expression</a:t>
            </a:r>
            <a:r>
              <a:rPr b="0" lang="fr-FR" sz="1200" spc="-1" strike="noStrike">
                <a:solidFill>
                  <a:srgbClr val="000000"/>
                </a:solidFill>
                <a:latin typeface="Arial"/>
                <a:ea typeface="ＭＳ Ｐゴシック"/>
              </a:rPr>
              <a:t> ».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armi les types de relations impliquant les entités du groupe 2 et les expressions on trouve: les traducteurs, les éditeurs intellectuels, les interprètes, les illustrateurs, les arrangeurs de musique, les compilateurs (e.g. les compilateurs d’anthologie), etc. Pour les instructions relatives aux contributeurs, il faut consulter la section RDA 20.2.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mi les différents types de contributeurs couverts à la section 20.2, seul le </a:t>
            </a:r>
            <a:r>
              <a:rPr b="0" lang="fr-FR" sz="1200" spc="-1" strike="noStrike" u="sng">
                <a:solidFill>
                  <a:srgbClr val="000000"/>
                </a:solidFill>
                <a:uFillTx/>
                <a:latin typeface="Calibri"/>
              </a:rPr>
              <a:t>premier illustrateur d’une ressource pour enfants</a:t>
            </a:r>
            <a:r>
              <a:rPr b="0" lang="fr-FR" sz="1200" spc="-1" strike="noStrike">
                <a:solidFill>
                  <a:srgbClr val="000000"/>
                </a:solidFill>
                <a:latin typeface="Calibri"/>
              </a:rPr>
              <a:t> est considéré comme une relation fondamentale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plusieurs illustrateurs sont nommés, le catalogueur doit juger s’il est pertinent de donner plus d’un illustrateur.</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lations avec les contributeur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elon le format MARC, les contributeurs doivent être saisis sous la forme de point d’accès autorisés dans les zone 7XX de la notice bibliographiqu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pour les contributeurs se trouvent dans l’annexe I.3 – et, selon la politique LC seul l’indicateur de relation pour les illustrateurs de ressources destinés aux enfants est obligatoir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les autres contributeurs, c’est encore une fois le jugement du catalogueur qui va déterminer si on doit également donner l’indicateur de relation en plus du point d’accès (en terme général, si vous décidez d’ajouter un point d’accès pour un contributeur, il est logique de fournir également un indicateur de relation appropri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Finalement, on vous rappelle de ne pas inclure l’indicateur de relation dans la notice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tout d’abord, nous avons ici un exemple pour l’illustrateur d’un ressource pour enfants, une relation qui doit être obligatoirement être établi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Ici, le nom privilégié + l’indicateur de relation sont utilisés pour exprimer la relation entre Dominique Jolin et cette expression précise de l’œuvre de Carole Tremblay.</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 point d’accès pour l’auteur, Carole Tremblay, l’indicateur de relation « auteur » pourrait être ajouté (ça permettrait, notamment, de préciser le type de créateur auquel nous avons affair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tez également que, selon RDA, le point d’accès pour un contributeur n’a pas besoin d’être justifié: en fait, la seconde mention de responsabilité (« illustrations, Dominique Jolin ») n’est pas un élément fondamental RDA. Cela dit, ici aussi on doit faire preuve de jugement ; si l’information apparaît sur la source d’information, la meilleure chose à faire est sans doute de fournir l’information, pour éviter que plus tard on puisse se poser des questions à savoir pourquoi un point d’accès autorisé a été saisi.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Finalement, constatez que le $e illustrateur a été ajouté au nom privilégié en 700, ce qui est conforme au LC-PCC PS </a:t>
            </a:r>
            <a:r>
              <a:rPr b="0" lang="fr-FR" sz="1200" spc="-1" strike="noStrike" u="sng">
                <a:solidFill>
                  <a:srgbClr val="009999"/>
                </a:solidFill>
                <a:uFillTx/>
                <a:latin typeface="Arial"/>
                <a:ea typeface="ＭＳ Ｐゴシック"/>
                <a:hlinkClick r:id="rId1"/>
              </a:rPr>
              <a:t>20.2.1.3</a:t>
            </a:r>
            <a:r>
              <a:rPr b="0" lang="fr-FR" sz="1200" spc="-1" strike="noStrike" u="sng">
                <a:solidFill>
                  <a:srgbClr val="009999"/>
                </a:solidFill>
                <a:uFillTx/>
                <a:latin typeface="Arial"/>
                <a:ea typeface="ＭＳ Ｐゴシック"/>
                <a:hlinkClick r:id="rId2"/>
              </a:rPr>
              <a:t> </a:t>
            </a:r>
            <a:r>
              <a:rPr b="0" lang="fr-FR" sz="1200" spc="-1" strike="noStrike">
                <a:solidFill>
                  <a:srgbClr val="000000"/>
                </a:solidFill>
                <a:latin typeface="Arial"/>
                <a:ea typeface="ＭＳ Ｐゴシック"/>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ce deuxième exemple, on voit un autre type de relation au niveau de l’expression qui, pour certains types de ressources, peut être jugé important par le catalogu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onc ici nous on a enregistré la relation pour le traducteur d’une œuvre littéraire en fournissant un point d’accès autorisé et un indicateur de relation. Encore une fois, on rappelle que l’ajout des indicateurs de relation « auteur » et « traducteur » est laissé au jugement du catalogueur.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Nous allons à présent voir les relations entre les personnes, les familles et les collectivités qui sont associées aux manifestation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chapitre 21 et l’annexe I.4 fournissent la liste des relations au niveau de la manifestation, ce qui comprend les producteurs, les éditeurs (à ne pas confondre ici avec les éditeurs intellectuels), les diffuseurs et les distributeurs, et, finalement, les fabricants (par exemple, les graveurs, les lithographes, les phototypeurs, les imprimeurs, etc.).</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elon la politique LC, il revient au catalogueur de juger s’il est pertinent ou non d’enregistrer les relations au niveau de la manifestation.</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onsultant l’annexe I.4, vous allez être à même de constater qu’on retrouve relativement peu de termes pouvant être utilisés comme indicateurs de relation. D’ailleurs, les termes « producteur », « éditeur », « fabricant » et « distributeurs » n’apparaissent pas dans la liste en annexe I : on trouve uniquement des indicateurs de relation pour des types de producteurs, d’éditeurs, de distributeurs, ou de fabricants. C’est pourquoi la politique de LC est de ne pas fournir d’indicateur en $e pour ce type de relations. LC fait valoir, d’ailleurs, que le deuxième indicateur de la zone 264 indique déjà si le nom dans la sous zone $b désigne un producteur, un éditeur, etc., donc ils considèrent que l’ajout de l’indicateur de relation serait redondan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Cela dit, dans les formations LC, on nous rappelle également qu’il n’y a pas de police RDA qui puisse s’objecter à l’usage d’un terme qui n’apparaît pas à l’Annexe I : en d’autres termes, comme la liste est ouverte, le terme « éditeur » pourrait, en théorie, être utilisé si, pour une raison quelconque, une institution croit qu’il serait utile de l’ajouter. C’est pourquoi il va falloir, je présume, que l’on prenne, nous-mêmes, une décision à ce suje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terminer, nous allons aborder les relations au niveau de l’item, c’est-à-dire des relations entre les personnes, les familles ou les collectivités, d’une part, et d’autre part, un exemplaire isolé </a:t>
            </a:r>
            <a:r>
              <a:rPr b="0" lang="fr-FR" sz="1200" spc="-1" strike="noStrike">
                <a:solidFill>
                  <a:srgbClr val="000000"/>
                </a:solidFill>
                <a:latin typeface="Calibri"/>
              </a:rPr>
              <a:t>manifestation quelconq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principaux indicateurs de relation qui sont employés pour ce niveau, sont « propriétaire », « dépositaire » et « conservateur », mais vous pouvez consulter l’annexe I.5 pour avoir la liste exhaustiv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olitique de LC, ici encore, est d’appliquer le jugement du catalogueur. Ce sont, en général, des relations que l’on indique plus rarement dans les notices bibliographiques, mais qui peuvent être jugés pertinentes dans le cas de collections spéciales ou de livres rares et ancien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module est réparti en quatre sections principal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Nous allons tout d’abord vous parler des principes de base touchant aux relations RDA</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suite, nous allons traiter des relations entre les entités du groupe 1 et 2 (donc entre les ressources et les personnes/familles/collectivité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relations entre les entités du groupe 1 (i.e. des relations entre les œuvres, les expressions, les manifestations et les item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 les entités du groupe 2 (i.e. entre les personnes, les familles et les collectivité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onc, conformément à ce que nous venons de voir, les relations exprimées dans les exemples suivants se rapportent à un exemplaire particulier ou à une instance de la manifestation. Par conséquent, ce sont des notes qui sont uniquement pertinentes au niveau local (par ex. qui est le donateur du document x conservé dans la collection y).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résumé: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Œuvres :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réateur dans la zone 1XX, les autres en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est facultatif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xpressions: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ontributeur dans la zone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seulement requis pour l’illustrateur d’une ressource pour enfants (LC)</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anifestations : jugement du catalogueur</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tems : jugement du catalogu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Les relations entre les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entre les ressources sont les relations qui existent entre les œuvres, les expressions, les manifestations et les ite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épendant du type d’entités concernées, les relations doivent être établies dans les notices d’autorité, ou dans les notices bibliographiques et d’autor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pour chacune des entités du groupe 1 sont traités dans des chapitres séparé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5 parle des Œuvres en re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6 parle des Expression en re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7, des Manifestations en re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 le chapitre 28, des items en re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chapitre 25 traite des relations entre les œuvr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types les plus communs de relation entre les œuvres comprennen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tout-partie (par ex., les œuvres qui sont comprises à l’intérieur d’une compilation, d’une anthologie, d’un recueil, etc. ; les articles publiés dans d’une revue ou dans les actes d’un colloque, voire même les chapitres d’un livre, si on considère que chaque chapitre est une œuvr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adaptations (par ex., l’adaptation cinématographique d’une œuvre littéraire ; une adaptation en prose d’une chanson de geste, un roman classique adapté pour les lecteurs de 12 à 16 ans, etc.)</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suppléments (par ex. un guide pédagogique ou un corrigé qui accompagne un manuel scolair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séquentielles (par ex., les relations « précédé de » ou « suivi de », employées souvent pour les périodiques; les romans qui ont des suites ou des antépisodes, etc.).</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LC considère comme fondamentales deux types précis de re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tout-partie pour les œuvres qui font partie d’une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séquentielles pour les publications en sér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utres types de relations sont optionnel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on regarde tout d’abord les relations tout-partie pour les compilat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C indique que l’on doit créer une note de dépouillement (en 505) sauf si les titres apparaissent ailleurs dans la description (par exemple dans le titre parce que la compilation n’a pas de titre collectif) ou que le nombre d’œuvres comprises est trop grand et exigerait, par conséquent, une note 505 d’une longueur exagéré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En plus du dépouillement, la politique LC exige que l’on donne au moins un point d’accès analytique autorisé en 7XX.  Le catalogueur doit alors juger s’il est nécessaire ou pertinent de donner d’autres œuvres comme points d’accès autorisé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e plus, l’énoncé de politique de LC sous 25.1 demande de ne pas créer de points d’accès analytiques autorisés pour certains types de ressources: notamment, pour les anthologies de poésie, les actes de colloque, les livres de cantiques, les périodiques, les recueils d’entrevues ou de lettres, etc.).</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CPS 25.1 on 7XX</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xemple à l’écran, des points d’accès autorisés sont utilisés pour représenter la relation entre les parties (donc, chacune des deux pièces individuelles de Molière) et la ressource comme tout. Étant donné que l’indicateur #2 indique déjà qu’il s’agit d’un point d’accès analytique, LC juge que le codage suffit à exprimer la relation: c’est pourquoi ils ont décidé de ne pas utiliser d’indicateurs de relation provenant de l’Annexe J. Cela dit, le PCC n’est pas d’accord avec cette position, étant donné que l’indicateur ne fait qu’indiquer que la chose représentée par le point d’accès est contenu dans la compilation, sans préciser s’il s’agit d’une œuvre ou d’une expression. Il va falloir que nous prenions, par conséquent, une décision sur le sujet, et qu’on s’enligne soit avec LC ou avec le PCC.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Quant aux relations séquentielles, vous avez à l’écran le cas de deux périodiques où l’un est la continuation de l’autre. Dans l’exemple précédent, on avait utilisé des points d’accès autorisés ; ici, on emploie plutôt des descriptions structurées qui contiennent chacune, en plus du titre, 3 identifiants: l’ISSN, le numéro de contrôle de la notice LC, et le numéro de contrôle de la notice OCLC.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ce cas aussi, les indicateurs des zones de liaison 780 et 785, sont utilisés puisque les points d’accès autorisés saisis dans ces zones ne peuvent représenter que des œuvres, et qu’il n’y a donc pas risque de confusion.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œuvres peuvent également être signalées dans les notices d’autorité créées au nom des œuvres. Cependant, notez bien qu’il ne s’agit pas d’une exigence fondamentale, ni pour RDA, ni pour LC, et c’est donc le catalogueur qui doit déterminer si, à son avis, la relation doit être exprimée ou n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xemple à l’écran, on voit comment est employé un indicateur de relation pour une relation d’œuvre à œuvre: alors indiquer que la pièce Incendies de Wajdi Mouawad a adaptée sous forme de film, on a tout d’abord saisi dans le sous champ de contrôle $w la valeur « r » (« r » = relationship ; indique qu’un indicateur de relation (ou le code qui lui correspond) a été employé en $i ou en $4) ; ensuite on a ajouté un indicateur qui provient de l’annexe J.2 (« Indicateurs de relation pour les œuvres en relation »). Évidemment, dans ce cas-ci, on irait également créer la relation réciproque dans la notice pour le film (en employant cette fois-ci une zone 50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ar ailleurs, l’information saisi en 046 et en 380 correspondent à des éléments RDA qui, bien qu’ils ne figurent pas dans le point d’accès autorisé pour l’œuvre, sont tout de même enregistrés dans la notice d’autorité, puisque le catalogueur a jugé qu’ils pouvaient être utile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us allons à présent traiter des relations entre expressions, qui sont traitées au chapitre 26 de RDA.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Ici aussi, on a établi une liste des relations les plus communes au niveau des expressions:</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Relations tout-partie (e.g. si ouvrage agrégatif contient plusieurs œuvres sous forme de traductions).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Relations dérivativ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Révis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Édit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Traduct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Abrégés, etc. (= abridgement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deux objectifs de base, selon lesquels RDA est structuré, sont de faciliter l’identification des ressources et de permettre d’établir des relations entre les différentes entités représentées au catalogue.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modules que nous vous avons présentés jusqu’à maintenant permettaient de remplir le premier de ces objectifs, soit identifier les œuvres, les expression, les manifestations, les items, les personnes, les collectivités, les familles et les lieux à partir de leurs attributs respectifs.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À présent nous allons voir comment remplir le second objectif en liant entre elles les entités du groupe 1 et 2.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En premier lieu, nous devons comprendre ce que sont les relations au sens où RDA l’entend. Les entités que nous identifions en cataloguant — les ressources, les personnes, les collectivités, etc. — sont associées les unes avec les autres (RDA découlant, comme on s’en rappelle, d’un modèle entités-relations). Les relations RDA correspondent donc aux liens qui sont établis conceptuellement par les modèles FRBR et FRAD entre les entités.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Avec les RCAA2, nous étions déjà familiers avec l’idée que les auteurs sont en relation avec les œuvres qu’ils ont écrits ; de même, nous exprimions déjà des relations en utilisant des zones de liaison pour indiquer qu’un périodique changeait de titre, ou pour relier les versions papier et électronique d’une même ressource.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Cela signifie, en somme, qu’on reliait déjà des entités entre elles, bien qu’à présent les relations </a:t>
            </a:r>
            <a:r>
              <a:rPr b="0" lang="fr-FR" sz="1000" spc="-1" strike="noStrike">
                <a:solidFill>
                  <a:srgbClr val="000000"/>
                </a:solidFill>
                <a:latin typeface="Calibri"/>
              </a:rPr>
              <a:t>jouent un rôle beaucoup plus important, pour ne pas dire crucial, dans la structure de la RDA.</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Exprimer des relations dans les notices bibliographiques et les notices d’autorité permet donc aux usagers de trouver ce qu’il recherchent et facilite la navigation à l’intérieur de notre catalogue et dans nos produits bibliographiques.</a:t>
            </a:r>
            <a:endParaRPr b="0" lang="en-US" sz="10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énoncé de politique LC qui correspond à l’instruction 26.1 indique que pour les expressions, LC considère comme fondamental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tout-partie pour les expressions qui sont comprises dans une compilation (la politique pour les œuvres comprises dans une compilation est la même que pour les œuvres comprises dans une compil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insi que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séquentielles pour les publications en série (par ex. un changement de titre qui affecte la version française d’un périodique russ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illustrer le type de relations que nous allons établir au niveau des expressions, nous avons préparé quelques exempl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Alors tout d’abord, pour les relations tout-partie, on a choisi une compilation qui comprend les versions françaises de trois des romans de la romancière britannique P.D. Jam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Tout comme pour les relations tout-partie pour les œuvres, LC demande à leurs catalogueurs de fournir une description structurée en dépouillement et de fournir en plus un point d’accès autorisé pour l’expression prédominante ou pour la première expression qui apparaît dans la compilation, à condition que l’expression représente une portion substantielle de la ressource (donc pas de point autorisé aux parties liminaires comme les préfaces et les introduct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points d’accès pour les autres expressions ne sont pas obligatoires ; c’est le catalogueur qui, en fonction de leur importance relative, doit décider s’il est pertinent de les ajouter.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xemple à l’écran, vous noterez qu’on n’a pas employé d’indicateur de relation pour les points d’accès autorisé en 700 : l’indicateur 2 de la 700 a plutôt été utilisé pour indiquer qu’il s’agit d’un point d’accès autorisé analytiqu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Aussi, notez que les 740 ne sont pas obligatoires, mais qu’elles sont très utiles, dans le cas présent, puisqu’un personne peut facilement rechercher un des romans de la compilation en utilisant le titre français. La encore, c’est le jugement du catalogueur qui va devoir trancher (en tenant compte, bien sûr, du nombre d’expressions que comprend la compi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orsqu’une publication en série est éditée en plusieurs langues, chacune des versions constitue une expression en re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l’exemple à l’écran, on a donc utilisé une description structurée enregistrée dans la zone de liaison 775 pour exprimer la relation entre la version originale en espagnol et la version en anglais. La relation réciproque doit également apparaître dans la notice bibliographique pour la version espagno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au niveau de l’expression pour les traductions ne sont pas requises dans RDA et ne font pas partie des relations fondamentales LC. La diapositive présentement à l’écran, et celles qui la suivent, ont néanmoins été ajoutées au module pour illustrer quels sont les moyens disponibles pour établir ce type de relations. Donc ici, vous avez le point d’accès établi en 240 avec le $l qui servent à identifier l’œuvre et l’expression: cette information doit être obligatoirement fournie en vertu du chapitre 6 (c’est un élément fondamental). Par contre, vous voyez que l’on a également ajouté une 700 auteur-titre, précédée d’un indicateur de relation provenant de l’annexe J, qui exprime de façon explicite le lien entre la version française qui est cataloguée et la version originale. Cette relation, elle, n’est pas fondamentale, bien que le PCC encouragent les catalogueurs à l’utiliser. Pour BAnQ, la décision doit être prise sous peu, et nous allons vous la communiquer dans les plus brefs délais.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ous passons à présent au chapitre 27, qui traite des relations entre manifestations, ce qui comprend les types de relations suivante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Reproduction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Différents formats d’une même expression (par ex. un enregistrement sonore gravé sur vinyle ou sur CD, un livre imprimé vs sa version PDF, etc.)</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uméros spéciaux de périodiques, etc.</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Selon l’énoncé de politique LC, </a:t>
            </a:r>
            <a:r>
              <a:rPr b="0" lang="fr-FR" sz="800" spc="-1" strike="noStrike" u="sng">
                <a:solidFill>
                  <a:srgbClr val="000000"/>
                </a:solidFill>
                <a:uFillTx/>
                <a:latin typeface="Arial"/>
                <a:ea typeface="Arial"/>
              </a:rPr>
              <a:t>les relations entre reproductions sont fondamentales.</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Cependant, il faut préciser que le terme « reproduction » est employé, dans RDA, dans un sens très large ; par reproduction on désigne donc toutes les ressources identifiées comme rééditions, réimpressions, reproductions et facsimilés, en autant que la nouvelle manifestation présente un contenu équivalent à celui de la manifestation originale. </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Les éditions révisées, quant à elles, constituent une nouvelle expression et, par conséquent, elle ne peuvent pas être traitées comme des reproductions.</a:t>
            </a:r>
            <a:endParaRPr b="0" lang="en-US" sz="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Arial"/>
              </a:rPr>
              <a:t>Tout comme pour œuvres en relation et les expressions en relations, RDA nous permet d’utiliser une description structurée (en utilisant les zones de liaison 775 ou 776) ou de rédiger une note non structurée en 500, pour exprimer la relation. Remarquez cependant qu’au niveau de la manifestation, on ne peut pas utiliser un point d’accès autorisé pour indiquer une relation (vous n’aurez donc pas à créer d’autorités pour les manifestation). (Cela pourrait toutefois changer quand nous passerons à un niveau d’implantation plus avancé, où chaque entité du groupe 1 seront cataloguées dans des notices séparées). </a:t>
            </a:r>
            <a:endParaRPr b="0" lang="en-US" sz="9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Arial"/>
              </a:rPr>
              <a:t>Sauf pour les reproductions (qui sont des relations fondamentales LC), c’est essentiellement le catalogueur qui devra juger s’il est pertinent d’indiquer des relations supplémentaires au niveau de la manifestation ; aussi, le catalogueur devra décider s’il pertinent d’utiliser les indicateurs de relation de l’annexe J.4 dans la sous-zone $i (et ce, bien sûr, à moins que le codage MARC n’exprime déjà la relation).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tout d’abord, voici un exemple de manifestations en relation où un même contenu, exprimé dans la même langue, est présenté dans deux format différent: en format imprimé et sur CD-ROM. L’indicateur de relation saisi en $i provient de la liste des relations entre manifestations équivalentes, disponible sous J.4.2.</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e façon générale, LC a décidé d’employer une description structurée en 775 ou en 776, </a:t>
            </a:r>
            <a:r>
              <a:rPr b="0" lang="fr-FR" sz="1200" spc="-1" strike="noStrike" u="sng">
                <a:solidFill>
                  <a:srgbClr val="000000"/>
                </a:solidFill>
                <a:uFillTx/>
                <a:latin typeface="Arial"/>
                <a:ea typeface="Arial"/>
              </a:rPr>
              <a:t>et c’est également ce que nous allons faire</a:t>
            </a:r>
            <a:r>
              <a:rPr b="0" lang="fr-FR" sz="1200" spc="-1" strike="noStrike">
                <a:solidFill>
                  <a:srgbClr val="000000"/>
                </a:solidFill>
                <a:latin typeface="Arial"/>
                <a:ea typeface="Arial"/>
              </a:rPr>
              <a:t>. Vous devez choisir la zone 775 quand le support de la ressource est le même (par ex., la réimpression d’un ouvrage qui, à l’origine, était publié sous forme imprimée – support = volume dans les deux ca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On emploie la zone 776 lorsque le support est différent (par exemple, une monographie publiée en deux formats différents, imprimé et électroniqu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la zone de liaison, vous devez retranscrire l’information telle qu’elle apparaît dans la notice bibliographique de la manifestation originale, sans mettre à jour les données. Par conséquent, si la notice originale a été créée en RCAA2, vous ne modifiez pas les données selon RDA. (copier-colle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il n’y pas de notice bibliographique ou de description détaillée de la manifestation qui sont disponibles, rédigez plutôt une note non structurée dans la zone MARC 50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par contre, la reproduction est une compilation (par ex., si vous traitez la réimpression ou la réédition d’une compi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e </a:t>
            </a:r>
            <a:r>
              <a:rPr b="0" lang="fr-CA" sz="1200" spc="-1" strike="noStrike">
                <a:solidFill>
                  <a:srgbClr val="008093"/>
                </a:solidFill>
                <a:latin typeface="Calibri"/>
              </a:rPr>
              <a:t>pas</a:t>
            </a:r>
            <a:r>
              <a:rPr b="0" lang="fr-CA" sz="1200" spc="-1" strike="noStrike">
                <a:solidFill>
                  <a:srgbClr val="000000"/>
                </a:solidFill>
                <a:latin typeface="Calibri"/>
              </a:rPr>
              <a:t> créer une zone de liaison MARC 775 ou 776 pour chaque œuvre/expression de la compilation, e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e </a:t>
            </a:r>
            <a:r>
              <a:rPr b="0" lang="fr-CA" sz="1200" spc="-1" strike="noStrike">
                <a:solidFill>
                  <a:srgbClr val="008093"/>
                </a:solidFill>
                <a:latin typeface="Calibri"/>
              </a:rPr>
              <a:t>pas</a:t>
            </a:r>
            <a:r>
              <a:rPr b="0" lang="fr-CA" sz="1200" spc="-1" strike="noStrike">
                <a:solidFill>
                  <a:srgbClr val="000000"/>
                </a:solidFill>
                <a:latin typeface="Calibri"/>
              </a:rPr>
              <a:t> rédiger une note non structurée pour donner l’historique de l’édition de chaque œuvre/expression de la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devez donc seulement vous contenter d’exprimer la relation entre les deux compilations, sans se préoccuper des relations au niveau analytique.</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onc, on a ici l’exemple d’un volume reproduit sur un nouveau support (i.e. sur bobine de microfiche): vu que les deux supports sont différents, on a employé la zone 776, et on a saisi en $i l’indicateur de relation “Reproduction of (manifestation)”, qui apparaît à l’annexe J.</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Notez que le terme « manifestation » est inclus puisqu’on peut également avoir une reproduction d’un item en particulier (par exemple, le facsimilé d’un item précis, en auquel cas on utiliserait « Reproduction de (item) : ».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Vous remarquerez également que la première lettre du premier mot de l’indicateur de relation doit être transcrite en majuscule (même s’il n’y a pas de majuscule en annex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e plus, l’indicateur de relation doit être suivi par une espace, « :$a » (qui va produire l’espace suivant à l’affichag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Ceci est un changement qui va affecter la ponctuation – désormais, les « : » vont toujours être précédés et suivis d’un espace, y compris dans les en-têtes de note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Finalement, on a utilisé la zone $w pour générer au catalogue un lien cliquable vers la notice de la manifestation origina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établir une relation, nous avons besoin de deux éléments:</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Tout d’abord ils nous faut des entités qui vont mises en relations (et comme je viens de le mentionner nous parlons ici des entités FRBR).</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Une entité peut être identifiée de diverses manières: soit à l’aide d’un point d’accès autorisé (ce que l’on appelait auparavant des vedettes), soit à l’aide d’un identifiant (tel qu’un ISSN, un ISBN ou un URI), ou d’une description (qui est donnée sous la forme d’une note).</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Ensuite, on doit préciser — et c’est le second élément dont on a besoin — quel est le type de relation qui unit les entités mises en relation, ce que l’on effectue à l’aide d’indicateurs de relation (i.e. un terme qui nous indique ce qu’est la relation, ou quel est le rôle joué par une personne, une collectivité ou une famille vis-à-vis d’un ressource quelconque, que ce soit au niveau de l’œuvre, de l’expression, de la manifestation, ou de l’item).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Enfin, nous allons voir le dernier type de relation entre ressources, soit les relations entre item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tems en relation sont traités au chapitre 28, et les principaux types de relations entre items comprennen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productions de copies spécif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e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 reliés avec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entre items s’appliquent uniquement à des copies individuelles de la manifestation ; c’est donc, habituellement, de l’information loca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elon le LC-PCC PS, les relations fondamentales LC (qui sont également fondamentales BAnQ) comprenne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production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particulières entre les ressources ra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 reliés avec ».</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ce qui est de l’enregistrement des relations entre items, on procède de la même façon que pour les manifestations, i.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Qu’on utilise une zone de liaison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Ou une note non structurée  pour exprimer la re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Aussi, tout comme pour les manifestations, on ne crée pas de point d’accès autorisé pour représenter un item.</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ce qui est des autres relations au niveau de l’item, on laisse au jugement du catalogueur la décision d’établir la relation. Aussi, on laisse au catalogueur la décision d’employer les indicateurs de relation de l’annexe J.5 (surtout pour les relations qui ne sont pas fondamentales : e.g., «commentaire sur», « analyse de », « contenu dans », etc.).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nc, pour résumé la section que nous venos de voir:</a:t>
            </a:r>
            <a:endParaRPr b="0" lang="en-US" sz="1200" spc="-1" strike="noStrike">
              <a:solidFill>
                <a:srgbClr val="000000"/>
              </a:solidFill>
              <a:latin typeface="Calibri"/>
            </a:endParaRPr>
          </a:p>
          <a:p>
            <a:pPr indent="0">
              <a:spcBef>
                <a:spcPts val="451"/>
              </a:spcBef>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fondamentales LC (qui sont également fondamentales pour BAnQ) son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œuvres et les expressions: les relations tout-partie lorsqu’on traite une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les relations séquentielles pour les publications en séri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manifestations: les reproductions (mais ici, il faut se rappeler que reproductions a un sens élargi qui comprend les réédi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réimpressions, etc.)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items: « Les relié avec » (qui est une relation qui concerne typiquement les publications ancien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es reproduction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Maintenant, nous allons traiter du dernier bloc de relations couvert dans le module: soit les relations entre les personnes, les familles, et les collectivités (ou, si l’on préfère, les relations entre les entités du groupe 2).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première chose à souligner, c’est que dans le cas des entités du groupe 2, les relations vont être enregistrées dans les notices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Cela dit, la section qui vient est importante, peu importe que l’on crée ou non des autorités, parce qu’il faut comprendre les relations pour pouvoir choisir la bonne forme autorisée lorsqu’on établit des points d’accès dans les notices bibliographiques.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pour les instructions traitant des personnes en relation, il faut consulter le chapitre 30</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les instructions sur les familles en relation, il faut consulter le chapitre 31, e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les instructions sur les collectivités en relation, il faut consulter le chapitre 32</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jugées fondamentales par LC se limitent à deux types de relations:</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remièrement, les différentes identités d’une personn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euxièmement, les collectivités qui précèdent ou succèdent immédiatement une collectivité donné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t>
            </a:r>
            <a:r>
              <a:rPr b="0" lang="fr-FR" sz="1200" spc="-1" strike="noStrike" u="sng">
                <a:solidFill>
                  <a:srgbClr val="000000"/>
                </a:solidFill>
                <a:uFillTx/>
                <a:latin typeface="Arial"/>
                <a:ea typeface="ＭＳ Ｐゴシック"/>
              </a:rPr>
              <a:t>il faut cependant spécifier que l’on ne doit pas établir de relations séquentielles pour les congrès, les conférences, les expositions, etc., ; donc on n’établit ces relations que pour les collectivités « ordinaires »</a:t>
            </a:r>
            <a:r>
              <a:rPr b="0" lang="fr-FR" sz="1200" spc="-1" strike="noStrike">
                <a:solidFill>
                  <a:srgbClr val="000000"/>
                </a:solidFill>
                <a:latin typeface="Arial"/>
                <a:ea typeface="ＭＳ Ｐゴシック"/>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s notices d’autorités, les relations entre les entités du groupe 2 sont enregistrées dans les zones 5XX des notices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 format MARC pour les données d’autorité permet d’exprimer les relations de diverses façons (en employant une valeur en $w, en utilisant un indicateur de relation en $i ou en utilisant un code pour la relation, en $4).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C a décidé d’employer la sous-zone $w, plutôt que le $i ou le $4, pour enregistrer:</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différentes identités d’une personne OU</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séquentielles immédiates pour les collectivité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Quant à nous, on n’utilisera pas le $w pour les différentes identités d’une personne, mais on va l’employer pour les collectivités qui précèdent ou succèdent. Alors dans les diapos qui suivent, on va vous montrer ce que nous allons faire plus spécifiquement.</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on regarde, premièrement, la politique LC en ce a trait aux relations entre les différentes identités d’une personn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une personne est connues sous deux identités, LC va donner la première identité en 100, et la seconde en 500 sans utiliser de codag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une personne est connue sous 3 identités ou plus de 3 identités, alors LC va utiliser la zone 663 (i.e. la zone pour les </a:t>
            </a:r>
            <a:r>
              <a:rPr b="1" lang="fr-FR" sz="1200" spc="-1" strike="noStrike">
                <a:solidFill>
                  <a:srgbClr val="000000"/>
                </a:solidFill>
                <a:latin typeface="Arial"/>
                <a:ea typeface="ＭＳ Ｐゴシック"/>
              </a:rPr>
              <a:t>r</a:t>
            </a:r>
            <a:r>
              <a:rPr b="1" lang="fr-FR" sz="1200" spc="-1" strike="noStrike">
                <a:solidFill>
                  <a:srgbClr val="000000"/>
                </a:solidFill>
                <a:latin typeface="Calibri"/>
              </a:rPr>
              <a:t>envois complexes de vedettes de nom</a:t>
            </a:r>
            <a:r>
              <a:rPr b="0" lang="fr-FR" sz="1200" spc="-1" strike="noStrike">
                <a:solidFill>
                  <a:srgbClr val="000000"/>
                </a:solidFill>
                <a:latin typeface="Calibri"/>
              </a:rPr>
              <a:t>)</a:t>
            </a:r>
            <a:r>
              <a:rPr b="1" lang="fr-FR" sz="1200" spc="-1" strike="noStrike">
                <a:solidFill>
                  <a:srgbClr val="000000"/>
                </a:solidFill>
                <a:latin typeface="Calibri"/>
              </a:rPr>
              <a:t> </a:t>
            </a:r>
            <a:r>
              <a:rPr b="0" lang="fr-FR" sz="1200" spc="-1" strike="noStrike">
                <a:solidFill>
                  <a:srgbClr val="000000"/>
                </a:solidFill>
                <a:latin typeface="Arial"/>
                <a:ea typeface="ＭＳ Ｐゴシック"/>
              </a:rPr>
              <a:t>avec la zone 500 codée avec la valeur «nnnc» en $w.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Quant à nous — on vient de le mentionner — on va employer des zone 500 sans codage, peu importe le nombre d’identités associées à une personne, mais on va cependant utiliser la zone 663, comme on l’a vu lors de la dernière réunion de catalogage (et, pour ceux qui sont peut-être moins familiers avec la zone 663,  on a également inclus des exemples dans les diapos suivantes, pour montrer concrètement comment la zone est utilisée).  </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Alors, pour le premier exemple, on a choisi un créateur connu sous deux identités: Émile Coderre, alias Jean Narrache. </a:t>
            </a:r>
            <a:endParaRPr b="0" lang="en-US" sz="12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comme nous venons de le dire, pour deux identités, on se contente de donner la seconde identité en 500, sans utiliser de codage supplémentaire et sans utiliser la zone 663.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us allons donc voir ensemble trois ensembles ou groupes de relations, soit : </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entités du groupe 1 (les œuvres, les expressions, les manifestations et les items) et les entités du groupe 2 (i.e. les personnes, les familles et les collectivité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entités du groupe 1 (i.e. entre les œuvres, les expressions, les manifestations, et les item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et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entités du groupe 2 (i.e. entre les personnes, les familles et les collectivité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par contre, une personne possède trois identités différentes, ou plus de trois identités différentes, comme c’est le cas, par exemple, pour MARC Twain, on doit alors procéder comme on le voit à l’écran: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donne des zones 500 pour les autres noms sous lesquels a écrit le créateur ; en bleu, on voit le codage que va utiliser LC ; pour notre part, je le répète, on va omettre ce codag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nsuite, on va rédiger une note en 663 en donnant, en $a, le texte explicatif («</a:t>
            </a:r>
            <a:r>
              <a:rPr b="0" lang="fr-CA" sz="1000" spc="-1" strike="noStrike">
                <a:solidFill>
                  <a:srgbClr val="000000"/>
                </a:solidFill>
                <a:latin typeface="Courier New"/>
              </a:rPr>
              <a:t>Pour les œuvres de cet auteur écrites sous d’autres noms, rechercher aussi sous »), puis dans le $b (que l’on répète au besoin), on donne les points d’accès saisis en 500.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La deuxième autorité montre comment on établit ensuite les relations réciproques dans les autorités pour les autres identités (e.g. l’autorité pour Samuel Langhorne Clemens).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Remarquez qu’ici LC emploie une technique afin de minimiser le nombre de variantes de points d’accès en donnant toutes les variantes dans l’autorité pour l’identité qu’il juge « principale », puis en donnant, dans les autres autorités, une seule 500 vers Mark Twain (l’autorité mère ou principal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 moment, ce n’est pas ce que l’on fait, mais on pourrait éventuellement décider d’appliquer cette technique. </a:t>
            </a:r>
            <a:endParaRPr b="0" lang="en-US" sz="10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Maintenant, en ce qui concerne les collectivités en relation, nous allons faire exactement comme LC, i.e. que nous allons indiquer la relation en employant dans la zone 510 soi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valeur « a » en $w pour indiquer qu’il s’agit de la collectivité qui précède immédiatement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U la valeur « b » pour indiquer qu’il s’agit de la collectivité qui succède immédiatemen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dans le premier exemple, on voit que le Canadien Pacifique était antérieurement la Compagnie du chemin de fer canadien du Pacifique, et le second exemple donne la relation réciproque (i.e. la Compagnie du chemin de fer canadien du Pacifique est devenue le Canadien Pacifique).</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ce qui est des autres relations qui existent entre les entités du groupe 2, LC laisse au jugement du catalogueur la décision de les indiquer ou non dans les notices d’autorités. Pour l’instant nous avons la même politique, donc c’est à vous de voir si une relation mérite ou non d’être exprimer dans la notic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Aussi, le catalogueur doit juger s’il est pertinent ou non de saisir en $i un indicateur de relation issu de l’annexe K pour préciser quelle est la relation entre les deux entité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vous décidez d’employer un indicateur de relation en $i, il faut OBLIGATOIREMENT saisir la valeur « r » dans la sous-zone $w (r = relationship)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diapositive présente deux exemples pour vous montrer comment procéde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1) Dans l’autorité pour Charles Tisseyre, on a décidé d’établir une relation pour indiquer qui est son employ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utilise donc une 510, en codant $w r ; ensuite on enregistre l’indicateur de relation en $i (« Employeur »), et on donne en $a le nom de l’employ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2) Dans la seconde autorité, on a établi la relation entre le membre fondateur d’une famille (ici, Timothy Eaton) et ses descendants (qui sont identifiés à l’aide du point d’accès pour la famille Eat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Chacun de ces groupes de relation sont traités dans des sections précises de RDA:</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instructions concernant les relations entre les entités du groupe 1 et du groupe 2 sont données aux chapitres 18 à 22, et les indicateurs de relation qui s’y rapportent se trouvent à l’annexe I</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relations entre les entités du groupe 1 sont traitées aux chapitres 24 à 28, et les indicateurs de relation se trouvent à l’annexe J</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et finalemen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relations entre les entités du groupe 2 (i.e. les personnes, les familles et les collectivités) sont couvertes du chapitre 29 à 32, et les indicateurs de relation sont à l’annexe K.</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Je rappelle que les indicateurs de relation sont des termes utilisés pour qualifier la relation entre les entités qui sont représentées, elles, à l’aide d’un point d’accès autorisé, d’une description ou d’un identifiant. On peut utiliser les indicateurs de relation tels qu’on les trouvent dans les annexes, en conjonction avec un point d’accès ou au début d’une note structurée ; sinon des codes MARC, ou les indicateurs de certaines zones, peuvent être employés pour qualifier la relat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Aussi, concernant les différents types d’indicateurs de relation:</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ceux qu’on trouve à l’annexe I peuvent seulement être utilisés dans les notices bibliographiques (par ex., l’indicateur de relation « auteur » peut être utilisé pour indiquer que Jean Barbe est le créateur du Travail de l’huître, une ressource textuell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ceux de l’annexe J, peuvent être utilisés dans les notices bibliographiques et dans les notices d’autorités (par ex.: l’indicateur de relation « adaptation filmique de » peut être utiliser pour qualifier la relation entre un roman et son adaptation au cinéma, e.g. la Reine Margo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enfin, ceux de l’annexe K sont seulement utilisés dans les notices d’autorités, avec ce que l’on appelait, dans les RCAA2, les renvois « vois aussi ». On peut donc, par exemple, employer l’indicateur de relation « identité réelle » pour donner en 500 le nom véritable de George Eliot, dans la notice d’autorité de Mary Ann Evan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indicateurs de relation des annexes I, J, et K, ne sont pas listes fermées, ce qui veut dire que si un terme dont vous avez besoin n’est pas mentionné en annexe, vous pouvez choisir un terme approprié puis avertir un membre du Comité canadien de catalogage (i.e. Daniel Paradis ou Pat).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est le jugement du catalogueur qui doit trancher s’il faut employer ou non un indicateur de relation. LC a également consigné certaines décisions dans les LC-PCC PS, qui peuvent vous guider (en attendant que nos propres décisions soient en ligne).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Ici vous avez une copie d’écran de l’annexe I, où on voit comment sont présentées les listes d’indicateurs de re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elon les besoins de l’agence bibliographique et le contexte de la ressource, RDA permet d’utiliser les indicateurs a un niveau générique ou spécifique. Par exemple, RDA permet d’utiliser le terme artiste ou sculpteur pour qualifier le nom du créateur d’une œuvre tridimensionnelle. Cependant, dans le contexte des notices que nous produisons à BAnQ, on devrait employer le terme le plus précis possible. Dans un point d’accès autorisé pour une personne, une collectivité ou une famille, l’indicateur de relation est saisi en $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us allons voir plusieurs exemples, plus tard, dans la formation d’aujourd’hui.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7A87BC-BF1B-4579-B60F-B7A97B2510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37E623-ED06-497E-8C2F-98258F6FA1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459CFE-A9F9-4C11-8005-44189905B8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C653F0-1048-4ADE-8412-0CC403B74C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7515D1-5322-4173-8BF2-371521419B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E570B1-10E1-4FE3-A0D4-3CCC122875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997737-5CA5-4B3D-8EF0-72E3902C5A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46E115-57A9-491C-93BA-1EE9033730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040874-B9A1-4BF3-8CB2-02FDE42CF8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F4E12F-315D-429A-9006-D6B1329B67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ACF14D-61ED-46F8-9962-DD50009D04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1A6227-2DE2-4F5F-8828-966AE2577C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lt;footer&gt;</a:t>
            </a: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31122BA9-1ACD-496C-86A3-5121A7963145}"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008093"/>
                </a:solidFill>
                <a:latin typeface="Courier New"/>
              </a:rPr>
              <a:t>$e auteur</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structurée</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non structurée</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78C5B32-95CA-4482-886D-9E559B3301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264</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41BCE7A-BCD5-4DE0-B5F9-1066607D50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iter une autre ressource :</a:t>
            </a:r>
            <a:br>
              <a:rPr sz="2800"/>
            </a:b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es zones MARC </a:t>
            </a:r>
            <a:r>
              <a:rPr b="0" lang="en-US" sz="2800" spc="-1" strike="noStrike">
                <a:solidFill>
                  <a:srgbClr val="008093"/>
                </a:solidFill>
                <a:latin typeface="Arial"/>
              </a:rPr>
              <a:t>700-730</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a forme acceptée selon la notice d’autor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on ne trouve pas d’autorité déjà établie, donner la forme RDA (créer une autorité s’il y a lieu)</a:t>
            </a:r>
            <a:endParaRPr b="0" lang="en-US" sz="2800" spc="-1" strike="noStrike">
              <a:solidFill>
                <a:srgbClr val="000000"/>
              </a:solidFill>
              <a:latin typeface="Arial"/>
            </a:endParaRPr>
          </a:p>
        </p:txBody>
      </p:sp>
      <p:sp>
        <p:nvSpPr>
          <p:cNvPr id="73" name=""/>
          <p:cNvSpPr/>
          <p:nvPr/>
        </p:nvSpPr>
        <p:spPr>
          <a:xfrm>
            <a:off x="914400" y="4648320"/>
            <a:ext cx="7848720" cy="1434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 </a:t>
            </a:r>
            <a:r>
              <a:rPr b="0" lang="en-US" sz="2200" spc="-1" strike="noStrike" u="sng">
                <a:solidFill>
                  <a:srgbClr val="000000"/>
                </a:solidFill>
                <a:uFillTx/>
                <a:latin typeface="Arial"/>
              </a:rPr>
              <a:t>Exception</a:t>
            </a:r>
            <a:r>
              <a:rPr b="0" lang="en-US" sz="2200" spc="-1" strike="noStrike">
                <a:solidFill>
                  <a:srgbClr val="000000"/>
                </a:solidFill>
                <a:latin typeface="Arial"/>
              </a:rPr>
              <a:t> : Ne pas utiliser les autorités RCAA2 qui contiennent le terme « </a:t>
            </a:r>
            <a:r>
              <a:rPr b="0" lang="en-US" sz="2200" spc="-1" strike="noStrike">
                <a:solidFill>
                  <a:srgbClr val="000000"/>
                </a:solidFill>
                <a:latin typeface="Verdana"/>
              </a:rPr>
              <a:t>Multilingue »</a:t>
            </a:r>
            <a:r>
              <a:rPr b="0" lang="en-US" sz="2200" spc="-1" strike="noStrike">
                <a:solidFill>
                  <a:srgbClr val="000000"/>
                </a:solidFill>
                <a:latin typeface="Arial"/>
              </a:rPr>
              <a:t> ou plus d’une langue dans la sous-zone $l pour désigner les expressions multiples contenues dans une même manifestation</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0DC55B54-DD98-44C2-8F8D-21A26F9CAC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iter une autre ressource :</a:t>
            </a:r>
            <a:br>
              <a:rPr sz="2800"/>
            </a:br>
            <a:r>
              <a:rPr b="1" lang="en-US" sz="2800" spc="-1" strike="noStrike">
                <a:solidFill>
                  <a:srgbClr val="ffffff"/>
                </a:solidFill>
                <a:latin typeface="Arial"/>
              </a:rPr>
              <a:t>zones de liaison</a:t>
            </a:r>
            <a:endParaRPr b="1" lang="en-US" sz="2800" spc="-1" strike="noStrike">
              <a:solidFill>
                <a:srgbClr val="ffffff"/>
              </a:solidFill>
              <a:latin typeface="Arial"/>
            </a:endParaRPr>
          </a:p>
        </p:txBody>
      </p:sp>
      <p:sp>
        <p:nvSpPr>
          <p:cNvPr id="7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es zones MARC </a:t>
            </a:r>
            <a:r>
              <a:rPr b="0" lang="fr-CA" sz="2800" spc="-1" strike="noStrike">
                <a:solidFill>
                  <a:srgbClr val="008093"/>
                </a:solidFill>
                <a:latin typeface="Arial"/>
              </a:rPr>
              <a:t>760-787</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pier/coller l’information à partir de la notice de la ressource citée et ajouter le codage approprié pour les sous-zones</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emple, titre copié du 245 $a de la notice pour la ressource en re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776 08 $i Reproduction de (manifestation) : $t </a:t>
            </a:r>
            <a:r>
              <a:rPr b="0" lang="fr-CA" sz="2400" spc="-1" strike="noStrike">
                <a:solidFill>
                  <a:srgbClr val="008093"/>
                </a:solidFill>
                <a:latin typeface="Arial"/>
              </a:rPr>
              <a:t>10 ans de Belle et Bum</a:t>
            </a:r>
            <a:r>
              <a:rPr b="0" lang="fr-CA" sz="2400" spc="-1" strike="noStrike">
                <a:solidFill>
                  <a:srgbClr val="000000"/>
                </a:solidFill>
                <a:latin typeface="Arial"/>
              </a:rPr>
              <a:t> $w (CaQMBN)0004302526</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0903E94-37AB-470C-800A-17598D9F4A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d’autorité en format MARC</a:t>
            </a:r>
            <a:endParaRPr b="1" lang="en-US" sz="2800" spc="-1" strike="noStrike">
              <a:solidFill>
                <a:srgbClr val="ffffff"/>
              </a:solidFill>
              <a:latin typeface="Arial"/>
            </a:endParaRPr>
          </a:p>
        </p:txBody>
      </p:sp>
      <p:sp>
        <p:nvSpPr>
          <p:cNvPr id="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es notices d’autorité, les relations fondamentales, telles que définies par LC, sont représentées dans les zon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 et 66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0 $w</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optionnelles peuvent être ajoutées dans la zone 5XX $w r $i </a:t>
            </a:r>
            <a:br>
              <a:rPr sz="2800"/>
            </a:br>
            <a:r>
              <a:rPr b="0" lang="en-US" sz="2800" spc="-1" strike="noStrike">
                <a:solidFill>
                  <a:srgbClr val="000000"/>
                </a:solidFill>
                <a:latin typeface="Arial"/>
              </a:rPr>
              <a:t>(plus d’information à venir sur ce suje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154C71F-867A-4C14-B8B9-7E47EF7851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7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us établissions déjà des relations avec les RCAA2</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c RDA, s’ajoutent certains nouveaux concepts concernant les relations entre les entité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éléments fondamentaux LC sont indiqués dans le LC-PCC P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enregistrées à l’aide de points d’accès autorisés, de notes et de zones de liais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07411BC-5205-43BD-81C5-1C0FC77D70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8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éateurs</a:t>
            </a:r>
            <a:r>
              <a:rPr b="0" lang="en-US"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ontributeurs</a:t>
            </a:r>
            <a:r>
              <a:rPr b="0" lang="en-US"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riétaires, annotateurs, signataires autographes, etc. associés aux items </a:t>
            </a:r>
            <a:br>
              <a:rPr sz="2800"/>
            </a:br>
            <a:r>
              <a:rPr b="0" lang="en-US" sz="2800" spc="-1" strike="noStrike">
                <a:solidFill>
                  <a:srgbClr val="000000"/>
                </a:solidFill>
                <a:latin typeface="Arial"/>
              </a:rPr>
              <a:t>(chapitre 2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AEF574C-D8E1-455E-B343-8B9EEBFE41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œuvres</a:t>
            </a:r>
            <a:endParaRPr b="0" lang="en-US" sz="28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éaste</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annexe 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BDAED41-EA33-428A-9982-C8214058F9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8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19.2 :</a:t>
            </a:r>
            <a:endParaRPr b="0" lang="en-US" sz="2800" spc="-1" strike="noStrike">
              <a:solidFill>
                <a:srgbClr val="000000"/>
              </a:solidFill>
              <a:latin typeface="Arial"/>
            </a:endParaRPr>
          </a:p>
          <a:p>
            <a:pPr marL="226080" indent="-226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a:t>
            </a:r>
            <a:r>
              <a:rPr b="0" lang="en-US"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6080" indent="-226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créateurs associés à l’œuvre sont nommés, généralement créer un point d’accès pour tous les créateurs avec responsabilité principale; pour les autres créateurs, le catalogueur juge s’il est pertinent de donner des points d’accès supplémentai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1C3341B-C9AE-4C5C-8C10-F6F7F22CBB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795024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1XX</a:t>
            </a:r>
            <a:r>
              <a:rPr b="0" lang="en-US" sz="2800" spc="-1" strike="noStrike">
                <a:solidFill>
                  <a:srgbClr val="ff0000"/>
                </a:solidFill>
                <a:latin typeface="Arial"/>
              </a:rPr>
              <a:t> </a:t>
            </a:r>
            <a:r>
              <a:rPr b="0" lang="en-US"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2</a:t>
            </a:r>
            <a:r>
              <a:rPr b="0" lang="en-US"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5A30BF3-434C-4B5A-9819-FB7297154C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RDA</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re les principes de base propres aux relations dan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relations qui sont fondamentales pour L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tablir des relations correctement dans les notic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7A509D7-A0B5-4DD2-8E49-2C7BC6D33C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89" name=""/>
          <p:cNvSpPr/>
          <p:nvPr/>
        </p:nvSpPr>
        <p:spPr>
          <a:xfrm>
            <a:off x="654120" y="1616040"/>
            <a:ext cx="810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110 $a Société Alzheimer de Québec </a:t>
            </a:r>
            <a:r>
              <a:rPr b="1" lang="en-US" sz="2400" spc="-1" strike="noStrike">
                <a:solidFill>
                  <a:srgbClr val="008093"/>
                </a:solidFill>
                <a:latin typeface="Courier New"/>
                <a:ea typeface="Courier New"/>
              </a:rPr>
              <a:t>$e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auteur</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710 $a Entraide du Faubourg </a:t>
            </a:r>
            <a:r>
              <a:rPr b="1" lang="en-US" sz="2400" spc="-1" strike="noStrike">
                <a:solidFill>
                  <a:srgbClr val="008093"/>
                </a:solidFill>
                <a:latin typeface="Courier New"/>
                <a:ea typeface="Courier New"/>
              </a:rPr>
              <a:t>$e auteur</a:t>
            </a:r>
            <a:endParaRPr b="1" lang="en-US" sz="2400" spc="-1" strike="noStrike">
              <a:solidFill>
                <a:srgbClr val="000000"/>
              </a:solidFill>
              <a:latin typeface="Arial Unicode MS"/>
            </a:endParaRPr>
          </a:p>
        </p:txBody>
      </p:sp>
      <p:sp>
        <p:nvSpPr>
          <p:cNvPr id="90" name=""/>
          <p:cNvSpPr/>
          <p:nvPr/>
        </p:nvSpPr>
        <p:spPr>
          <a:xfrm>
            <a:off x="654120" y="346860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00 </a:t>
            </a:r>
            <a:r>
              <a:rPr b="1" lang="fr-CA"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fr-CA" sz="2400" spc="-1" strike="noStrike">
                <a:solidFill>
                  <a:srgbClr val="ff0000"/>
                </a:solidFill>
                <a:latin typeface="Courier New"/>
                <a:ea typeface="Courier New"/>
              </a:rPr>
              <a:t>	</a:t>
            </a:r>
            <a:r>
              <a:rPr b="1" lang="fr-CA" sz="2400" spc="-1" strike="noStrike">
                <a:solidFill>
                  <a:srgbClr val="008093"/>
                </a:solidFill>
                <a:latin typeface="Courier New"/>
                <a:ea typeface="Courier New"/>
              </a:rPr>
              <a:t>$e compositeur</a:t>
            </a:r>
            <a:endParaRPr b="1" lang="en-US" sz="2400" spc="-1" strike="noStrike">
              <a:solidFill>
                <a:srgbClr val="000000"/>
              </a:solidFill>
              <a:latin typeface="Arial Unicode MS"/>
            </a:endParaRPr>
          </a:p>
        </p:txBody>
      </p:sp>
      <p:sp>
        <p:nvSpPr>
          <p:cNvPr id="91" name=""/>
          <p:cNvSpPr/>
          <p:nvPr/>
        </p:nvSpPr>
        <p:spPr>
          <a:xfrm>
            <a:off x="760320" y="488160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10 $a Nouvelle-Écosse </a:t>
            </a:r>
            <a:r>
              <a:rPr b="1" lang="en-US" sz="2400" spc="-1" strike="noStrike">
                <a:solidFill>
                  <a:srgbClr val="008093"/>
                </a:solidFill>
                <a:latin typeface="Courier New"/>
                <a:ea typeface="Courier New"/>
              </a:rPr>
              <a:t>$e juridiction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promulgatric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9C20B440-7246-4A8A-96CE-942B897429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19.3 :</a:t>
            </a:r>
            <a:endParaRPr b="0" lang="en-US" sz="2800" spc="-1" strike="noStrike">
              <a:solidFill>
                <a:srgbClr val="000000"/>
              </a:solidFill>
              <a:latin typeface="Arial"/>
            </a:endParaRPr>
          </a:p>
        </p:txBody>
      </p:sp>
      <p:sp>
        <p:nvSpPr>
          <p:cNvPr id="94" name=""/>
          <p:cNvSpPr/>
          <p:nvPr/>
        </p:nvSpPr>
        <p:spPr>
          <a:xfrm>
            <a:off x="423720" y="2200320"/>
            <a:ext cx="846000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95" name=""/>
          <p:cNvSpPr/>
          <p:nvPr/>
        </p:nvSpPr>
        <p:spPr>
          <a:xfrm>
            <a:off x="423720" y="4159080"/>
            <a:ext cx="84600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710</a:t>
            </a:r>
            <a:r>
              <a:rPr b="1" lang="en-US" sz="2400" spc="-1" strike="noStrike">
                <a:solidFill>
                  <a:srgbClr val="000000"/>
                </a:solidFill>
                <a:latin typeface="Courier New"/>
              </a:rPr>
              <a:t> $</a:t>
            </a:r>
            <a:r>
              <a:rPr b="1" lang="en-US" sz="2400" spc="-1" strike="noStrike">
                <a:solidFill>
                  <a:srgbClr val="000000"/>
                </a:solidFill>
                <a:latin typeface="Courier New"/>
              </a:rPr>
              <a:t>a Institut Aspen France </a:t>
            </a:r>
            <a:r>
              <a:rPr b="1" lang="en-US" sz="2400" spc="-1" strike="noStrike">
                <a:solidFill>
                  <a:srgbClr val="008093"/>
                </a:solidFill>
                <a:latin typeface="Courier New"/>
              </a:rPr>
              <a:t>$e commanditair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E79E87E7-02A8-4639-BF86-90ECB07B59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expressions</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B6E71E7-9481-4916-9D2F-BE8963F9AF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0.2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LC</a:t>
            </a:r>
            <a:r>
              <a:rPr b="0" lang="en-US" sz="2800" spc="-1" strike="noStrike">
                <a:solidFill>
                  <a:srgbClr val="000000"/>
                </a:solidFill>
                <a:latin typeface="Arial"/>
              </a:rPr>
              <a:t> : premier illustrateur d’une ressource pour enfant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illustrateurs sont nommés, le catalogueur juge s’il est pertinent de donner plus d’un illustrat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88F44A1-2176-4927-8395-2219D50D61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7XX</a:t>
            </a:r>
            <a:r>
              <a:rPr b="0" lang="en-US"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3</a:t>
            </a:r>
            <a:r>
              <a:rPr b="0" lang="en-US" sz="2800" spc="-1" strike="noStrike">
                <a:solidFill>
                  <a:srgbClr val="000000"/>
                </a:solidFill>
                <a:latin typeface="Arial"/>
              </a:rPr>
              <a:t>, enregistré dans la sous-zone $e de la zone 7XX ($j si 71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D39947E-4381-43C4-8388-2B311AD2F4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03" name=""/>
          <p:cNvSpPr/>
          <p:nvPr/>
        </p:nvSpPr>
        <p:spPr>
          <a:xfrm>
            <a:off x="654120" y="1827360"/>
            <a:ext cx="8032680" cy="302004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e auteur</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endParaRPr b="1" lang="en-US" sz="2400" spc="-1" strike="noStrike">
              <a:solidFill>
                <a:srgbClr val="000000"/>
              </a:solidFill>
              <a:latin typeface="Arial Unicode MS"/>
            </a:endParaRPr>
          </a:p>
        </p:txBody>
      </p:sp>
      <p:sp>
        <p:nvSpPr>
          <p:cNvPr id="104" name=""/>
          <p:cNvSpPr/>
          <p:nvPr/>
        </p:nvSpPr>
        <p:spPr>
          <a:xfrm>
            <a:off x="654120" y="5041800"/>
            <a:ext cx="822960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Politique LC : enregistrer le $e illustrateur</a:t>
            </a:r>
            <a:r>
              <a:rPr b="0" lang="en-US" sz="2000" spc="-1" strike="noStrike">
                <a:solidFill>
                  <a:srgbClr val="000000"/>
                </a:solidFill>
                <a:latin typeface="Arial"/>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B6ABD9CC-691C-41E8-ACFF-7AEDEADF48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06" name=""/>
          <p:cNvSpPr/>
          <p:nvPr/>
        </p:nvSpPr>
        <p:spPr>
          <a:xfrm>
            <a:off x="912960" y="182736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Lindgren, Astrid, $d 1907-2002</a:t>
            </a:r>
            <a:r>
              <a:rPr b="1" lang="fr-CA" sz="2400" spc="-1" strike="noStrike">
                <a:solidFill>
                  <a:srgbClr val="000000"/>
                </a:solidFill>
                <a:latin typeface="Courier New"/>
              </a:rPr>
              <a:t>	</a:t>
            </a:r>
            <a:r>
              <a:rPr b="1" lang="fr-CA" sz="2400" spc="-1" strike="noStrike">
                <a:solidFill>
                  <a:srgbClr val="000000"/>
                </a:solidFill>
                <a:latin typeface="Courier New"/>
              </a:rPr>
              <a:t>$e auteur</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0 10 $a Pippi Långstrump. $l Français</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0 $a Fifi Brindacier / $c Astrid Lindgren ; traduit du suédois par Alain Gnaedig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Gnaedig, Alain $e traducteur</a:t>
            </a:r>
            <a:endParaRPr b="1" lang="en-US" sz="2400" spc="-1" strike="noStrike">
              <a:solidFill>
                <a:srgbClr val="000000"/>
              </a:solidFill>
              <a:latin typeface="Arial Unicode MS"/>
            </a:endParaRPr>
          </a:p>
        </p:txBody>
      </p:sp>
      <p:sp>
        <p:nvSpPr>
          <p:cNvPr id="107" name=""/>
          <p:cNvSpPr/>
          <p:nvPr/>
        </p:nvSpPr>
        <p:spPr>
          <a:xfrm>
            <a:off x="838080" y="4903920"/>
            <a:ext cx="7848720" cy="143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200" spc="-1" strike="noStrike">
                <a:solidFill>
                  <a:srgbClr val="000000"/>
                </a:solidFill>
                <a:latin typeface="Arial"/>
              </a:rPr>
              <a:t>Note : </a:t>
            </a:r>
            <a:endParaRPr b="1" lang="en-US" sz="22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200" spc="-1" strike="noStrike">
                <a:solidFill>
                  <a:srgbClr val="000000"/>
                </a:solidFill>
                <a:latin typeface="Arial"/>
              </a:rPr>
              <a:t>La 2e mention de responsabilité n’est pas un élément fondamental ; de plus, il n’est pas nécessaire de justifier la zone 700</a:t>
            </a:r>
            <a:endParaRPr b="1" lang="en-US" sz="2200" spc="-1" strike="noStrike">
              <a:solidFill>
                <a:srgbClr val="000000"/>
              </a:solidFill>
              <a:latin typeface="Arial Unicode MS"/>
            </a:endParaRPr>
          </a:p>
        </p:txBody>
      </p:sp>
      <p:sp>
        <p:nvSpPr>
          <p:cNvPr id="3" name="PlaceHolder 2"/>
          <p:cNvSpPr>
            <a:spLocks noGrp="1"/>
          </p:cNvSpPr>
          <p:nvPr>
            <p:ph type="sldNum" idx="2"/>
          </p:nvPr>
        </p:nvSpPr>
        <p:spPr/>
        <p:txBody>
          <a:bodyPr/>
          <a:p>
            <a:fld id="{F1E81E4E-1892-4172-A934-59C53B6F9D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B45C7B9-E486-493C-BA05-697EA51352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eurs de relation pour les personnes/familles/collectivités associées aux manifestations</a:t>
            </a:r>
            <a:endParaRPr b="1" lang="en-US" sz="24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u de termes sont fournis dans l’annexe I.4</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termes: « producteur », « éditeur », « fabricant », et « distributeur » sont des éléments séparés – ils ne sont pas permis dans la sous-zone $e de la zone 7XX (ou $j de la zone 711)</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9DA974-13AF-48B8-A2CB-0DFB5D99B7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177AD16-B35F-4C0C-B20E-2AC0A8D9E7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u modul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aux relations RDA : les principes de bas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BR : entités du groupe 1 et 2</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1 (ressources) : œuvres, expressions, manifestations, item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2 (personnes morales et physiques) : personnes, familles et collectivit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C33653-AF47-43E9-BA00-2831C83F04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115" name=""/>
          <p:cNvSpPr/>
          <p:nvPr/>
        </p:nvSpPr>
        <p:spPr>
          <a:xfrm>
            <a:off x="923760" y="2698920"/>
            <a:ext cx="7066080" cy="207396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600" spc="-1" strike="noStrike">
                <a:solidFill>
                  <a:srgbClr val="000000"/>
                </a:solidFill>
                <a:latin typeface="Courier New"/>
              </a:rPr>
              <a:t>595 $a L’exemplaire de conservation est dédicacé par l’auteur sur la page de titre</a:t>
            </a:r>
            <a:endParaRPr b="1" lang="en-US" sz="26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600" spc="-1" strike="noStrike">
                <a:solidFill>
                  <a:srgbClr val="008093"/>
                </a:solidFill>
                <a:latin typeface="Courier New"/>
              </a:rPr>
              <a:t>700 $a Laberge, Marie, $d 1950- $e dédicateur</a:t>
            </a:r>
            <a:endParaRPr b="1" lang="en-US" sz="2600" spc="-1" strike="noStrike">
              <a:solidFill>
                <a:srgbClr val="000000"/>
              </a:solidFill>
              <a:latin typeface="Arial Unicode MS"/>
            </a:endParaRPr>
          </a:p>
        </p:txBody>
      </p:sp>
      <p:sp>
        <p:nvSpPr>
          <p:cNvPr id="3" name="PlaceHolder 2"/>
          <p:cNvSpPr>
            <a:spLocks noGrp="1"/>
          </p:cNvSpPr>
          <p:nvPr>
            <p:ph type="sldNum" idx="2"/>
          </p:nvPr>
        </p:nvSpPr>
        <p:spPr/>
        <p:txBody>
          <a:bodyPr/>
          <a:p>
            <a:fld id="{E53FB7A0-E5B5-4724-BECC-87225338D0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11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er créateur dans la zone 1XX, les autres en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ou $j) est ajouté au point d’accè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er contributeur dans la zone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ou $j) est ajouté au point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s : jugement du catalogu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0037A2A-B04F-462E-8B72-1611153603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11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dans les </a:t>
            </a:r>
            <a:r>
              <a:rPr b="0" lang="en-US" sz="2800" spc="-1" strike="noStrike">
                <a:solidFill>
                  <a:srgbClr val="008093"/>
                </a:solidFill>
                <a:latin typeface="Arial"/>
              </a:rPr>
              <a:t>notices bibliographiques</a:t>
            </a:r>
            <a:r>
              <a:rPr b="0" lang="en-US" sz="2800" spc="-1" strike="noStrike">
                <a:solidFill>
                  <a:srgbClr val="000000"/>
                </a:solidFill>
                <a:latin typeface="Arial"/>
              </a:rPr>
              <a:t> et/ou les </a:t>
            </a:r>
            <a:r>
              <a:rPr b="0" lang="en-US" sz="2800" spc="-1" strike="noStrike">
                <a:solidFill>
                  <a:srgbClr val="008093"/>
                </a:solidFill>
                <a:latin typeface="Arial"/>
              </a:rPr>
              <a:t>notices d’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ms en relation (chapitre 2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EC6DC6-1983-4700-8D6A-DCBB5CE8A7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Œuvres comprises dans une compilation</a:t>
            </a:r>
            <a:endParaRPr b="0" lang="en-US" sz="22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pitres d’un livre</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CC6A90-A814-49C8-A107-B4853D17A0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ondamentales LC : œuvres</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5.1</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a:t>
            </a:r>
            <a:r>
              <a:rPr b="0" lang="en-US" sz="2800" spc="-1" strike="noStrike">
                <a:solidFill>
                  <a:srgbClr val="000000"/>
                </a:solidFill>
                <a:latin typeface="Arial"/>
              </a:rPr>
              <a:t> (œuvre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a:t>
            </a:r>
            <a:r>
              <a:rPr b="0" lang="en-US" sz="2800" spc="-1" strike="noStrike">
                <a:solidFill>
                  <a:srgbClr val="008093"/>
                </a:solidFill>
                <a:latin typeface="Arial"/>
              </a:rPr>
              <a:t>tout-partie</a:t>
            </a:r>
            <a:r>
              <a:rPr b="0" lang="en-US" sz="2800" spc="-1" strike="noStrike">
                <a:solidFill>
                  <a:srgbClr val="000000"/>
                </a:solidFill>
                <a:latin typeface="Arial"/>
              </a:rPr>
              <a:t> pour les œuvres comprises dans une </a:t>
            </a:r>
            <a:r>
              <a:rPr b="0" lang="en-US" sz="2800" spc="-1" strike="noStrike">
                <a:solidFill>
                  <a:srgbClr val="008093"/>
                </a:solidFill>
                <a:latin typeface="Arial"/>
              </a:rPr>
              <a:t>compil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séquentielles</a:t>
            </a:r>
            <a:r>
              <a:rPr b="0" lang="en-US" sz="2800" spc="-1" strike="noStrike">
                <a:solidFill>
                  <a:srgbClr val="000000"/>
                </a:solidFill>
                <a:latin typeface="Arial"/>
              </a:rPr>
              <a:t> pour les publications en séri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09CA624-510B-40D1-B9B6-3CD153C40B8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tout-partie pour les compilations</a:t>
            </a:r>
            <a:endParaRPr b="1" lang="en-US" sz="2800" spc="-1" strike="noStrike">
              <a:solidFill>
                <a:srgbClr val="ffffff"/>
              </a:solidFill>
              <a:latin typeface="Arial"/>
            </a:endParaRPr>
          </a:p>
        </p:txBody>
      </p:sp>
      <p:sp>
        <p:nvSpPr>
          <p:cNvPr id="12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éer une note de dépouillement (zone MARC 505) sauf si les titres des parties apparaissent ailleurs dans la description (par exemple, dans la zone MARC 245, parce qu’il n’y a pas de titre collectif) ou que le nombre d’œuvres comprises exige une note 505 trop longu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établir aussi des points d’accès analytiques autorisé dans des zones MARC 7XX ; sauf si le nombre d’œuvres est excessif</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certains types de ressources, </a:t>
            </a:r>
            <a:r>
              <a:rPr b="0" lang="en-US" sz="2400" spc="-1" strike="noStrike">
                <a:solidFill>
                  <a:srgbClr val="008093"/>
                </a:solidFill>
                <a:latin typeface="Arial"/>
              </a:rPr>
              <a:t>ne pas créer</a:t>
            </a:r>
            <a:r>
              <a:rPr b="0" lang="en-US" sz="2400" spc="-1" strike="noStrike">
                <a:solidFill>
                  <a:srgbClr val="000000"/>
                </a:solidFill>
                <a:latin typeface="Arial"/>
              </a:rPr>
              <a:t> de points d’accès analytiques autorisés (par exemple, pour les anthologies de poésie, les actes de colloque, les livres de cantiques, les périodiques, les recueils d’entrevues ou de lettres, etc. – LC-PCC PS 25.1)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B6BE4E-8BB1-40FC-998E-8F597977E9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1# </a:t>
            </a:r>
            <a:r>
              <a:rPr b="1" lang="en-US" sz="2400" spc="-1" strike="noStrike">
                <a:solidFill>
                  <a:srgbClr val="000000"/>
                </a:solidFill>
                <a:latin typeface="Courier New"/>
              </a:rPr>
              <a:t>	</a:t>
            </a:r>
            <a:r>
              <a:rPr b="1" lang="en-US"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0 10</a:t>
            </a:r>
            <a:r>
              <a:rPr b="1" lang="en-US" sz="2400" spc="-1" strike="noStrike">
                <a:solidFill>
                  <a:srgbClr val="000000"/>
                </a:solidFill>
                <a:latin typeface="Courier New"/>
              </a:rPr>
              <a:t>	</a:t>
            </a:r>
            <a:r>
              <a:rPr b="1" lang="en-US"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5 13 </a:t>
            </a:r>
            <a:r>
              <a:rPr b="1" lang="en-US" sz="2400" spc="-1" strike="noStrike">
                <a:solidFill>
                  <a:srgbClr val="000000"/>
                </a:solidFill>
                <a:latin typeface="Courier New"/>
              </a:rPr>
              <a:t>	</a:t>
            </a:r>
            <a:r>
              <a:rPr b="1" lang="en-US"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28" name=""/>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1D7906CC-7AA2-4BBB-92C9-0AFDE5A959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relation séquentielle  </a:t>
            </a:r>
            <a:br>
              <a:rPr sz="2800"/>
            </a:br>
            <a:r>
              <a:rPr b="1" lang="en-US" sz="2800" spc="-1" strike="noStrike">
                <a:solidFill>
                  <a:srgbClr val="ffffff"/>
                </a:solidFill>
                <a:latin typeface="Arial"/>
              </a:rPr>
              <a:t>(publications en série)</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8093"/>
                </a:solidFill>
                <a:latin typeface="Arial"/>
              </a:rPr>
              <a:t>Descriptions structurées avec identifiant :</a:t>
            </a:r>
            <a:endParaRPr b="0" lang="en-US" sz="27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5 00 $a Aide-mémoire pour les entreprises en démarrage, la TVQ et la TPS/TVH</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80 00 </a:t>
            </a:r>
            <a:r>
              <a:rPr b="1" lang="fr-CA" sz="2200" spc="-1" strike="noStrike">
                <a:solidFill>
                  <a:srgbClr val="000000"/>
                </a:solidFill>
                <a:latin typeface="Courier New"/>
              </a:rPr>
              <a:t>$t Aide-mémoire pour les entreprises en démarrage, les taxes </a:t>
            </a:r>
            <a:r>
              <a:rPr b="1" lang="fr-CA" sz="2200" spc="-1" strike="noStrike">
                <a:solidFill>
                  <a:srgbClr val="008000"/>
                </a:solidFill>
                <a:latin typeface="Courier New"/>
              </a:rPr>
              <a:t>$w (CaQMBN)0003697705</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5 00 $a Aide-mémoire pour les entreprises en démarrage, les taxes</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85 00</a:t>
            </a:r>
            <a:r>
              <a:rPr b="1" lang="fr-CA" sz="2200" spc="-1" strike="noStrike">
                <a:solidFill>
                  <a:srgbClr val="000000"/>
                </a:solidFill>
                <a:latin typeface="Courier New"/>
              </a:rPr>
              <a:t> $t Aide-mémoire pour les entreprises en démarrage, la TVQ et la TPS/TVH</a:t>
            </a:r>
            <a:r>
              <a:rPr b="1" lang="fr-CA" sz="2200" spc="-1" strike="noStrike">
                <a:solidFill>
                  <a:srgbClr val="008000"/>
                </a:solidFill>
                <a:latin typeface="Courier New"/>
              </a:rPr>
              <a:t> $w (CaQMBN)0004458199</a:t>
            </a:r>
            <a:endParaRPr b="0" lang="en-US" sz="2200" spc="-1" strike="noStrike">
              <a:solidFill>
                <a:srgbClr val="000000"/>
              </a:solidFill>
              <a:latin typeface="Arial"/>
            </a:endParaRPr>
          </a:p>
        </p:txBody>
      </p:sp>
      <p:sp>
        <p:nvSpPr>
          <p:cNvPr id="131" name=""/>
          <p:cNvSpPr/>
          <p:nvPr/>
        </p:nvSpPr>
        <p:spPr>
          <a:xfrm>
            <a:off x="2106720" y="5740560"/>
            <a:ext cx="6777000" cy="76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785, indicateurs 00 = relation « Continué par »</a:t>
            </a:r>
            <a:endParaRPr b="1" lang="en-US" sz="2200" spc="-1" strike="noStrike">
              <a:solidFill>
                <a:srgbClr val="000000"/>
              </a:solidFill>
              <a:latin typeface="Arial Unicode MS"/>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780, indicateur 00 = relation « Continue »</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989A1CEA-4B29-41DC-B601-584518C429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ce d’autorité, </a:t>
            </a:r>
            <a:br>
              <a:rPr sz="2800"/>
            </a:br>
            <a:r>
              <a:rPr b="1" lang="en-US" sz="2800" spc="-1" strike="noStrike">
                <a:solidFill>
                  <a:srgbClr val="ffffff"/>
                </a:solidFill>
                <a:latin typeface="Arial"/>
              </a:rPr>
              <a:t>relation entre œuvres</a:t>
            </a:r>
            <a:endParaRPr b="1" lang="en-US" sz="2800" spc="-1" strike="noStrike">
              <a:solidFill>
                <a:srgbClr val="ffffff"/>
              </a:solidFill>
              <a:latin typeface="Arial"/>
            </a:endParaRPr>
          </a:p>
        </p:txBody>
      </p:sp>
      <p:sp>
        <p:nvSpPr>
          <p:cNvPr id="13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 $k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ouawad, Wajdi, $d 1968- $t Incendies</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80 ## $a Pièce de théâtre</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30 #0 </a:t>
            </a:r>
            <a:r>
              <a:rPr b="1" lang="fr-CA" sz="2400" spc="-1" strike="noStrike">
                <a:solidFill>
                  <a:srgbClr val="008093"/>
                </a:solidFill>
                <a:latin typeface="Courier New"/>
              </a:rPr>
              <a:t>$w r $i</a:t>
            </a:r>
            <a:r>
              <a:rPr b="1" lang="fr-CA" sz="2400" spc="-1" strike="noStrike">
                <a:solidFill>
                  <a:srgbClr val="000000"/>
                </a:solidFill>
                <a:latin typeface="Courier New"/>
              </a:rPr>
              <a:t> Adapté en film (œuvre) : $a Incendies (Film)</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Incendies,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Wikipédia, 2012-12-07 $b   (Incendies ; pièce de théâtre créée en 2003 et publiée chez Actes Sud la même année ; adaptée au cinéma en 2010 par Denis Villeneuv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3ABAC02-0204-40EA-8C94-DCF25C25DC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ég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E6DC93F-82C0-46A9-A50E-F644C16420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a:t>
            </a:r>
            <a:r>
              <a:rPr b="0" lang="en-US" sz="2800" spc="-1" strike="noStrike">
                <a:solidFill>
                  <a:srgbClr val="008093"/>
                </a:solidFill>
                <a:latin typeface="Arial"/>
              </a:rPr>
              <a:t>qu’est-ce que c’est</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urquoi</a:t>
            </a:r>
            <a:r>
              <a:rPr b="0" lang="en-US"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8B572E0-6054-4076-AEE6-C4A41800D9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ondamentales LC : expressions</a:t>
            </a:r>
            <a:endParaRPr b="1" lang="en-US" sz="2800" spc="-1" strike="noStrike">
              <a:solidFill>
                <a:srgbClr val="ffffff"/>
              </a:solidFill>
              <a:latin typeface="Arial"/>
            </a:endParaRPr>
          </a:p>
        </p:txBody>
      </p:sp>
      <p:sp>
        <p:nvSpPr>
          <p:cNvPr id="1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6.1</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000000"/>
                </a:solidFill>
                <a:latin typeface="Arial"/>
              </a:rPr>
              <a:t>: </a:t>
            </a:r>
            <a:r>
              <a:rPr b="0" lang="en-US" sz="2800" spc="-1" strike="noStrike">
                <a:solidFill>
                  <a:srgbClr val="008093"/>
                </a:solidFill>
                <a:latin typeface="Arial"/>
              </a:rPr>
              <a:t>express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a:t>
            </a:r>
            <a:r>
              <a:rPr b="0" lang="en-US" sz="2800" spc="-1" strike="noStrike">
                <a:solidFill>
                  <a:srgbClr val="008093"/>
                </a:solidFill>
                <a:latin typeface="Arial"/>
              </a:rPr>
              <a:t>tout-partie</a:t>
            </a:r>
            <a:r>
              <a:rPr b="0" lang="en-US" sz="2800" spc="-1" strike="noStrike">
                <a:solidFill>
                  <a:srgbClr val="000000"/>
                </a:solidFill>
                <a:latin typeface="Arial"/>
              </a:rPr>
              <a:t> pour les expressions comprises dans une </a:t>
            </a:r>
            <a:r>
              <a:rPr b="0" lang="en-US" sz="2800" spc="-1" strike="noStrike">
                <a:solidFill>
                  <a:srgbClr val="008093"/>
                </a:solidFill>
                <a:latin typeface="Arial"/>
              </a:rPr>
              <a:t>compilation</a:t>
            </a:r>
            <a:r>
              <a:rPr b="0" lang="en-US" sz="2800" spc="-1" strike="noStrike">
                <a:solidFill>
                  <a:srgbClr val="000000"/>
                </a:solidFill>
                <a:latin typeface="Arial"/>
              </a:rPr>
              <a:t> (même politique que pour l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séquentielles</a:t>
            </a:r>
            <a:r>
              <a:rPr b="0" lang="en-US" sz="2800" spc="-1" strike="noStrike">
                <a:solidFill>
                  <a:srgbClr val="000000"/>
                </a:solidFill>
                <a:latin typeface="Arial"/>
              </a:rPr>
              <a:t> pour les publications en séri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54768C-F0EA-46B8-B014-F84B259665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39" name="PlaceHolder 2"/>
          <p:cNvSpPr>
            <a:spLocks noGrp="1"/>
          </p:cNvSpPr>
          <p:nvPr>
            <p:ph/>
          </p:nvPr>
        </p:nvSpPr>
        <p:spPr>
          <a:xfrm>
            <a:off x="654120" y="1599840"/>
            <a:ext cx="7796160" cy="5257800"/>
          </a:xfrm>
          <a:prstGeom prst="rect">
            <a:avLst/>
          </a:prstGeom>
          <a:noFill/>
          <a:ln w="0">
            <a:noFill/>
          </a:ln>
        </p:spPr>
        <p:txBody>
          <a:bodyPr lIns="90000" rIns="90000" tIns="46800" bIns="46800"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 pour les expressions :</a:t>
            </a:r>
            <a:endParaRPr b="0" lang="en-US" sz="24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00 1# $a James, P. D.</a:t>
            </a:r>
            <a:r>
              <a:rPr b="1" lang="ar-SA" sz="2200" spc="-1" strike="noStrike">
                <a:solidFill>
                  <a:srgbClr val="000000"/>
                </a:solidFill>
                <a:latin typeface="Courier New"/>
              </a:rPr>
              <a:t>‏</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0 10 $a Romans. $k Extraits. $l Françai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5 10 $a Romans / $c P.D. Jame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505 00 $t La proie pour l’ombre -- $t La meurtrière -- $t L’île des mort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Unsuitable job for a woman. </a:t>
            </a:r>
            <a:r>
              <a:rPr b="1" lang="fr-CA" sz="2200" spc="-1" strike="noStrike">
                <a:solidFill>
                  <a:srgbClr val="008093"/>
                </a:solidFill>
                <a:latin typeface="Courier New"/>
              </a:rPr>
              <a:t>$l Françai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Innocent blood.</a:t>
            </a:r>
            <a:r>
              <a:rPr b="1" lang="fr-CA" sz="2200" spc="-1" strike="noStrike">
                <a:solidFill>
                  <a:srgbClr val="008093"/>
                </a:solidFill>
                <a:latin typeface="Courier New"/>
              </a:rPr>
              <a:t> $l Françai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Skull beneath the skin. </a:t>
            </a:r>
            <a:r>
              <a:rPr b="1" lang="fr-CA" sz="2200" spc="-1" strike="noStrike">
                <a:solidFill>
                  <a:srgbClr val="008093"/>
                </a:solidFill>
                <a:latin typeface="Courier New"/>
              </a:rPr>
              <a:t>$l</a:t>
            </a:r>
            <a:r>
              <a:rPr b="1" lang="fr-CA" sz="2200" spc="-1" strike="noStrike">
                <a:solidFill>
                  <a:srgbClr val="ff0000"/>
                </a:solidFill>
                <a:latin typeface="Courier New"/>
              </a:rPr>
              <a:t> </a:t>
            </a:r>
            <a:r>
              <a:rPr b="1" lang="fr-CA" sz="2200" spc="-1" strike="noStrike">
                <a:solidFill>
                  <a:srgbClr val="008093"/>
                </a:solidFill>
                <a:latin typeface="Courier New"/>
              </a:rPr>
              <a:t>Françai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32 $a La proie pour l’ombre</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32 $a La meurtrière</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22 $a L’île des mort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DA244F31-0C7B-4E99-9FCC-A7D5362F2D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Expressions en relation (publications en série)</a:t>
            </a:r>
            <a:endParaRPr b="1" lang="en-US" sz="2800" spc="-1" strike="noStrike">
              <a:solidFill>
                <a:srgbClr val="ffffff"/>
              </a:solidFill>
              <a:latin typeface="Arial"/>
            </a:endParaRPr>
          </a:p>
        </p:txBody>
      </p:sp>
      <p:sp>
        <p:nvSpPr>
          <p:cNvPr id="14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Description structurée pour une édition dans une autre langue :</a:t>
            </a:r>
            <a:endParaRPr b="0" lang="en-US" sz="2400" spc="-1" strike="noStrike">
              <a:solidFill>
                <a:srgbClr val="000000"/>
              </a:solidFill>
              <a:latin typeface="Arial"/>
            </a:endParaRPr>
          </a:p>
          <a:p>
            <a:pPr marL="22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48104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30 0# $a Revista de política y derecho</a:t>
            </a:r>
            <a:endParaRPr b="0" lang="en-US" sz="2400" spc="-1" strike="noStrike">
              <a:solidFill>
                <a:srgbClr val="000000"/>
              </a:solidFill>
              <a:latin typeface="Arial"/>
            </a:endParaRPr>
          </a:p>
          <a:p>
            <a:pPr lvl="1" marL="148104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mbientales en América Latina y el Caribe. </a:t>
            </a:r>
            <a:r>
              <a:rPr b="1" lang="fr-CA" sz="2400" spc="-1" strike="noStrike">
                <a:solidFill>
                  <a:srgbClr val="008093"/>
                </a:solidFill>
                <a:latin typeface="Courier New"/>
              </a:rPr>
              <a:t>$l Anglais</a:t>
            </a:r>
            <a:endParaRPr b="0" lang="en-US" sz="2400" spc="-1" strike="noStrike">
              <a:solidFill>
                <a:srgbClr val="000000"/>
              </a:solidFill>
              <a:latin typeface="Arial"/>
            </a:endParaRPr>
          </a:p>
          <a:p>
            <a:pPr lvl="1" marL="148104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0 $a Journal of environmental policy and law in Latin America and the   Caribbean</a:t>
            </a:r>
            <a:endParaRPr b="0" lang="en-US" sz="2400" spc="-1" strike="noStrike">
              <a:solidFill>
                <a:srgbClr val="000000"/>
              </a:solidFill>
              <a:latin typeface="Arial"/>
            </a:endParaRPr>
          </a:p>
          <a:p>
            <a:pPr lvl="1" marL="148104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5 08 $i Publié également en espagnol sous le titre :</a:t>
            </a:r>
            <a:r>
              <a:rPr b="1" lang="fr-CA" sz="2400" spc="-1" strike="noStrike">
                <a:solidFill>
                  <a:srgbClr val="000000"/>
                </a:solidFill>
                <a:latin typeface="Courier New"/>
              </a:rPr>
              <a:t> $t Revista de política y derecho ambientales en América Latina y el Carib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FFDAB6-9808-4B65-B332-BBF1D3ABE2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143" name="PlaceHolder 2"/>
          <p:cNvSpPr>
            <a:spLocks noGrp="1"/>
          </p:cNvSpPr>
          <p:nvPr>
            <p:ph/>
          </p:nvPr>
        </p:nvSpPr>
        <p:spPr>
          <a:xfrm>
            <a:off x="654120" y="1600200"/>
            <a:ext cx="7912080" cy="4525920"/>
          </a:xfrm>
          <a:prstGeom prst="rect">
            <a:avLst/>
          </a:prstGeom>
          <a:noFill/>
          <a:ln w="0">
            <a:noFill/>
          </a:ln>
        </p:spPr>
        <p:txBody>
          <a:bodyPr lIns="90000" rIns="90000" tIns="46800" bIns="46800" anchor="t">
            <a:normAutofit/>
          </a:bodyPr>
          <a:p>
            <a:pPr marL="12412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8093"/>
                </a:solidFill>
                <a:latin typeface="Arial"/>
              </a:rPr>
              <a:t>Point d’accès autorisé :</a:t>
            </a:r>
            <a:endParaRPr b="0" lang="en-US" sz="2800" spc="-1" strike="noStrike">
              <a:solidFill>
                <a:srgbClr val="000000"/>
              </a:solidFill>
              <a:latin typeface="Arial"/>
            </a:endParaRPr>
          </a:p>
          <a:p>
            <a:pPr marL="12412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2412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Courier New"/>
              </a:rPr>
              <a:t>100 1# $a Mann, Thomas, $d 1875-1955 $e auteur</a:t>
            </a:r>
            <a:endParaRPr b="0" lang="en-US" sz="2800" spc="-1" strike="noStrike">
              <a:solidFill>
                <a:srgbClr val="000000"/>
              </a:solidFill>
              <a:latin typeface="Arial"/>
            </a:endParaRPr>
          </a:p>
          <a:p>
            <a:pPr marL="12412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Courier New"/>
              </a:rPr>
              <a:t>240 10 $a Zauberberg. $l Français</a:t>
            </a:r>
            <a:endParaRPr b="0" lang="en-US" sz="2800" spc="-1" strike="noStrike">
              <a:solidFill>
                <a:srgbClr val="000000"/>
              </a:solidFill>
              <a:latin typeface="Arial"/>
            </a:endParaRPr>
          </a:p>
          <a:p>
            <a:pPr marL="12412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Courier New"/>
              </a:rPr>
              <a:t>245 13 $a La montagne magique</a:t>
            </a:r>
            <a:endParaRPr b="0" lang="en-US" sz="2800" spc="-1" strike="noStrike">
              <a:solidFill>
                <a:srgbClr val="000000"/>
              </a:solidFill>
              <a:latin typeface="Arial"/>
            </a:endParaRPr>
          </a:p>
          <a:p>
            <a:pPr marL="12412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8093"/>
                </a:solidFill>
                <a:latin typeface="Courier New"/>
              </a:rPr>
              <a:t>700 1# $i Traduction de : $a Mann, Thomas, $d 1875-1955. $t Zauberber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3794142-9341-4597-91B7-6A054EE759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4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7.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manifestat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impressions</a:t>
            </a:r>
            <a:endParaRPr b="0" lang="en-US" sz="22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éditions, etc.</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érents formats d’une même expression (par exemple, disque vinyle vs CD; livre vs PDF)</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cc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3BE9E4-DB7A-42EE-86F0-ED6395DF68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a:t>
            </a:r>
            <a:r>
              <a:rPr b="0" lang="en-US" sz="2400" spc="-1" strike="noStrike">
                <a:solidFill>
                  <a:srgbClr val="000000"/>
                </a:solidFill>
                <a:latin typeface="Arial"/>
              </a:rPr>
              <a:t> pas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4 </a:t>
            </a:r>
            <a:r>
              <a:rPr b="0" lang="en-US" sz="2800" spc="-1" strike="noStrike">
                <a:solidFill>
                  <a:srgbClr val="000000"/>
                </a:solidFill>
                <a:latin typeface="Arial"/>
              </a:rPr>
              <a:t>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4C87598-7179-4DB3-8BBF-1CE719D086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00 $a Health statistics for elementary-</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school children</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Baltimore : $b Johns Hopkins </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University, $c 2009-</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volumes ; $c 27 cm</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6 08 $i Publié également comme :</a:t>
            </a:r>
            <a:r>
              <a:rPr b="1" lang="fr-CA" sz="2400" spc="-1" strike="noStrike">
                <a:solidFill>
                  <a:srgbClr val="000000"/>
                </a:solidFill>
                <a:latin typeface="Courier New"/>
              </a:rPr>
              <a:t> $t Health statistics for elementary-school children $d Baltimore : Johns Hopkins University, 2009- $h disques informatiques ; 12 cm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E972F18-F353-41A2-8823-AF90B48C778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roductions </a:t>
            </a:r>
            <a:br>
              <a:rPr sz="2800"/>
            </a:br>
            <a:r>
              <a:rPr b="1" lang="en-US" sz="2800" spc="-1" strike="noStrike">
                <a:solidFill>
                  <a:srgbClr val="ffffff"/>
                </a:solidFill>
                <a:latin typeface="Arial"/>
              </a:rPr>
              <a:t>(relation fondamentale LC)</a:t>
            </a:r>
            <a:endParaRPr b="1" lang="en-US" sz="2800" spc="-1" strike="noStrike">
              <a:solidFill>
                <a:srgbClr val="ffffff"/>
              </a:solidFill>
              <a:latin typeface="Arial"/>
            </a:endParaRPr>
          </a:p>
        </p:txBody>
      </p:sp>
      <p:sp>
        <p:nvSpPr>
          <p:cNvPr id="15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fournir l’information concernant la manifestation originale dans une zone de liaison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775</a:t>
            </a:r>
            <a:r>
              <a:rPr b="0" lang="en-US" sz="2400" spc="-1" strike="noStrike">
                <a:solidFill>
                  <a:srgbClr val="000000"/>
                </a:solidFill>
                <a:latin typeface="Arial"/>
              </a:rPr>
              <a:t> → même suppor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776</a:t>
            </a:r>
            <a:r>
              <a:rPr b="0" lang="en-US" sz="2400" spc="-1" strike="noStrike">
                <a:solidFill>
                  <a:srgbClr val="000000"/>
                </a:solidFill>
                <a:latin typeface="Arial"/>
              </a:rPr>
              <a:t> → support différent</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ser l’information telle qu’elle apparaît dans la notice de la manifestation original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information détaillée n’est pas disponible, rédiger une note non structurée dans la zone MARC 50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411F85C-BC81-448E-A28E-F74B81EC60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roductions</a:t>
            </a:r>
            <a:br>
              <a:rPr sz="2800"/>
            </a:br>
            <a:r>
              <a:rPr b="1" lang="en-US" sz="2800" spc="-1" strike="noStrike">
                <a:solidFill>
                  <a:srgbClr val="ffffff"/>
                </a:solidFill>
                <a:latin typeface="Arial"/>
              </a:rPr>
              <a:t>(relation fondamentale LC)</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une reproduction est une </a:t>
            </a:r>
            <a:r>
              <a:rPr b="0" lang="en-US" sz="2800" spc="-1" strike="noStrike">
                <a:solidFill>
                  <a:srgbClr val="008093"/>
                </a:solidFill>
                <a:latin typeface="Arial"/>
              </a:rPr>
              <a:t>compilation</a:t>
            </a:r>
            <a:r>
              <a:rPr b="0" lang="en-US" sz="2800" spc="-1" strike="noStrike">
                <a:solidFill>
                  <a:srgbClr val="000000"/>
                </a:solidFill>
                <a:latin typeface="Arial"/>
              </a:rPr>
              <a:t>, en général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a:t>
            </a:r>
            <a:r>
              <a:rPr b="0" lang="en-US" sz="2400" spc="-1" strike="noStrike">
                <a:solidFill>
                  <a:srgbClr val="008093"/>
                </a:solidFill>
                <a:latin typeface="Arial"/>
              </a:rPr>
              <a:t>pas</a:t>
            </a:r>
            <a:r>
              <a:rPr b="0" lang="en-US" sz="2400" spc="-1" strike="noStrike">
                <a:solidFill>
                  <a:srgbClr val="000000"/>
                </a:solidFill>
                <a:latin typeface="Arial"/>
              </a:rPr>
              <a:t> créer une zone de liaison MARC 775 ou 776 pour chaque œuvre/expression de la compilation, e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a:t>
            </a:r>
            <a:r>
              <a:rPr b="0" lang="en-US" sz="2400" spc="-1" strike="noStrike">
                <a:solidFill>
                  <a:srgbClr val="008093"/>
                </a:solidFill>
                <a:latin typeface="Arial"/>
              </a:rPr>
              <a:t>pas</a:t>
            </a:r>
            <a:r>
              <a:rPr b="0" lang="en-US" sz="2400" spc="-1" strike="noStrike">
                <a:solidFill>
                  <a:srgbClr val="000000"/>
                </a:solidFill>
                <a:latin typeface="Arial"/>
              </a:rPr>
              <a:t> rédiger une note non structurée pour donner l’historique de l’édition de chaque œuvre/expression de la compil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44C6F7-91F1-4211-B985-09FF2878A3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Reproduction</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Description structurée, avec un identifiant :</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Lemoine, Wilfrid, $d 1927-2003 $e auteur</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4 $a Les anges dans la ville ; $b suivi de L'ange gardien ; L'ange de solitude / $c de Wilfrid Lemoin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64 #1 $a Montréal : $b Bibliothèque nationale du Québec, $c 1974</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300 ## $a 1 bobine de microfilm (150 pages) ; $c 16 mm</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76 08 $i Reproduction de (manifestation) :</a:t>
            </a:r>
            <a:r>
              <a:rPr b="1" lang="fr-CA" sz="2000" spc="-1" strike="noStrike">
                <a:solidFill>
                  <a:srgbClr val="000000"/>
                </a:solidFill>
                <a:latin typeface="Courier New"/>
              </a:rPr>
              <a:t> $a </a:t>
            </a:r>
            <a:r>
              <a:rPr b="1" lang="fr-CA" sz="2000" spc="-1" strike="noStrike">
                <a:solidFill>
                  <a:srgbClr val="000000"/>
                </a:solidFill>
                <a:latin typeface="Courier New"/>
              </a:rPr>
              <a:t>	</a:t>
            </a:r>
            <a:r>
              <a:rPr b="1" lang="fr-CA" sz="2000" spc="-1" strike="noStrike">
                <a:solidFill>
                  <a:srgbClr val="000000"/>
                </a:solidFill>
                <a:latin typeface="Courier New"/>
              </a:rPr>
              <a:t> Lemoine, Wilfrid, 1927-2003 $t Les anges dans la ville ; suivi de L'ange gardien ; L'ange de solitude $d Montréal : Éditions d’Orphée, 1959 $h 150 pages ; 21 cm $w CaQMBN(0000174981)</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8E8F8D-6A26-461E-A260-5136DFAA08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ntités</a:t>
            </a:r>
            <a:r>
              <a:rPr b="0" lang="en-US"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Types</a:t>
            </a:r>
            <a:r>
              <a:rPr b="0" lang="en-US" sz="2800" spc="-1" strike="noStrike">
                <a:solidFill>
                  <a:srgbClr val="000000"/>
                </a:solidFill>
                <a:latin typeface="Arial"/>
              </a:rPr>
              <a:t> de rel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585ACB6-0239-478D-99CE-11E110015A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qui s’appliquent à une </a:t>
            </a:r>
            <a:r>
              <a:rPr b="0" lang="en-US" sz="2800" spc="-1" strike="noStrike">
                <a:solidFill>
                  <a:srgbClr val="008093"/>
                </a:solidFill>
                <a:latin typeface="Arial"/>
              </a:rPr>
              <a:t>copie unique</a:t>
            </a:r>
            <a:r>
              <a:rPr b="0" lang="en-US" sz="2800" spc="-1" strike="noStrike">
                <a:solidFill>
                  <a:srgbClr val="000000"/>
                </a:solidFill>
                <a:latin typeface="Arial"/>
              </a:rPr>
              <a:t> de la manifestation – habituellement, information </a:t>
            </a:r>
            <a:r>
              <a:rPr b="0" lang="en-US" sz="2800" spc="-1" strike="noStrike">
                <a:solidFill>
                  <a:srgbClr val="008093"/>
                </a:solidFill>
                <a:latin typeface="Arial"/>
              </a:rPr>
              <a:t>loca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8586E0-C191-4370-9CB9-7DFE9BDE04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ondamentales LC : item</a:t>
            </a:r>
            <a:br>
              <a:rPr sz="2800"/>
            </a:b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8.1</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a:t>
            </a:r>
            <a:r>
              <a:rPr b="0" lang="en-US" sz="2800" spc="-1" strike="noStrike">
                <a:solidFill>
                  <a:srgbClr val="000000"/>
                </a:solidFill>
                <a:latin typeface="Arial"/>
              </a:rPr>
              <a:t>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particulières entre ressources rar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8082F3-8FC2-4F61-BFC1-72549E6D1A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16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 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5</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8AFBB59-CC3E-42C5-A6E5-C67C0EFA7F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63" name=""/>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501 ## </a:t>
            </a:r>
            <a:r>
              <a:rPr b="1" lang="en-US" sz="2400" spc="-1" strike="noStrike">
                <a:solidFill>
                  <a:srgbClr val="008093"/>
                </a:solidFill>
                <a:latin typeface="Courier New"/>
              </a:rPr>
              <a:t>$a Relié avec :</a:t>
            </a:r>
            <a:r>
              <a:rPr b="1" lang="en-US"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164" name=""/>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1C924EE6-1C17-404D-8FDF-F29E7D36576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fondamentales LC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s et 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tout-partie pour les compil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our les publications en séri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em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DD711BC-E22D-4C72-92C8-792BB0E8D4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établies dans les notices d’</a:t>
            </a:r>
            <a:r>
              <a:rPr b="0" lang="en-US" sz="2800" spc="-1" strike="noStrike">
                <a:solidFill>
                  <a:srgbClr val="008093"/>
                </a:solidFill>
                <a:latin typeface="Arial"/>
              </a:rPr>
              <a:t>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12C849A-AA2C-4E13-B753-F3BD64361A5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érentes identités d’une personn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qui précèdent/succèdent immédiate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D86C232-058B-4493-AAB9-6DE6A313D8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enregistrées dans la zone MARC </a:t>
            </a:r>
            <a:r>
              <a:rPr b="0" lang="en-US" sz="2800" spc="-1" strike="noStrike">
                <a:solidFill>
                  <a:srgbClr val="008093"/>
                </a:solidFill>
                <a:latin typeface="Arial"/>
              </a:rPr>
              <a:t>5XX </a:t>
            </a:r>
            <a:r>
              <a:rPr b="0" lang="en-US" sz="2800" spc="-1" strike="noStrike">
                <a:solidFill>
                  <a:srgbClr val="000000"/>
                </a:solidFill>
                <a:latin typeface="Arial"/>
              </a:rPr>
              <a:t>de la </a:t>
            </a:r>
            <a:r>
              <a:rPr b="0" lang="en-US" sz="2800" spc="-1" strike="noStrike">
                <a:solidFill>
                  <a:srgbClr val="008093"/>
                </a:solidFill>
                <a:latin typeface="Arial"/>
              </a:rPr>
              <a:t>notice d’autorité</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relations sont indiquées, dans le format MARC, par une valeur saisie dans la </a:t>
            </a:r>
            <a:r>
              <a:rPr b="0" lang="en-US" sz="2800" spc="-1" strike="noStrike">
                <a:solidFill>
                  <a:srgbClr val="008093"/>
                </a:solidFill>
                <a:latin typeface="Arial"/>
              </a:rPr>
              <a:t>sous-zone $w</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8093"/>
                </a:solidFill>
                <a:latin typeface="Arial"/>
              </a:rPr>
              <a:t>Utiliser la sous-zone $w plutôt que la sous-zone $i pour </a:t>
            </a:r>
            <a:r>
              <a:rPr b="0" lang="en-US" sz="2800" spc="-1" strike="noStrike">
                <a:solidFill>
                  <a:srgbClr val="000000"/>
                </a:solidFill>
                <a:latin typeface="Arial"/>
              </a:rPr>
              <a:t>les collectivités qui précèdent/succèdent</a:t>
            </a:r>
            <a:endParaRPr b="0" lang="en-US" sz="2800" spc="-1" strike="noStrike">
              <a:solidFill>
                <a:srgbClr val="000000"/>
              </a:solidFill>
              <a:latin typeface="Arial"/>
            </a:endParaRPr>
          </a:p>
          <a:p>
            <a:pPr lvl="1"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3BC182-FC9A-4F34-B3CF-9EF9A33E4C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les différentes identités d’une personne </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2 identités</a:t>
            </a:r>
            <a:r>
              <a:rPr b="0" lang="fr-CA" sz="2800" spc="-1" strike="noStrike">
                <a:solidFill>
                  <a:srgbClr val="000000"/>
                </a:solidFill>
                <a:latin typeface="Arial"/>
              </a:rPr>
              <a:t> = zones 500 sans autre codage dans chaque autorité</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3 identités et plus</a:t>
            </a:r>
            <a:r>
              <a:rPr b="0" lang="fr-CA" sz="2800" spc="-1" strike="noStrike">
                <a:solidFill>
                  <a:srgbClr val="000000"/>
                </a:solidFill>
                <a:latin typeface="Arial"/>
              </a:rPr>
              <a:t> = une </a:t>
            </a:r>
            <a:r>
              <a:rPr b="0" lang="fr-CA" sz="2800" spc="-1" strike="noStrike">
                <a:solidFill>
                  <a:srgbClr val="008093"/>
                </a:solidFill>
                <a:latin typeface="Arial"/>
              </a:rPr>
              <a:t>zone 663</a:t>
            </a:r>
            <a:r>
              <a:rPr b="0" lang="fr-CA" sz="2800" spc="-1" strike="noStrike">
                <a:solidFill>
                  <a:srgbClr val="000000"/>
                </a:solidFill>
                <a:latin typeface="Arial"/>
              </a:rPr>
              <a:t> et des </a:t>
            </a:r>
            <a:r>
              <a:rPr b="0" lang="fr-CA" sz="2800" spc="-1" strike="noStrike">
                <a:solidFill>
                  <a:srgbClr val="008093"/>
                </a:solidFill>
                <a:latin typeface="Arial"/>
              </a:rPr>
              <a:t>zones 500 </a:t>
            </a:r>
            <a:r>
              <a:rPr b="0" lang="fr-CA" sz="2800" spc="-1" strike="noStrike">
                <a:solidFill>
                  <a:srgbClr val="000000"/>
                </a:solidFill>
                <a:latin typeface="Arial"/>
              </a:rPr>
              <a:t>(codage actuel)</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B : LC code aussi </a:t>
            </a:r>
            <a:r>
              <a:rPr b="0" lang="fr-CA" sz="2800" spc="-1" strike="noStrike">
                <a:solidFill>
                  <a:srgbClr val="008093"/>
                </a:solidFill>
                <a:latin typeface="Arial"/>
              </a:rPr>
              <a:t>$w nnnc</a:t>
            </a:r>
            <a:r>
              <a:rPr b="0" lang="fr-CA" sz="2800" spc="-1" strike="noStrike">
                <a:solidFill>
                  <a:srgbClr val="000000"/>
                </a:solidFill>
                <a:latin typeface="Arial"/>
              </a:rPr>
              <a:t> dans les 500 lorsqu’il y a 3 identités ou plu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1C747D3-8F36-4A52-945F-D6896B956B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2 identités</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Narrache, Jean,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a Coderre, Émile,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derre, Émile,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a Narrache, Jean, $d 1893-197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EBDEE0-0BD7-44EB-BBC9-93AEAD49B2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mises en relation</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entr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ssources et les personnes, familles ou collectivité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ssources (œuvres, expressions, manifestations, items)</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personnes, les familles et les collectivit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76CB33-A779-422E-93FF-3E66CE905B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3 identités et plus</a:t>
            </a:r>
            <a:endParaRPr b="1" lang="en-US" sz="2800" spc="-1" strike="noStrike">
              <a:solidFill>
                <a:srgbClr val="ffffff"/>
              </a:solidFill>
              <a:latin typeface="Arial"/>
            </a:endParaRPr>
          </a:p>
        </p:txBody>
      </p:sp>
      <p:sp>
        <p:nvSpPr>
          <p:cNvPr id="178" name="PlaceHolder 2"/>
          <p:cNvSpPr>
            <a:spLocks noGrp="1"/>
          </p:cNvSpPr>
          <p:nvPr>
            <p:ph/>
          </p:nvPr>
        </p:nvSpPr>
        <p:spPr>
          <a:xfrm>
            <a:off x="653760" y="1345680"/>
            <a:ext cx="8489880" cy="5272200"/>
          </a:xfrm>
          <a:prstGeom prst="rect">
            <a:avLst/>
          </a:prstGeom>
          <a:noFill/>
          <a:ln w="0">
            <a:noFill/>
          </a:ln>
        </p:spPr>
        <p:txBody>
          <a:bodyPr lIns="90000" rIns="90000" tIns="46800" bIns="46800" anchor="t">
            <a:normAutofit/>
          </a:bodyPr>
          <a:p>
            <a:pPr marL="1131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ints d’accès autorisés dans les notices d’autorité (LC) :</a:t>
            </a:r>
            <a:endParaRPr b="0" lang="en-US" sz="24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00 1# $a Twain, Mark, $d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500</a:t>
            </a:r>
            <a:r>
              <a:rPr b="1" lang="fr-CA" sz="2200" spc="-1" strike="noStrike">
                <a:solidFill>
                  <a:srgbClr val="000000"/>
                </a:solidFill>
                <a:latin typeface="Courier New"/>
              </a:rPr>
              <a:t> 1# </a:t>
            </a:r>
            <a:r>
              <a:rPr b="1" lang="fr-CA" sz="2200" spc="-1" strike="noStrike">
                <a:solidFill>
                  <a:srgbClr val="008093"/>
                </a:solidFill>
                <a:latin typeface="Courier New"/>
              </a:rPr>
              <a:t>$w nnnc</a:t>
            </a:r>
            <a:r>
              <a:rPr b="1" lang="fr-CA" sz="2200" spc="-1" strike="noStrike">
                <a:solidFill>
                  <a:srgbClr val="000000"/>
                </a:solidFill>
                <a:latin typeface="Courier New"/>
              </a:rPr>
              <a:t> $a Clemens, Samuel Langhorne, $d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500</a:t>
            </a:r>
            <a:r>
              <a:rPr b="1" lang="fr-CA" sz="2200" spc="-1" strike="noStrike">
                <a:solidFill>
                  <a:srgbClr val="000000"/>
                </a:solidFill>
                <a:latin typeface="Courier New"/>
              </a:rPr>
              <a:t> 1# </a:t>
            </a:r>
            <a:r>
              <a:rPr b="1" lang="fr-CA" sz="2200" spc="-1" strike="noStrike">
                <a:solidFill>
                  <a:srgbClr val="008093"/>
                </a:solidFill>
                <a:latin typeface="Courier New"/>
              </a:rPr>
              <a:t>$w nnnc</a:t>
            </a:r>
            <a:r>
              <a:rPr b="1" lang="fr-CA" sz="2200" spc="-1" strike="noStrike">
                <a:solidFill>
                  <a:srgbClr val="000000"/>
                </a:solidFill>
                <a:latin typeface="Courier New"/>
              </a:rPr>
              <a:t> $a Snodgrass, Quintus Curtius, $d </a:t>
            </a:r>
            <a:r>
              <a:rPr b="1" lang="fr-CA" sz="2200" spc="-1" strike="noStrike">
                <a:solidFill>
                  <a:srgbClr val="000000"/>
                </a:solidFill>
                <a:latin typeface="Courier New"/>
              </a:rPr>
              <a:t>	</a:t>
            </a:r>
            <a:r>
              <a:rPr b="1" lang="fr-CA" sz="2200" spc="-1" strike="noStrike">
                <a:solidFill>
                  <a:srgbClr val="000000"/>
                </a:solidFill>
                <a:latin typeface="Courier New"/>
              </a:rPr>
              <a:t>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663</a:t>
            </a:r>
            <a:r>
              <a:rPr b="1" lang="fr-CA" sz="2200" spc="-1" strike="noStrike">
                <a:solidFill>
                  <a:srgbClr val="000000"/>
                </a:solidFill>
                <a:latin typeface="Courier New"/>
              </a:rPr>
              <a:t> ## $a Pour les œuvres de cet auteur écrites sous d’autres noms, rechercher aussi sous $b Clemens, Samuel Langhorne, 1835-1910, $b Snodgrass, Quintus Curtius, 1835-1910</a:t>
            </a:r>
            <a:endParaRPr b="0" lang="en-US" sz="22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00 1# $a Clemens, Samuel Langhorne, $d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500</a:t>
            </a:r>
            <a:r>
              <a:rPr b="1" lang="fr-CA" sz="2200" spc="-1" strike="noStrike">
                <a:solidFill>
                  <a:srgbClr val="000000"/>
                </a:solidFill>
                <a:latin typeface="Courier New"/>
              </a:rPr>
              <a:t> 1# </a:t>
            </a:r>
            <a:r>
              <a:rPr b="1" lang="fr-CA" sz="2200" spc="-1" strike="noStrike">
                <a:solidFill>
                  <a:srgbClr val="008093"/>
                </a:solidFill>
                <a:latin typeface="Courier New"/>
              </a:rPr>
              <a:t>$w nnnc</a:t>
            </a:r>
            <a:r>
              <a:rPr b="1" lang="fr-CA" sz="2200" spc="-1" strike="noStrike">
                <a:solidFill>
                  <a:srgbClr val="000000"/>
                </a:solidFill>
                <a:latin typeface="Courier New"/>
              </a:rPr>
              <a:t> $a Twain, Mark, $d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663</a:t>
            </a:r>
            <a:r>
              <a:rPr b="1" lang="fr-CA" sz="2200" spc="-1" strike="noStrike">
                <a:solidFill>
                  <a:srgbClr val="000000"/>
                </a:solidFill>
                <a:latin typeface="Courier New"/>
              </a:rPr>
              <a:t> ## $a Pour la liste des autres noms utilisés par cet auteur, rechercher aussi sous $b Twain, Mark, 1835-1910</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E5F4C0C3-945B-4C32-8520-1729B9D563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llectivités en relation</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quer des relations spécifiques avec le $w de la zone 5XX :</a:t>
            </a: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10 2# $a Canadien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10 2# </a:t>
            </a:r>
            <a:r>
              <a:rPr b="1" lang="en-US" sz="2400" spc="-1" strike="noStrike">
                <a:solidFill>
                  <a:srgbClr val="008093"/>
                </a:solidFill>
                <a:latin typeface="Courier New"/>
              </a:rPr>
              <a:t>$w a</a:t>
            </a:r>
            <a:r>
              <a:rPr b="1" lang="en-US" sz="2400" spc="-1" strike="noStrike">
                <a:solidFill>
                  <a:srgbClr val="000000"/>
                </a:solidFill>
                <a:latin typeface="Courier New"/>
              </a:rPr>
              <a:t> $a Compagnie du chemin de fer</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10 2# $a Compagnie du chemin de fer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10 2# </a:t>
            </a:r>
            <a:r>
              <a:rPr b="1" lang="en-US" sz="2400" spc="-1" strike="noStrike">
                <a:solidFill>
                  <a:srgbClr val="008093"/>
                </a:solidFill>
                <a:latin typeface="Courier New"/>
              </a:rPr>
              <a:t>$w b</a:t>
            </a:r>
            <a:r>
              <a:rPr b="1" lang="en-US" sz="2400" spc="-1" strike="noStrike">
                <a:solidFill>
                  <a:srgbClr val="000000"/>
                </a:solidFill>
                <a:latin typeface="Courier New"/>
              </a:rPr>
              <a:t> $a Canadien Pacif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6A3EA8-A352-42FA-862D-2C2A9B7E4A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s relations</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les autres relations établies dans les notices d’autorité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atalogueur juge s’il est pertinent de saisir dans la </a:t>
            </a:r>
            <a:r>
              <a:rPr b="0" lang="en-US" sz="2400" spc="-1" strike="noStrike">
                <a:solidFill>
                  <a:srgbClr val="008093"/>
                </a:solidFill>
                <a:latin typeface="Arial"/>
              </a:rPr>
              <a:t>sous-zone $i</a:t>
            </a:r>
            <a:r>
              <a:rPr b="0" lang="en-US" sz="2400" spc="-1" strike="noStrike">
                <a:solidFill>
                  <a:srgbClr val="000000"/>
                </a:solidFill>
                <a:latin typeface="Arial"/>
              </a:rPr>
              <a:t> un </a:t>
            </a:r>
            <a:r>
              <a:rPr b="0" lang="en-US" sz="2400" spc="-1" strike="noStrike">
                <a:solidFill>
                  <a:srgbClr val="008093"/>
                </a:solidFill>
                <a:latin typeface="Arial"/>
              </a:rPr>
              <a:t>indicateur de relation issu de l’annexe K</a:t>
            </a:r>
            <a:r>
              <a:rPr b="0" lang="en-US" sz="2400" spc="-1" strike="noStrike">
                <a:solidFill>
                  <a:srgbClr val="000000"/>
                </a:solidFill>
                <a:latin typeface="Arial"/>
              </a:rPr>
              <a:t> pour identifier une relation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faut utiliser la valeur </a:t>
            </a:r>
            <a:r>
              <a:rPr b="0" lang="en-US" sz="2400" spc="-1" strike="noStrike">
                <a:solidFill>
                  <a:srgbClr val="008093"/>
                </a:solidFill>
                <a:latin typeface="Arial"/>
              </a:rPr>
              <a:t>« r » dans la sous-zone $w</a:t>
            </a:r>
            <a:r>
              <a:rPr b="0" lang="en-US" sz="2400" spc="-1" strike="noStrike">
                <a:solidFill>
                  <a:srgbClr val="000000"/>
                </a:solidFill>
                <a:latin typeface="Arial"/>
              </a:rPr>
              <a:t> si on utilise la sous-zone $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7D47DA-AEB7-4505-90B2-DBE5E45668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mples : </a:t>
            </a:r>
            <a:br>
              <a:rPr sz="2400"/>
            </a:br>
            <a:r>
              <a:rPr b="1" lang="en-US" sz="2400" spc="-1" strike="noStrike">
                <a:solidFill>
                  <a:srgbClr val="ffffff"/>
                </a:solidFill>
                <a:latin typeface="Arial"/>
              </a:rPr>
              <a:t>personne associée à une collectivité ou une famille</a:t>
            </a:r>
            <a:endParaRPr b="1" lang="en-US" sz="24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Aurèle Lacombe et ses Hot guitares (Groupe musical)</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1# $w r </a:t>
            </a:r>
            <a:r>
              <a:rPr b="1" lang="fr-CA" sz="2400" spc="-1" strike="noStrike">
                <a:solidFill>
                  <a:srgbClr val="008093"/>
                </a:solidFill>
                <a:latin typeface="Courier New"/>
              </a:rPr>
              <a:t>$i Membre du groupe :</a:t>
            </a:r>
            <a:r>
              <a:rPr b="1" lang="fr-CA" sz="2400" spc="-1" strike="noStrike">
                <a:solidFill>
                  <a:srgbClr val="000000"/>
                </a:solidFill>
                <a:latin typeface="Courier New"/>
              </a:rPr>
              <a:t> $a Lacombe, Aurèl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Eaton, Timothy, $d 1834-1907</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3# $w r </a:t>
            </a:r>
            <a:r>
              <a:rPr b="1" lang="fr-CA" sz="2400" spc="-1" strike="noStrike">
                <a:solidFill>
                  <a:srgbClr val="008093"/>
                </a:solidFill>
                <a:latin typeface="Courier New"/>
              </a:rPr>
              <a:t>$i Descendants :</a:t>
            </a:r>
            <a:r>
              <a:rPr b="1" lang="fr-CA" sz="2400" spc="-1" strike="noStrike">
                <a:solidFill>
                  <a:srgbClr val="000000"/>
                </a:solidFill>
                <a:latin typeface="Courier New"/>
              </a:rPr>
              <a:t> $a Eat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Famille : $d 1869-1999 : $c Toronto,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On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A233E66-F8BA-4D57-93D2-2461A69179A3}" type="slidenum">
              <a:t>63</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6E0414-2E44-4A37-A705-4621F49BE5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litique LC </a:t>
            </a:r>
            <a:r>
              <a:rPr b="0" lang="en-US"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4A1C095-F7E8-4A2B-A81D-8670FAAC46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rot="16200000">
            <a:off x="4420440" y="1850040"/>
            <a:ext cx="1003320" cy="7767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Image-écran tirée d’une version de travail de la traduction française de RDA (utilisée avec la permission de ALA Publishing)]</a:t>
            </a:r>
            <a:endParaRPr b="1" lang="en-US" sz="1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000000"/>
              </a:solidFill>
              <a:latin typeface="Arial Unicode MS"/>
            </a:endParaRPr>
          </a:p>
        </p:txBody>
      </p:sp>
      <p:pic>
        <p:nvPicPr>
          <p:cNvPr id="64" name="" descr=""/>
          <p:cNvPicPr/>
          <p:nvPr/>
        </p:nvPicPr>
        <p:blipFill>
          <a:blip r:embed="rId1"/>
          <a:srcRect l="13522" t="11545" r="5346" b="6329"/>
          <a:stretch/>
        </p:blipFill>
        <p:spPr>
          <a:xfrm>
            <a:off x="1039680" y="893880"/>
            <a:ext cx="7764480" cy="4419360"/>
          </a:xfrm>
          <a:prstGeom prst="rect">
            <a:avLst/>
          </a:prstGeom>
          <a:ln w="25560">
            <a:solidFill>
              <a:srgbClr val="000000"/>
            </a:solidFill>
            <a:miter/>
          </a:ln>
        </p:spPr>
      </p:pic>
      <p:sp>
        <p:nvSpPr>
          <p:cNvPr id="65" name=""/>
          <p:cNvSpPr/>
          <p:nvPr/>
        </p:nvSpPr>
        <p:spPr>
          <a:xfrm>
            <a:off x="2286000" y="3027240"/>
            <a:ext cx="685800" cy="3812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66" name=""/>
          <p:cNvSpPr/>
          <p:nvPr/>
        </p:nvSpPr>
        <p:spPr>
          <a:xfrm>
            <a:off x="2743200" y="3484440"/>
            <a:ext cx="762120" cy="30492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 name="PlaceHolder 1"/>
          <p:cNvSpPr>
            <a:spLocks noGrp="1"/>
          </p:cNvSpPr>
          <p:nvPr>
            <p:ph type="sldNum" idx="2"/>
          </p:nvPr>
        </p:nvSpPr>
        <p:spPr/>
        <p:txBody>
          <a:bodyPr/>
          <a:p>
            <a:fld id="{5054CDD4-BE46-45C4-8472-E1BAF03173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0:47:46Z</dcterms:modified>
  <cp:revision>589</cp:revision>
  <dc:subject/>
  <dc:title>Diapositive 1</dc:title>
</cp:coreProperties>
</file>