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na, Ita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ett: Dec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4D7B733-3A6B-48CA-B205-FE70635FE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F77A07-1A18-4487-82EB-651AFD98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F095CCA-8380-49F6-B1A3-0F58B063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21E70C-FA0B-442B-B259-26D07759C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B1FA29-8203-45D8-8BF2-917D47BF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77EE19-D644-4B17-9522-F975128F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C05366A-11B7-44E1-B004-3FD6E1A4B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B8AC0BE-FC5E-4EC4-8347-5E27D5C3F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962AC6-4E0B-4869-8512-16479902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278D032-EFAC-4819-A5DE-81F39C0D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C359690-E677-491B-8E8C-794FAE5D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795760" y="228600"/>
            <a:ext cx="3555720" cy="2666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80520" y="3047760"/>
            <a:ext cx="632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74E5EA-D58D-4806-AEE2-7F2610A3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128-3921-4E77-8003-A370B103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9D9-A4B4-4485-A847-D90823BB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9BE-533B-48A7-B03A-DAD22F82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419-B6BF-4D1C-BCE1-EFF68527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969-BE42-4D1B-8582-FA9266A4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167-3AFF-4E5A-9DB2-8EFB4FBC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BC5-0A9E-477F-AD65-96B34DA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DFD-8050-4C5C-9046-52E44C7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00D-0078-40A4-9201-57974734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42F-FD59-4492-BFE2-E018D08A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845-B855-4570-A9B6-3B4B26A3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28A-5391-4A7E-B88E-8EF1DD08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28600" y="0"/>
            <a:ext cx="8488080" cy="831600"/>
            <a:chOff x="228600" y="0"/>
            <a:chExt cx="848808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020600" y="77760"/>
              <a:ext cx="7696080" cy="685800"/>
              <a:chOff x="1020600" y="77760"/>
              <a:chExt cx="769608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020600" y="77760"/>
                <a:ext cx="7696080" cy="685800"/>
              </a:xfrm>
              <a:prstGeom prst="pie">
                <a:avLst/>
              </a:prstGeom>
              <a:solidFill>
                <a:srgbClr val="bfd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1863720" y="77760"/>
                <a:ext cx="6075360" cy="680400"/>
                <a:chOff x="1863720" y="77760"/>
                <a:chExt cx="607536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1863720" y="79200"/>
                  <a:ext cx="3505320" cy="677160"/>
                  <a:chOff x="1863720" y="79200"/>
                  <a:chExt cx="350532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3826080" y="700920"/>
                    <a:ext cx="1116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3944880" y="743760"/>
                    <a:ext cx="1440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608640" y="67392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365640" y="694800"/>
                    <a:ext cx="1728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292560" y="70416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246480" y="702720"/>
                    <a:ext cx="4608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2997360" y="56448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143520" y="55512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246480" y="60408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243240" y="62964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329280" y="59940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335400" y="648720"/>
                    <a:ext cx="3168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368880" y="624960"/>
                    <a:ext cx="410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380040" y="63756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548160" y="64692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3659400" y="55980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3726000" y="623160"/>
                    <a:ext cx="17280" cy="12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511800" y="48024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399120" y="5472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275280" y="52632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257640" y="435960"/>
                    <a:ext cx="6336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273480" y="50256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229200" y="509040"/>
                    <a:ext cx="2988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4894200" y="472320"/>
                    <a:ext cx="474840" cy="284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265640" y="80280"/>
                    <a:ext cx="666720" cy="4489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060800" y="402480"/>
                    <a:ext cx="2412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041720" y="393120"/>
                    <a:ext cx="255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4811760" y="340560"/>
                    <a:ext cx="115920" cy="52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4934160" y="383400"/>
                    <a:ext cx="93600" cy="2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4884840" y="396360"/>
                    <a:ext cx="38160" cy="2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4859280" y="327960"/>
                    <a:ext cx="25560" cy="280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061240" y="413640"/>
                    <a:ext cx="2988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523040" y="88200"/>
                    <a:ext cx="325440" cy="64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235400" y="86760"/>
                    <a:ext cx="30168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570480" y="13284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2792520" y="86760"/>
                    <a:ext cx="69228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486240" y="79200"/>
                    <a:ext cx="31680" cy="86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467160" y="151920"/>
                    <a:ext cx="9360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367080" y="202680"/>
                    <a:ext cx="12708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451320" y="23580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2739960" y="313560"/>
                    <a:ext cx="55116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2836800" y="52020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259080" y="364320"/>
                    <a:ext cx="2880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340080" y="345600"/>
                    <a:ext cx="144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1863720" y="194760"/>
                    <a:ext cx="68760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130480" y="405720"/>
                    <a:ext cx="258840" cy="350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586240" y="66600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571840" y="48528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1944720" y="26280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424240" y="11700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105280" y="8820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295720" y="14400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271960" y="165960"/>
                    <a:ext cx="2988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370240" y="23112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457720" y="22968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224080" y="164520"/>
                    <a:ext cx="223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131160" y="77760"/>
                  <a:ext cx="1807920" cy="680400"/>
                  <a:chOff x="6131160" y="77760"/>
                  <a:chExt cx="180792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7875720" y="674280"/>
                    <a:ext cx="20520" cy="219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7632720" y="695160"/>
                    <a:ext cx="1764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7559640" y="704520"/>
                    <a:ext cx="44640" cy="252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7513920" y="703080"/>
                    <a:ext cx="45720" cy="24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264440" y="564840"/>
                    <a:ext cx="239760" cy="1472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7410600" y="555480"/>
                    <a:ext cx="106200" cy="107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7513920" y="604440"/>
                    <a:ext cx="74520" cy="205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7510680" y="630000"/>
                    <a:ext cx="507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7596360" y="599760"/>
                    <a:ext cx="25200" cy="313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7602480" y="649080"/>
                    <a:ext cx="32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7635960" y="625320"/>
                    <a:ext cx="4140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7647120" y="637920"/>
                    <a:ext cx="193680" cy="96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7815240" y="647280"/>
                    <a:ext cx="52560" cy="410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7926480" y="560160"/>
                    <a:ext cx="12600" cy="90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7778880" y="48060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7666200" y="547560"/>
                    <a:ext cx="12600" cy="75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7542360" y="526680"/>
                    <a:ext cx="54000" cy="42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7524720" y="436320"/>
                    <a:ext cx="63720" cy="91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7540560" y="502920"/>
                    <a:ext cx="2232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7496280" y="509400"/>
                    <a:ext cx="30240" cy="26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7837560" y="133200"/>
                    <a:ext cx="284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058160" y="87120"/>
                    <a:ext cx="695160" cy="2408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7753320" y="77760"/>
                    <a:ext cx="32040" cy="87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7734240" y="152280"/>
                    <a:ext cx="93960" cy="5364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7634520" y="203040"/>
                    <a:ext cx="126720" cy="1137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7718400" y="236160"/>
                    <a:ext cx="9720" cy="61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007400" y="313920"/>
                    <a:ext cx="550800" cy="2998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104240" y="520560"/>
                    <a:ext cx="30240" cy="45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7526520" y="364680"/>
                    <a:ext cx="28440" cy="37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7607520" y="345960"/>
                    <a:ext cx="1404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131160" y="196560"/>
                    <a:ext cx="687240" cy="5616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6397560" y="407880"/>
                    <a:ext cx="258840" cy="350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6853320" y="666360"/>
                    <a:ext cx="11160" cy="1872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6838920" y="485640"/>
                    <a:ext cx="14400" cy="108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212160" y="263160"/>
                    <a:ext cx="3960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6691320" y="117360"/>
                    <a:ext cx="468360" cy="36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6372360" y="88560"/>
                    <a:ext cx="938160" cy="150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6562800" y="144360"/>
                    <a:ext cx="2052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6539040" y="166320"/>
                    <a:ext cx="30240" cy="172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6637320" y="231480"/>
                    <a:ext cx="50760" cy="936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6724800" y="230040"/>
                    <a:ext cx="28440" cy="2340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6491520" y="164880"/>
                    <a:ext cx="21960" cy="15480"/>
                  </a:xfrm>
                  <a:prstGeom prst="pie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233360" y="88560"/>
                <a:ext cx="7464240" cy="663840"/>
                <a:chOff x="1233360" y="88560"/>
                <a:chExt cx="746424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233360" y="439560"/>
                  <a:ext cx="746424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595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19573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3191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681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0430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404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3767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128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491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4852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214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5576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5938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300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66625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024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7386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77482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110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8472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1884240" y="85680"/>
                <a:ext cx="5864040" cy="671040"/>
                <a:chOff x="1884240" y="85680"/>
                <a:chExt cx="586404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49064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4684320" y="439560"/>
                  <a:ext cx="111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485280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21460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30072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151320" y="439560"/>
                  <a:ext cx="5526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666252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6665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02432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262640" y="439560"/>
                  <a:ext cx="1238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052760" y="439560"/>
                  <a:ext cx="98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7386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7748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40488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04308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00168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2788920" y="439560"/>
                  <a:ext cx="954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471400" y="439560"/>
                  <a:ext cx="1303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1884240" y="439560"/>
                  <a:ext cx="552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31588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195732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31912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68092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68092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6743520" y="437760"/>
                  <a:ext cx="127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28600" y="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2096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pic>
          <p:nvPicPr>
            <p:cNvPr id="281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Picture 98" descr="rda_lgo_rgb"/>
          <p:cNvPicPr/>
          <p:nvPr/>
        </p:nvPicPr>
        <p:blipFill>
          <a:blip r:embed="rId3"/>
          <a:stretch/>
        </p:blipFill>
        <p:spPr>
          <a:xfrm>
            <a:off x="3352680" y="762120"/>
            <a:ext cx="2438640" cy="1190520"/>
          </a:xfrm>
          <a:prstGeom prst="rect">
            <a:avLst/>
          </a:prstGeom>
          <a:ln w="0">
            <a:noFill/>
          </a:ln>
        </p:spPr>
      </p:pic>
      <p:sp>
        <p:nvSpPr>
          <p:cNvPr id="283" name="Oval 99"/>
          <p:cNvSpPr/>
          <p:nvPr/>
        </p:nvSpPr>
        <p:spPr>
          <a:xfrm>
            <a:off x="533520" y="2438280"/>
            <a:ext cx="10666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ha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0F88-FD7E-42DA-9465-F7BA19958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da-jsc.html/" TargetMode="External"/><Relationship Id="rId2" Type="http://schemas.openxmlformats.org/officeDocument/2006/relationships/hyperlink" Target="http://www.rda-jsc.org/stratplan.html" TargetMode="External"/><Relationship Id="rId3" Type="http://schemas.openxmlformats.org/officeDocument/2006/relationships/hyperlink" Target="http://www.rda-jsc.org/rda.html#prospectus" TargetMode="External"/><Relationship Id="rId4" Type="http://schemas.openxmlformats.org/officeDocument/2006/relationships/hyperlink" Target="http://www.rda-jsc.org/docs/5rda-objectivesrev2.pdf" TargetMode="External"/><Relationship Id="rId5" Type="http://schemas.openxmlformats.org/officeDocument/2006/relationships/hyperlink" Target="http://www.ifla.org/files/cataloguing/frbr/frbr-fr.pdf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66320" y="990720"/>
            <a:ext cx="723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Verdana"/>
              </a:rPr>
              <a:t>RDA :  Pourquoi, quoi, qui et qu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Verdana"/>
              </a:rPr>
              <a:t>Des règles aux entités : Catalogage avec la R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ACB, le 29 mai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Gillian Cante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Bibliothèque et Archives Canada</a:t>
            </a: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933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45720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5" descr="RDAlogo_rgb"/>
          <p:cNvPicPr/>
          <p:nvPr/>
        </p:nvPicPr>
        <p:blipFill>
          <a:blip r:embed="rId1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Transcription</a:t>
            </a:r>
            <a:r>
              <a:rPr b="0" i="1" lang="en-CA" sz="4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66"/>
                </a:solidFill>
                <a:latin typeface="Verdana"/>
              </a:rPr>
              <a:t>(représentation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rendre ce qu’on vo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acilitation de la saisie des données et de la ré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Les données RDA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outiendront les tâches de l’utilisateur des SFNB et des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ront indépendantes du format, du médium ou du système utilisé pour stocker ou communiquer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ourront être intégrées dans les bases de données existantes, avec un minimum d'ajustements rétrosp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210760" y="5181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66"/>
                </a:solidFill>
                <a:latin typeface="Verdana"/>
              </a:rPr>
              <a:t>Plan stratégique – Objectifs de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Couvrir tous les types de ressources et de conten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adaptable à d’autres langues que l’angla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Permettre que les documents résultants soient utilisables dans un environnement numéri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Verdana"/>
              </a:rPr>
              <a:t>Être optimisé pour une utilisation comme produit en lig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Groupe de travail sur l’IMDC/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Établi en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Les éléments, les vocabulaires et les rôles de la RDA sont enregist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3200" spc="-1" strike="noStrike">
                <a:solidFill>
                  <a:srgbClr val="3333cc"/>
                </a:solidFill>
                <a:latin typeface="Verdana"/>
              </a:rPr>
              <a:t>http://metadataregistry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Positionne les données RDA dans le Web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sémantiq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838080"/>
            <a:ext cx="533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1080" y="828720"/>
          <a:ext cx="7429320" cy="5570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742932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3429000" y="838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Verdana"/>
              </a:rPr>
              <a:t>Qui développe et soutient la R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RDAlogo_rgb"/>
          <p:cNvPicPr/>
          <p:nvPr/>
        </p:nvPicPr>
        <p:blipFill>
          <a:blip r:embed="rId4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ntervenants et organismes de soutien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èle du J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té canadien de catalog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s de travail – exemples, annex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quipe de sensibi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communautés (p. ex., DC, MAR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organismes affectés à l’établissement de règ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66"/>
                </a:solidFill>
                <a:latin typeface="Verdana"/>
              </a:rPr>
              <a:t>Échéancier pour la RDA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ansmission du cont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Juin/juillet 2009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ssai bê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4e trimestre 2009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emièr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 6 à 9 mois en 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à l’essai et préparation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our la 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ise e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49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Référenc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200" y="1904760"/>
            <a:ext cx="73407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1"/>
              </a:rPr>
              <a:t>http://www.rda-jsc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trategic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2"/>
              </a:rPr>
              <a:t>http://www.rda-jsc.org/stratplan.html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Prospec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3"/>
              </a:rPr>
              <a:t>http://www.rda-jsc.org/rda.html#prospectus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DA Objectives and princi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Verdana"/>
                <a:hlinkClick r:id="rId4"/>
              </a:rPr>
              <a:t>http://www.rda-jsc.org/docs/5rda-objectivesrev2.pdf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R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bfdfff"/>
                </a:solidFill>
                <a:uFillTx/>
                <a:latin typeface="Tahoma"/>
                <a:hlinkClick r:id="rId5"/>
              </a:rPr>
              <a:t>http://www.ifla.org/files/cataloguing/frbr/frbr-fr.pdf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RDAlogo_rgb"/>
          <p:cNvPicPr/>
          <p:nvPr/>
        </p:nvPicPr>
        <p:blipFill>
          <a:blip r:embed="rId8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A" sz="4400" spc="-1" strike="noStrike">
                <a:solidFill>
                  <a:srgbClr val="000099"/>
                </a:solidFill>
                <a:latin typeface="Verdana"/>
              </a:rPr>
              <a:t>Vue d’ensembl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Pourquoi une nouvelle nor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Les principes et les objectifs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Ceux qui élaborent et appuient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Échéancier de la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RDAlogo_rgb"/>
          <p:cNvPicPr/>
          <p:nvPr/>
        </p:nvPicPr>
        <p:blipFill>
          <a:blip r:embed="rId3"/>
          <a:stretch/>
        </p:blipFill>
        <p:spPr>
          <a:xfrm>
            <a:off x="380880" y="179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2438280" y="3429000"/>
            <a:ext cx="1333800" cy="1828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715000" y="76176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aacr"/>
          <p:cNvPicPr/>
          <p:nvPr/>
        </p:nvPicPr>
        <p:blipFill>
          <a:blip r:embed="rId4"/>
          <a:stretch/>
        </p:blipFill>
        <p:spPr>
          <a:xfrm>
            <a:off x="3429000" y="388620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RDAlogo_rgb"/>
          <p:cNvPicPr/>
          <p:nvPr/>
        </p:nvPicPr>
        <p:blipFill>
          <a:blip r:embed="rId7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75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férence internationale de 1997 sur les principes et l’évolution future des RCA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inc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tenu v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tructure logique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ublications en sér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ondi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99"/>
                </a:solidFill>
                <a:latin typeface="Verdana"/>
              </a:rPr>
              <a:t>Raison d’être de la RDA</a:t>
            </a:r>
            <a:endParaRPr b="0" i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Les RCA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hapitres – classe de document/type de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tributs des SFNB entités et re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5" descr="RDAlogo_rgb"/>
          <p:cNvPicPr/>
          <p:nvPr/>
        </p:nvPicPr>
        <p:blipFill>
          <a:blip r:embed="rId1"/>
          <a:stretch/>
        </p:blipFill>
        <p:spPr>
          <a:xfrm>
            <a:off x="304920" y="152280"/>
            <a:ext cx="1828800" cy="506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0"/>
          <p:cNvSpPr/>
          <p:nvPr/>
        </p:nvSpPr>
        <p:spPr>
          <a:xfrm flipH="1">
            <a:off x="1523880" y="52578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09480" y="48769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143000" y="545004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57200" y="4038480"/>
            <a:ext cx="3505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pitre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sources électro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27"/>
          <p:cNvSpPr/>
          <p:nvPr/>
        </p:nvSpPr>
        <p:spPr>
          <a:xfrm>
            <a:off x="4267080" y="3733920"/>
            <a:ext cx="4724640" cy="2209680"/>
          </a:xfrm>
          <a:prstGeom prst="irregularSeal2">
            <a:avLst/>
          </a:prstGeom>
          <a:solidFill>
            <a:srgbClr val="ffff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cuments numér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IFLA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CA" sz="4400" spc="-1" strike="noStrike">
                <a:solidFill>
                  <a:srgbClr val="000099"/>
                </a:solidFill>
                <a:latin typeface="Verdana"/>
              </a:rPr>
              <a:t>SFNB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147760"/>
            <a:ext cx="5143680" cy="41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oins des usagers 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ouver, relever, sélectionner et se procu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7" descr="frbr low"/>
          <p:cNvPicPr/>
          <p:nvPr/>
        </p:nvPicPr>
        <p:blipFill>
          <a:blip r:embed="rId1"/>
          <a:stretch/>
        </p:blipFill>
        <p:spPr>
          <a:xfrm>
            <a:off x="6181560" y="533520"/>
            <a:ext cx="242892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11"/>
          <p:cNvSpPr/>
          <p:nvPr/>
        </p:nvSpPr>
        <p:spPr>
          <a:xfrm>
            <a:off x="1828800" y="14479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16"/>
          <p:cNvSpPr/>
          <p:nvPr/>
        </p:nvSpPr>
        <p:spPr>
          <a:xfrm flipV="1" rot="5400000">
            <a:off x="4305240" y="2552400"/>
            <a:ext cx="2286000" cy="1143000"/>
          </a:xfrm>
          <a:prstGeom prst="rightArrow">
            <a:avLst>
              <a:gd name="adj1" fmla="val 23343"/>
              <a:gd name="adj2" fmla="val 50009"/>
            </a:avLst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RDAlogo_rgb"/>
          <p:cNvPicPr/>
          <p:nvPr/>
        </p:nvPicPr>
        <p:blipFill>
          <a:blip r:embed="rId4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IME ICC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IFLA met à jour et réitère les principes de P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 Déclaration de principes internationale sur le catalogage »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IFLA logo"/>
          <p:cNvPicPr/>
          <p:nvPr/>
        </p:nvPicPr>
        <p:blipFill>
          <a:blip r:embed="rId1"/>
          <a:stretch/>
        </p:blipFill>
        <p:spPr>
          <a:xfrm>
            <a:off x="5410080" y="914400"/>
            <a:ext cx="900360" cy="1028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RDAlogo_rgb"/>
          <p:cNvPicPr/>
          <p:nvPr/>
        </p:nvPicPr>
        <p:blipFill>
          <a:blip r:embed="rId2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457200"/>
            <a:ext cx="5562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Raison d’être d’une nouvelle norm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2320" y="1523520"/>
            <a:ext cx="849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harmoniser aux modèles conceptuels (SFNB, FRAD) en vue d’élaborer des métadonnées approprié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ourager l’application des SFNB/FRA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’appuyer sur des princi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381880" y="228600"/>
            <a:ext cx="53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frbr low"/>
          <p:cNvPicPr/>
          <p:nvPr/>
        </p:nvPicPr>
        <p:blipFill>
          <a:blip r:embed="rId1"/>
          <a:stretch/>
        </p:blipFill>
        <p:spPr>
          <a:xfrm>
            <a:off x="7162920" y="480060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FLA logo"/>
          <p:cNvPicPr/>
          <p:nvPr/>
        </p:nvPicPr>
        <p:blipFill>
          <a:blip r:embed="rId2"/>
          <a:stretch/>
        </p:blipFill>
        <p:spPr>
          <a:xfrm>
            <a:off x="4952880" y="4648320"/>
            <a:ext cx="152568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RDAlogo_rgb"/>
          <p:cNvPicPr/>
          <p:nvPr/>
        </p:nvPicPr>
        <p:blipFill>
          <a:blip r:embed="rId5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66"/>
                </a:solidFill>
                <a:latin typeface="Verdana"/>
              </a:rPr>
              <a:t>Principes de la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fféren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aractère suffis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419360" y="20570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ré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sage comm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Uniformit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295280" y="499284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l est nécessaire de maintenir un équilibre entre les princip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6203880"/>
            <a:ext cx="4679640" cy="3207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24720" y="6237360"/>
            <a:ext cx="1274760" cy="30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RDAlogo_rgb"/>
          <p:cNvPicPr/>
          <p:nvPr/>
        </p:nvPicPr>
        <p:blipFill>
          <a:blip r:embed="rId3"/>
          <a:stretch/>
        </p:blipFill>
        <p:spPr>
          <a:xfrm>
            <a:off x="380880" y="152280"/>
            <a:ext cx="1828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6:44:21Z</dcterms:created>
  <dc:creator>Marjorie E. Bloss</dc:creator>
  <dc:description/>
  <dc:language>en-US</dc:language>
  <cp:lastModifiedBy>stewam</cp:lastModifiedBy>
  <cp:lastPrinted>2007-04-08T20:28:39Z</cp:lastPrinted>
  <dcterms:modified xsi:type="dcterms:W3CDTF">2009-05-28T16:06:46Z</dcterms:modified>
  <cp:revision>938</cp:revision>
  <dc:subject>RDA</dc:subject>
  <dc:title>CARLI Presentation March 20, 2007</dc:title>
</cp:coreProperties>
</file>