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100584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47520" y="698400"/>
            <a:ext cx="51130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A av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E0E428-2B5C-4F70-81AD-26C277398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2B65F0-0DEC-4FAF-AD10-2819D4750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211E14-0AB0-4F2D-99A2-531E2E292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C2B1BB-3968-4994-A6F6-BE325D852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6A51DB-D773-46A4-9D73-E2AFBF825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FC97BA-A0F2-40AE-873A-4AD948C51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33576D-CB10-44D8-A69A-E488BF2C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B97E54-27B2-4088-9DDD-18A17CDA6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CC5FC9-59C0-4D12-9988-1B6FEEB01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eering Committe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merican Library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ustral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British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Canad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ILIP : Chartered Institute of Library and Information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omité canadien de catalogag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sociation pour l'avancement des sciences et des techniques de la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anadian Library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ibliothèque et Archives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8 autres organismes qui fournissent leur expertise dans leurs secteurs d'activités particuliers (bibliothèques de recherche, bibliothèques musicales, cartothèques et archives cartographiques, bibliothèques de droit, archives, bibliothèques spécialisées, sciences de l’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FD940E-D7B1-40A4-8E1B-D7F23B02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60DCAB-F0ED-4B49-9CB6-9CCBB2E3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B307C5-8E6F-4E5E-8905-31F60EDD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34A789-3B25-420F-B69C-6E7A7147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D90A8A-7ED0-4819-B576-426E5036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41EE26-CAEF-48DF-B7B7-EC98597B2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B5050E-6490-4AD7-A769-5E2E896B6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D45586-E369-4587-99AD-B6FE8120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4BE26E-3BB0-46B4-89D6-8F460A14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309FAB-7CBB-4F9B-8617-79BF26E1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= édition avec estampes originales de Antoine Du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D50A97-9D62-4D8D-8DB1-F968BAECC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C351E3-B76A-4CF1-9D66-AFA34C924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outes les entités ne sont pas représentées dans ce tabl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DBBBB8-F924-4986-BB06-B63C3924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BCFF44-A0F9-42B7-B2F0-2BDC0B36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68B4FB-168F-463F-9382-90EBBC78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C8BA5B-5952-4C1F-9EF3-E25638D0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Trouver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s entités qui correspondent aux critères de recherche ou explorer les entités bibliograph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une entité pour confirmer qu’elle correspond à cette recherche ou valider la forme de la vedette retenue comme point d’accès contrôl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Contextualis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mettre une entité dans son contexte, expliciter les liens entre entités et entre les entités et leurs n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Jus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documenter les raisons pour le choix de la forme de la vede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524B37-4E20-4AD1-AB0C-B5D121877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080C30-D113-4A3F-8EC9-E3CA1FF0D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76CF5E-C063-4249-A594-D45B4E306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5227A8-CA84-4B3D-919D-5DC9B3C51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14549C-84DD-4846-AD12-7986620DF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685417-35D3-42EA-9F23-687456698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24A706-4555-43C3-A69B-5B3263F42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0B47F7-5F35-4369-BF20-9101B23B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28BD8C-4CB7-4BAD-B617-4660418A3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7BC117-2B1E-4791-AF5F-D28606C8B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2B885B-CECF-4AEC-8BFD-5F05C208F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49340B-C847-4283-AAC0-A63B624B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9CF709-E6CA-4F23-8E67-9491687C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4388F2-82F3-4F18-8C7D-28DC70788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ssources électroniques : permettent la capture des données à partir des ressources elles-mê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-utilisation des métadonnées bibliographiques : dont celles des édi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es types de formats de communication des métadonnées bibliograph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7CDF74-FA72-4D86-B9E1-CF7A74958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xemples du nouveau vocabulaire (en anglais) :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title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name of the work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0B0300-FB87-4AA8-91D0-B808B2FEA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s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DFE230-E578-48FC-93D2-C4EE70D35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164187-5080-4B6E-836A-9E67D42C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7A887B-87A3-41AC-B45E-C8B1EDDCA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6E463D-CD3B-438B-8788-111F107A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78D92C-CA75-44FC-9A54-572EB149E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nçu pour les ressources tangibles autant qu’électro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identificateurs persistents (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persistent identifie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) et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support est au niveau de la manif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ermet la capture automatique et la ré-utilisation des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l’importance de la transcription des données pour l’identification des ressources v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vres anciens – très import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ssources numériques – peut-être pas aussi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FA6ED0-714B-4E82-81D0-29A18BD57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0CFAC4-C72C-4912-840D-690EDCC8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AB5B0E-FB71-4F6F-A3A4-1B0CA98E5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E944A0-8925-4963-8D46-40744F8E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66DB56-E12B-4712-AA1C-7A0C04B3E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GB : Système intégré de gestion de bibliothè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BF2371-DD91-4D33-BDA7-C88AD7117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F62975-5B0A-4CFE-B882-612E4D5F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0322D4-C7A3-41B8-B8F5-7192DEA7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98D07C-E8EB-42D2-946A-62048BC00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571320" y="4416120"/>
            <a:ext cx="5981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10432C-760E-4C7B-B7C4-543FCD31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E99E69-985F-48DB-BF98-604FD0034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ME ICC : IFLA Meetings of Experts on a International Catalogu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D5CC9C-E7C1-422E-8EEF-7DF012734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FDC-AB17-4E48-B40B-7D23DAC5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66F-733C-4A8C-BD20-61F50A37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1A5-894E-45A8-8670-B686DEF2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01A-2420-40DF-B2DD-99C04EC9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F77-DA53-4366-A15F-A2989A0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AA0-6CFC-4A21-A6F5-A34CDA35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945-7804-4354-8C32-DF69CCF3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6E4-6BBC-4DE1-BE68-99DCE92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4AB-DE35-4390-9207-EFEF55C8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326-0DEF-456E-94ED-CA6E918C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6E5-2C80-4BE5-A870-172582A7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D17-FC48-403D-A759-40BC5BD9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194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195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197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198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255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298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320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5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-19080"/>
            <a:ext cx="10058040" cy="6876720"/>
            <a:chOff x="0" y="-19080"/>
            <a:chExt cx="10058040" cy="6876720"/>
          </a:xfrm>
        </p:grpSpPr>
        <p:sp>
          <p:nvSpPr>
            <p:cNvPr id="385" name="Rectangle 3"/>
            <p:cNvSpPr/>
            <p:nvPr/>
          </p:nvSpPr>
          <p:spPr>
            <a:xfrm>
              <a:off x="3387960" y="1770120"/>
              <a:ext cx="667008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4"/>
            <p:cNvGrpSpPr/>
            <p:nvPr/>
          </p:nvGrpSpPr>
          <p:grpSpPr>
            <a:xfrm>
              <a:off x="0" y="-19080"/>
              <a:ext cx="10058040" cy="1827360"/>
              <a:chOff x="0" y="-19080"/>
              <a:chExt cx="10058040" cy="1827360"/>
            </a:xfrm>
          </p:grpSpPr>
          <p:sp>
            <p:nvSpPr>
              <p:cNvPr id="387" name="Freeform 5"/>
              <p:cNvSpPr/>
              <p:nvPr/>
            </p:nvSpPr>
            <p:spPr>
              <a:xfrm>
                <a:off x="1806480" y="223560"/>
                <a:ext cx="825156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6"/>
              <p:cNvGrpSpPr/>
              <p:nvPr/>
            </p:nvGrpSpPr>
            <p:grpSpPr>
              <a:xfrm>
                <a:off x="2283480" y="203400"/>
                <a:ext cx="7414560" cy="1603080"/>
                <a:chOff x="2283480" y="203400"/>
                <a:chExt cx="7414560" cy="1603080"/>
              </a:xfrm>
            </p:grpSpPr>
            <p:sp>
              <p:nvSpPr>
                <p:cNvPr id="389" name="Freeform 7"/>
                <p:cNvSpPr/>
                <p:nvPr/>
              </p:nvSpPr>
              <p:spPr>
                <a:xfrm>
                  <a:off x="6433560" y="1674720"/>
                  <a:ext cx="2412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"/>
                <p:cNvSpPr/>
                <p:nvPr/>
              </p:nvSpPr>
              <p:spPr>
                <a:xfrm>
                  <a:off x="6685920" y="1775880"/>
                  <a:ext cx="2988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9"/>
                <p:cNvSpPr/>
                <p:nvPr/>
              </p:nvSpPr>
              <p:spPr>
                <a:xfrm>
                  <a:off x="5973840" y="1611720"/>
                  <a:ext cx="4428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0"/>
                <p:cNvSpPr/>
                <p:nvPr/>
              </p:nvSpPr>
              <p:spPr>
                <a:xfrm>
                  <a:off x="5460840" y="1660680"/>
                  <a:ext cx="3564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1"/>
                <p:cNvSpPr/>
                <p:nvPr/>
              </p:nvSpPr>
              <p:spPr>
                <a:xfrm>
                  <a:off x="5306040" y="1682280"/>
                  <a:ext cx="9288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2"/>
                <p:cNvSpPr/>
                <p:nvPr/>
              </p:nvSpPr>
              <p:spPr>
                <a:xfrm>
                  <a:off x="5208840" y="1679040"/>
                  <a:ext cx="972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3"/>
                <p:cNvSpPr/>
                <p:nvPr/>
              </p:nvSpPr>
              <p:spPr>
                <a:xfrm>
                  <a:off x="4681440" y="1352160"/>
                  <a:ext cx="50688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4"/>
                <p:cNvSpPr/>
                <p:nvPr/>
              </p:nvSpPr>
              <p:spPr>
                <a:xfrm>
                  <a:off x="4989240" y="1329120"/>
                  <a:ext cx="22500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5"/>
                <p:cNvSpPr/>
                <p:nvPr/>
              </p:nvSpPr>
              <p:spPr>
                <a:xfrm>
                  <a:off x="5208840" y="1445760"/>
                  <a:ext cx="1573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6"/>
                <p:cNvSpPr/>
                <p:nvPr/>
              </p:nvSpPr>
              <p:spPr>
                <a:xfrm>
                  <a:off x="5201640" y="1505880"/>
                  <a:ext cx="10728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"/>
                <p:cNvSpPr/>
                <p:nvPr/>
              </p:nvSpPr>
              <p:spPr>
                <a:xfrm>
                  <a:off x="5383440" y="1434960"/>
                  <a:ext cx="5292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8"/>
                <p:cNvSpPr/>
                <p:nvPr/>
              </p:nvSpPr>
              <p:spPr>
                <a:xfrm>
                  <a:off x="5396400" y="1551600"/>
                  <a:ext cx="669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9"/>
                <p:cNvSpPr/>
                <p:nvPr/>
              </p:nvSpPr>
              <p:spPr>
                <a:xfrm>
                  <a:off x="5466600" y="1495080"/>
                  <a:ext cx="8712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0"/>
                <p:cNvSpPr/>
                <p:nvPr/>
              </p:nvSpPr>
              <p:spPr>
                <a:xfrm>
                  <a:off x="5491080" y="1525680"/>
                  <a:ext cx="40932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1"/>
                <p:cNvSpPr/>
                <p:nvPr/>
              </p:nvSpPr>
              <p:spPr>
                <a:xfrm>
                  <a:off x="5846040" y="1547280"/>
                  <a:ext cx="11160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2"/>
                <p:cNvSpPr/>
                <p:nvPr/>
              </p:nvSpPr>
              <p:spPr>
                <a:xfrm>
                  <a:off x="6081120" y="1341360"/>
                  <a:ext cx="2664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23"/>
                <p:cNvSpPr/>
                <p:nvPr/>
              </p:nvSpPr>
              <p:spPr>
                <a:xfrm>
                  <a:off x="6222960" y="1491840"/>
                  <a:ext cx="3708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4"/>
                <p:cNvSpPr/>
                <p:nvPr/>
              </p:nvSpPr>
              <p:spPr>
                <a:xfrm>
                  <a:off x="5768640" y="11541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5"/>
                <p:cNvSpPr/>
                <p:nvPr/>
              </p:nvSpPr>
              <p:spPr>
                <a:xfrm>
                  <a:off x="5531040" y="13107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"/>
                <p:cNvSpPr/>
                <p:nvPr/>
              </p:nvSpPr>
              <p:spPr>
                <a:xfrm>
                  <a:off x="5268600" y="1261800"/>
                  <a:ext cx="1144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7"/>
                <p:cNvSpPr/>
                <p:nvPr/>
              </p:nvSpPr>
              <p:spPr>
                <a:xfrm>
                  <a:off x="5231880" y="1047960"/>
                  <a:ext cx="13428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8"/>
                <p:cNvSpPr/>
                <p:nvPr/>
              </p:nvSpPr>
              <p:spPr>
                <a:xfrm>
                  <a:off x="5265720" y="1206360"/>
                  <a:ext cx="460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9"/>
                <p:cNvSpPr/>
                <p:nvPr/>
              </p:nvSpPr>
              <p:spPr>
                <a:xfrm>
                  <a:off x="5171400" y="1221480"/>
                  <a:ext cx="6444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0"/>
                <p:cNvSpPr/>
                <p:nvPr/>
              </p:nvSpPr>
              <p:spPr>
                <a:xfrm>
                  <a:off x="8694000" y="1134000"/>
                  <a:ext cx="100404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1"/>
                <p:cNvSpPr/>
                <p:nvPr/>
              </p:nvSpPr>
              <p:spPr>
                <a:xfrm>
                  <a:off x="7364880" y="206280"/>
                  <a:ext cx="140940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2"/>
                <p:cNvSpPr/>
                <p:nvPr/>
              </p:nvSpPr>
              <p:spPr>
                <a:xfrm>
                  <a:off x="6930720" y="969840"/>
                  <a:ext cx="5112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3"/>
                <p:cNvSpPr/>
                <p:nvPr/>
              </p:nvSpPr>
              <p:spPr>
                <a:xfrm>
                  <a:off x="6890400" y="946800"/>
                  <a:ext cx="5436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4"/>
                <p:cNvSpPr/>
                <p:nvPr/>
              </p:nvSpPr>
              <p:spPr>
                <a:xfrm>
                  <a:off x="8519400" y="822240"/>
                  <a:ext cx="24480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5"/>
                <p:cNvSpPr/>
                <p:nvPr/>
              </p:nvSpPr>
              <p:spPr>
                <a:xfrm>
                  <a:off x="8778600" y="923400"/>
                  <a:ext cx="197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6"/>
                <p:cNvSpPr/>
                <p:nvPr/>
              </p:nvSpPr>
              <p:spPr>
                <a:xfrm>
                  <a:off x="8673840" y="954360"/>
                  <a:ext cx="799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7"/>
                <p:cNvSpPr/>
                <p:nvPr/>
              </p:nvSpPr>
              <p:spPr>
                <a:xfrm>
                  <a:off x="8620920" y="793080"/>
                  <a:ext cx="5292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"/>
                <p:cNvSpPr/>
                <p:nvPr/>
              </p:nvSpPr>
              <p:spPr>
                <a:xfrm>
                  <a:off x="9046440" y="995760"/>
                  <a:ext cx="640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"/>
                <p:cNvSpPr/>
                <p:nvPr/>
              </p:nvSpPr>
              <p:spPr>
                <a:xfrm>
                  <a:off x="7908840" y="226080"/>
                  <a:ext cx="68760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0"/>
                <p:cNvSpPr/>
                <p:nvPr/>
              </p:nvSpPr>
              <p:spPr>
                <a:xfrm>
                  <a:off x="7300080" y="221760"/>
                  <a:ext cx="63900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1"/>
                <p:cNvSpPr/>
                <p:nvPr/>
              </p:nvSpPr>
              <p:spPr>
                <a:xfrm>
                  <a:off x="5893560" y="330840"/>
                  <a:ext cx="597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2"/>
                <p:cNvSpPr/>
                <p:nvPr/>
              </p:nvSpPr>
              <p:spPr>
                <a:xfrm>
                  <a:off x="4247280" y="221760"/>
                  <a:ext cx="14641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3"/>
                <p:cNvSpPr/>
                <p:nvPr/>
              </p:nvSpPr>
              <p:spPr>
                <a:xfrm>
                  <a:off x="5715720" y="203400"/>
                  <a:ext cx="6696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4"/>
                <p:cNvSpPr/>
                <p:nvPr/>
              </p:nvSpPr>
              <p:spPr>
                <a:xfrm>
                  <a:off x="5675760" y="375120"/>
                  <a:ext cx="197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5"/>
                <p:cNvSpPr/>
                <p:nvPr/>
              </p:nvSpPr>
              <p:spPr>
                <a:xfrm>
                  <a:off x="5463720" y="496800"/>
                  <a:ext cx="26784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6"/>
                <p:cNvSpPr/>
                <p:nvPr/>
              </p:nvSpPr>
              <p:spPr>
                <a:xfrm>
                  <a:off x="5641560" y="574920"/>
                  <a:ext cx="198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7"/>
                <p:cNvSpPr/>
                <p:nvPr/>
              </p:nvSpPr>
              <p:spPr>
                <a:xfrm>
                  <a:off x="4137120" y="759240"/>
                  <a:ext cx="116460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"/>
                <p:cNvSpPr/>
                <p:nvPr/>
              </p:nvSpPr>
              <p:spPr>
                <a:xfrm>
                  <a:off x="4341960" y="1247760"/>
                  <a:ext cx="6444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9"/>
                <p:cNvSpPr/>
                <p:nvPr/>
              </p:nvSpPr>
              <p:spPr>
                <a:xfrm>
                  <a:off x="5235840" y="879120"/>
                  <a:ext cx="597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0"/>
                <p:cNvSpPr/>
                <p:nvPr/>
              </p:nvSpPr>
              <p:spPr>
                <a:xfrm>
                  <a:off x="5406480" y="834480"/>
                  <a:ext cx="2988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1"/>
                <p:cNvSpPr/>
                <p:nvPr/>
              </p:nvSpPr>
              <p:spPr>
                <a:xfrm>
                  <a:off x="2283480" y="476640"/>
                  <a:ext cx="145404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2"/>
                <p:cNvSpPr/>
                <p:nvPr/>
              </p:nvSpPr>
              <p:spPr>
                <a:xfrm>
                  <a:off x="2847960" y="977400"/>
                  <a:ext cx="54684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53"/>
                <p:cNvSpPr/>
                <p:nvPr/>
              </p:nvSpPr>
              <p:spPr>
                <a:xfrm>
                  <a:off x="3812040" y="1593360"/>
                  <a:ext cx="2268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54"/>
                <p:cNvSpPr/>
                <p:nvPr/>
              </p:nvSpPr>
              <p:spPr>
                <a:xfrm>
                  <a:off x="3781800" y="1164960"/>
                  <a:ext cx="2988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5"/>
                <p:cNvSpPr/>
                <p:nvPr/>
              </p:nvSpPr>
              <p:spPr>
                <a:xfrm>
                  <a:off x="2455560" y="639720"/>
                  <a:ext cx="828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6"/>
                <p:cNvSpPr/>
                <p:nvPr/>
              </p:nvSpPr>
              <p:spPr>
                <a:xfrm>
                  <a:off x="3469680" y="293760"/>
                  <a:ext cx="98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7"/>
                <p:cNvSpPr/>
                <p:nvPr/>
              </p:nvSpPr>
              <p:spPr>
                <a:xfrm>
                  <a:off x="2793240" y="226080"/>
                  <a:ext cx="198540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58"/>
                <p:cNvSpPr/>
                <p:nvPr/>
              </p:nvSpPr>
              <p:spPr>
                <a:xfrm>
                  <a:off x="3197520" y="356760"/>
                  <a:ext cx="4284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59"/>
                <p:cNvSpPr/>
                <p:nvPr/>
              </p:nvSpPr>
              <p:spPr>
                <a:xfrm>
                  <a:off x="3145680" y="408960"/>
                  <a:ext cx="6444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0"/>
                <p:cNvSpPr/>
                <p:nvPr/>
              </p:nvSpPr>
              <p:spPr>
                <a:xfrm>
                  <a:off x="3354840" y="564480"/>
                  <a:ext cx="1072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1"/>
                <p:cNvSpPr/>
                <p:nvPr/>
              </p:nvSpPr>
              <p:spPr>
                <a:xfrm>
                  <a:off x="3539880" y="559440"/>
                  <a:ext cx="597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2"/>
                <p:cNvSpPr/>
                <p:nvPr/>
              </p:nvSpPr>
              <p:spPr>
                <a:xfrm>
                  <a:off x="3045600" y="406080"/>
                  <a:ext cx="471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63"/>
              <p:cNvGrpSpPr/>
              <p:nvPr/>
            </p:nvGrpSpPr>
            <p:grpSpPr>
              <a:xfrm>
                <a:off x="1816560" y="-19080"/>
                <a:ext cx="8220600" cy="641880"/>
                <a:chOff x="1816560" y="-19080"/>
                <a:chExt cx="8220600" cy="641880"/>
              </a:xfrm>
            </p:grpSpPr>
            <p:sp>
              <p:nvSpPr>
                <p:cNvPr id="446" name="Line 64"/>
                <p:cNvSpPr/>
                <p:nvPr/>
              </p:nvSpPr>
              <p:spPr>
                <a:xfrm>
                  <a:off x="1816560" y="320040"/>
                  <a:ext cx="8220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65"/>
                <p:cNvSpPr/>
                <p:nvPr/>
              </p:nvSpPr>
              <p:spPr>
                <a:xfrm>
                  <a:off x="24811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66"/>
                <p:cNvSpPr/>
                <p:nvPr/>
              </p:nvSpPr>
              <p:spPr>
                <a:xfrm>
                  <a:off x="3246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67"/>
                <p:cNvSpPr/>
                <p:nvPr/>
              </p:nvSpPr>
              <p:spPr>
                <a:xfrm>
                  <a:off x="40125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68"/>
                <p:cNvSpPr/>
                <p:nvPr/>
              </p:nvSpPr>
              <p:spPr>
                <a:xfrm>
                  <a:off x="47779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9"/>
                <p:cNvSpPr/>
                <p:nvPr/>
              </p:nvSpPr>
              <p:spPr>
                <a:xfrm>
                  <a:off x="5543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70"/>
                <p:cNvSpPr/>
                <p:nvPr/>
              </p:nvSpPr>
              <p:spPr>
                <a:xfrm>
                  <a:off x="63093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71"/>
                <p:cNvSpPr/>
                <p:nvPr/>
              </p:nvSpPr>
              <p:spPr>
                <a:xfrm>
                  <a:off x="70747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72"/>
                <p:cNvSpPr/>
                <p:nvPr/>
              </p:nvSpPr>
              <p:spPr>
                <a:xfrm>
                  <a:off x="78411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3"/>
                <p:cNvSpPr/>
                <p:nvPr/>
              </p:nvSpPr>
              <p:spPr>
                <a:xfrm>
                  <a:off x="86065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74"/>
                <p:cNvSpPr/>
                <p:nvPr/>
              </p:nvSpPr>
              <p:spPr>
                <a:xfrm>
                  <a:off x="93726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5"/>
              <p:cNvGrpSpPr/>
              <p:nvPr/>
            </p:nvGrpSpPr>
            <p:grpSpPr>
              <a:xfrm>
                <a:off x="0" y="217440"/>
                <a:ext cx="3005640" cy="1582200"/>
                <a:chOff x="0" y="217440"/>
                <a:chExt cx="3005640" cy="1582200"/>
              </a:xfrm>
            </p:grpSpPr>
            <p:sp>
              <p:nvSpPr>
                <p:cNvPr id="458" name="Line 76"/>
                <p:cNvSpPr/>
                <p:nvPr/>
              </p:nvSpPr>
              <p:spPr>
                <a:xfrm>
                  <a:off x="235224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77"/>
                <p:cNvSpPr/>
                <p:nvPr/>
              </p:nvSpPr>
              <p:spPr>
                <a:xfrm>
                  <a:off x="2526840" y="1051560"/>
                  <a:ext cx="99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78"/>
                <p:cNvSpPr/>
                <p:nvPr/>
              </p:nvSpPr>
              <p:spPr>
                <a:xfrm>
                  <a:off x="267876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9"/>
                <p:cNvSpPr/>
                <p:nvPr/>
              </p:nvSpPr>
              <p:spPr>
                <a:xfrm>
                  <a:off x="300564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0"/>
                <p:cNvSpPr/>
                <p:nvPr/>
              </p:nvSpPr>
              <p:spPr>
                <a:xfrm>
                  <a:off x="137196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81"/>
                <p:cNvSpPr/>
                <p:nvPr/>
              </p:nvSpPr>
              <p:spPr>
                <a:xfrm>
                  <a:off x="104544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82"/>
                <p:cNvSpPr/>
                <p:nvPr/>
              </p:nvSpPr>
              <p:spPr>
                <a:xfrm flipH="1">
                  <a:off x="1008360" y="1051560"/>
                  <a:ext cx="972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3"/>
                <p:cNvSpPr/>
                <p:nvPr/>
              </p:nvSpPr>
              <p:spPr>
                <a:xfrm>
                  <a:off x="816120" y="1051560"/>
                  <a:ext cx="86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4"/>
                <p:cNvSpPr/>
                <p:nvPr/>
              </p:nvSpPr>
              <p:spPr>
                <a:xfrm flipH="1">
                  <a:off x="529560" y="1051560"/>
                  <a:ext cx="117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5"/>
                <p:cNvSpPr/>
                <p:nvPr/>
              </p:nvSpPr>
              <p:spPr>
                <a:xfrm>
                  <a:off x="0" y="1051560"/>
                  <a:ext cx="498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86"/>
                <p:cNvSpPr/>
                <p:nvPr/>
              </p:nvSpPr>
              <p:spPr>
                <a:xfrm>
                  <a:off x="38916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87"/>
                <p:cNvSpPr/>
                <p:nvPr/>
              </p:nvSpPr>
              <p:spPr>
                <a:xfrm>
                  <a:off x="6588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8"/>
                <p:cNvSpPr/>
                <p:nvPr/>
              </p:nvSpPr>
              <p:spPr>
                <a:xfrm flipV="1">
                  <a:off x="39240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9"/>
                <p:cNvSpPr/>
                <p:nvPr/>
              </p:nvSpPr>
              <p:spPr>
                <a:xfrm>
                  <a:off x="71892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0"/>
                <p:cNvSpPr/>
                <p:nvPr/>
              </p:nvSpPr>
              <p:spPr>
                <a:xfrm flipV="1">
                  <a:off x="71892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287800" y="2627640"/>
              <a:ext cx="98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98" descr="rda_lgo_rgb"/>
          <p:cNvPicPr/>
          <p:nvPr/>
        </p:nvPicPr>
        <p:blipFill>
          <a:blip r:embed="rId3"/>
          <a:stretch/>
        </p:blipFill>
        <p:spPr>
          <a:xfrm>
            <a:off x="3687840" y="762120"/>
            <a:ext cx="2682720" cy="1190520"/>
          </a:xfrm>
          <a:prstGeom prst="rect">
            <a:avLst/>
          </a:prstGeom>
          <a:ln w="0">
            <a:noFill/>
          </a:ln>
        </p:spPr>
      </p:pic>
      <p:sp>
        <p:nvSpPr>
          <p:cNvPr id="475" name="Oval 99"/>
          <p:cNvSpPr/>
          <p:nvPr/>
        </p:nvSpPr>
        <p:spPr>
          <a:xfrm>
            <a:off x="587520" y="2438280"/>
            <a:ext cx="11728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714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"/>
          </p:nvPr>
        </p:nvSpPr>
        <p:spPr>
          <a:xfrm>
            <a:off x="58752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"/>
          </p:nvPr>
        </p:nvSpPr>
        <p:spPr>
          <a:xfrm>
            <a:off x="352116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A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6569-CB0C-4FD5-974D-BA81F7E51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ollectionscanada.ca/jsc/rda.html" TargetMode="External"/><Relationship Id="rId2" Type="http://schemas.openxmlformats.org/officeDocument/2006/relationships/hyperlink" Target="http://www.collectionscanada.ca/jsc/rd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010960" y="4572000"/>
            <a:ext cx="7628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hristine Oliver et Daniel Parad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Avril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DA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essources : Description et Accès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06560" y="106668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2179800" y="2133720"/>
            <a:ext cx="1336680" cy="1676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46700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5791320" y="1447560"/>
            <a:ext cx="351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visions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6" descr="aacr"/>
          <p:cNvPicPr/>
          <p:nvPr/>
        </p:nvPicPr>
        <p:blipFill>
          <a:blip r:embed="rId4"/>
          <a:stretch/>
        </p:blipFill>
        <p:spPr>
          <a:xfrm>
            <a:off x="4610160" y="4114800"/>
            <a:ext cx="1927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Les révisions sont insuffisant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u vs support toujours non réso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é d’adapter les règles aux nouveaux supports et types de 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érence logique dé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évisions apportent solutions partielles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ex. révision de la règle 0.2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3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2004, planification d’une nouvelle éd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AACR3 : resource description an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r la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outer cadre théo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ir le contenu des règ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4495680" y="1295280"/>
            <a:ext cx="1276560" cy="486000"/>
          </a:xfrm>
          <a:prstGeom prst="rightArrow">
            <a:avLst>
              <a:gd name="adj1" fmla="val 50000"/>
              <a:gd name="adj2" fmla="val 65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3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: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décision d’aller plus loi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t qu’à changer, autant le fai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plètement!</a:t>
            </a:r>
            <a:r>
              <a:rPr b="0" lang="en-US" sz="31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a new standard for resource description and access, designed for the digital wor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320040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47712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rda_lgo_rgb"/>
          <p:cNvPicPr/>
          <p:nvPr/>
        </p:nvPicPr>
        <p:blipFill>
          <a:blip r:embed="rId1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rda_lgo_rgb"/>
          <p:cNvPicPr/>
          <p:nvPr/>
        </p:nvPicPr>
        <p:blipFill>
          <a:blip r:embed="rId2"/>
          <a:stretch/>
        </p:blipFill>
        <p:spPr>
          <a:xfrm>
            <a:off x="3276720" y="3581280"/>
            <a:ext cx="35733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remplace RCAA2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2005 : dernières modifications d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utilisé partout à travers le mo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traduit en 24 lan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DA conserve les meilleurs aspects des RCAA2 mais va au-del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continue de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refléter l’usa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permettre l’échange de notic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être étroitement relié aux usages et conventions concernant la citation des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œuvres et l’identification des auteu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border les problèmes de description et d’accès rencontrés dans des situations concrèt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i développe et financ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563" name="Organization Chart 3"/>
          <p:cNvGrpSpPr/>
          <p:nvPr/>
        </p:nvGrpSpPr>
        <p:grpSpPr>
          <a:xfrm>
            <a:off x="749160" y="2147760"/>
            <a:ext cx="8550360" cy="3184920"/>
            <a:chOff x="749160" y="2147760"/>
            <a:chExt cx="8550360" cy="3184920"/>
          </a:xfrm>
        </p:grpSpPr>
        <p:cxnSp>
          <p:nvCxnSpPr>
            <p:cNvPr id="564" name="_s1028"/>
            <p:cNvCxnSpPr>
              <a:stCxn id="565" idx="0"/>
              <a:endCxn id="566" idx="2"/>
            </p:cNvCxnSpPr>
            <p:nvPr/>
          </p:nvCxnSpPr>
          <p:spPr>
            <a:xfrm flipV="1" rot="16200000">
              <a:off x="6670440" y="2490120"/>
              <a:ext cx="415080" cy="3591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7" name="_s1029"/>
            <p:cNvCxnSpPr>
              <a:stCxn id="568" idx="0"/>
              <a:endCxn id="566" idx="2"/>
            </p:cNvCxnSpPr>
            <p:nvPr/>
          </p:nvCxnSpPr>
          <p:spPr>
            <a:xfrm flipV="1" rot="16200000">
              <a:off x="5941440" y="3219840"/>
              <a:ext cx="415080" cy="213228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30"/>
            <p:cNvCxnSpPr>
              <a:stCxn id="570" idx="0"/>
              <a:endCxn id="566" idx="2"/>
            </p:cNvCxnSpPr>
            <p:nvPr/>
          </p:nvCxnSpPr>
          <p:spPr>
            <a:xfrm flipV="1" rot="16200000">
              <a:off x="5210280" y="3950280"/>
              <a:ext cx="415080" cy="671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1"/>
            <p:cNvCxnSpPr>
              <a:stCxn id="572" idx="0"/>
              <a:endCxn id="566" idx="2"/>
            </p:cNvCxnSpPr>
            <p:nvPr/>
          </p:nvCxnSpPr>
          <p:spPr>
            <a:xfrm flipH="1" flipV="1" rot="5400000">
              <a:off x="4481280" y="3891960"/>
              <a:ext cx="415080" cy="788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2"/>
            <p:cNvCxnSpPr>
              <a:stCxn id="574" idx="0"/>
              <a:endCxn id="566" idx="2"/>
            </p:cNvCxnSpPr>
            <p:nvPr/>
          </p:nvCxnSpPr>
          <p:spPr>
            <a:xfrm flipH="1" flipV="1" rot="5400000">
              <a:off x="3752280" y="3162600"/>
              <a:ext cx="415080" cy="22471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3"/>
            <p:cNvCxnSpPr>
              <a:stCxn id="576" idx="0"/>
              <a:endCxn id="566" idx="2"/>
            </p:cNvCxnSpPr>
            <p:nvPr/>
          </p:nvCxnSpPr>
          <p:spPr>
            <a:xfrm flipH="1" flipV="1" rot="5400000">
              <a:off x="3021480" y="2431800"/>
              <a:ext cx="415080" cy="3708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4"/>
            <p:cNvCxnSpPr>
              <a:stCxn id="566" idx="0"/>
              <a:endCxn id="578" idx="2"/>
            </p:cNvCxnSpPr>
            <p:nvPr/>
          </p:nvCxnSpPr>
          <p:spPr>
            <a:xfrm flipV="1" rot="16200000">
              <a:off x="3875040" y="2067480"/>
              <a:ext cx="304200" cy="211212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9" name="_s1035"/>
            <p:cNvCxnSpPr>
              <a:stCxn id="580" idx="0"/>
              <a:endCxn id="578" idx="2"/>
            </p:cNvCxnSpPr>
            <p:nvPr/>
          </p:nvCxnSpPr>
          <p:spPr>
            <a:xfrm flipH="1" flipV="1" rot="5400000">
              <a:off x="2440440" y="2744640"/>
              <a:ext cx="304200" cy="75816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8" name="_s1036"/>
            <p:cNvSpPr/>
            <p:nvPr/>
          </p:nvSpPr>
          <p:spPr>
            <a:xfrm>
              <a:off x="1980360" y="2147760"/>
              <a:ext cx="1981080" cy="8244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 of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incip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7"/>
            <p:cNvSpPr/>
            <p:nvPr/>
          </p:nvSpPr>
          <p:spPr>
            <a:xfrm>
              <a:off x="760680" y="3275640"/>
              <a:ext cx="2904120" cy="80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ACR Fund Trustees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ublish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1038"/>
            <p:cNvSpPr/>
            <p:nvPr/>
          </p:nvSpPr>
          <p:spPr>
            <a:xfrm>
              <a:off x="4114080" y="3275640"/>
              <a:ext cx="1936440" cy="803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oint Steer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9"/>
            <p:cNvSpPr/>
            <p:nvPr/>
          </p:nvSpPr>
          <p:spPr>
            <a:xfrm>
              <a:off x="749160" y="4493880"/>
              <a:ext cx="124992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40"/>
            <p:cNvSpPr/>
            <p:nvPr/>
          </p:nvSpPr>
          <p:spPr>
            <a:xfrm>
              <a:off x="2208960" y="4493880"/>
              <a:ext cx="12531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CO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1041"/>
            <p:cNvSpPr/>
            <p:nvPr/>
          </p:nvSpPr>
          <p:spPr>
            <a:xfrm>
              <a:off x="3668040" y="4493880"/>
              <a:ext cx="125280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42"/>
            <p:cNvSpPr/>
            <p:nvPr/>
          </p:nvSpPr>
          <p:spPr>
            <a:xfrm>
              <a:off x="512784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C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43"/>
            <p:cNvSpPr/>
            <p:nvPr/>
          </p:nvSpPr>
          <p:spPr>
            <a:xfrm>
              <a:off x="6589440" y="4493880"/>
              <a:ext cx="124884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ILI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_s1044"/>
            <p:cNvSpPr/>
            <p:nvPr/>
          </p:nvSpPr>
          <p:spPr>
            <a:xfrm>
              <a:off x="804816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endCxn id="570" idx="2"/>
            </p:cNvCxnSpPr>
            <p:nvPr/>
          </p:nvCxnSpPr>
          <p:spPr>
            <a:xfrm flipH="1" flipV="1" rot="5400000">
              <a:off x="5271480" y="4850640"/>
              <a:ext cx="257400" cy="70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2" name="_s1041"/>
          <p:cNvSpPr/>
          <p:nvPr/>
        </p:nvSpPr>
        <p:spPr>
          <a:xfrm>
            <a:off x="2895480" y="5334120"/>
            <a:ext cx="12528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_s1042"/>
          <p:cNvSpPr/>
          <p:nvPr/>
        </p:nvSpPr>
        <p:spPr>
          <a:xfrm>
            <a:off x="4419720" y="5334120"/>
            <a:ext cx="125244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_s1043"/>
          <p:cNvSpPr/>
          <p:nvPr/>
        </p:nvSpPr>
        <p:spPr>
          <a:xfrm>
            <a:off x="5943600" y="5334120"/>
            <a:ext cx="12492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_s1044"/>
          <p:cNvSpPr/>
          <p:nvPr/>
        </p:nvSpPr>
        <p:spPr>
          <a:xfrm>
            <a:off x="7467480" y="5334120"/>
            <a:ext cx="12510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 aut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s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_s1035"/>
          <p:cNvCxnSpPr>
            <a:stCxn id="582" idx="0"/>
          </p:cNvCxnSpPr>
          <p:nvPr/>
        </p:nvCxnSpPr>
        <p:spPr>
          <a:xfrm flipH="1" flipV="1" rot="5400000">
            <a:off x="4509720" y="4088880"/>
            <a:ext cx="258120" cy="2232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_s1035"/>
          <p:cNvCxnSpPr>
            <a:endCxn id="585" idx="0"/>
          </p:cNvCxnSpPr>
          <p:nvPr/>
        </p:nvCxnSpPr>
        <p:spPr>
          <a:xfrm flipH="1" rot="16200000">
            <a:off x="6795000" y="4035600"/>
            <a:ext cx="258120" cy="2339280"/>
          </a:xfrm>
          <a:prstGeom prst="bentConnector3">
            <a:avLst>
              <a:gd name="adj1" fmla="val 4930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_s1035"/>
          <p:cNvCxnSpPr>
            <a:stCxn id="584" idx="0"/>
          </p:cNvCxnSpPr>
          <p:nvPr/>
        </p:nvCxnSpPr>
        <p:spPr>
          <a:xfrm flipV="1" rot="16200000">
            <a:off x="6032520" y="4797360"/>
            <a:ext cx="258120" cy="81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Objectifs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directives fondées sur des princip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notices capables de répondre aux besoins des usag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Tahoma"/>
              </a:rPr>
              <a:t>compatible avec les principes, modèles et normes établis au plan international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lignement avec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ournir un cadre théorique pour développer le “</a:t>
            </a:r>
            <a:r>
              <a:rPr b="0" lang="en-US" sz="3100" spc="-1" strike="noStrike">
                <a:solidFill>
                  <a:srgbClr val="0000ff"/>
                </a:solidFill>
                <a:latin typeface="Tahoma"/>
              </a:rPr>
              <a:t>jugement du catalogueur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es données RCAA2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’environnement du Web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ntrôle bibliographique efficace des tous les types de ressources ou de contenu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ccent sur l’enregistrement des données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PAS</a:t>
            </a:r>
            <a:r>
              <a:rPr b="0" i="1" lang="en-US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sur leur présent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lan de la présenta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96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est-ce que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d’où vient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ourquoi une nouvelle nor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qui développe et finance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Objectifs de R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Alignement sur FRBR/FR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tructure de R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n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y a-t-il de neuf dans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ise en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  <a:ea typeface="Tahoma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 d’autres communautés que celle des bibliothèqu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tout à travers le mond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acilité et efficacité d’utilis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Alignement avec FRBR/FRAD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Alignement de RDA avec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BR +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251784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entités-rel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es de travail de l’IF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ltation à l’échell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és sur l’analyse d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ne font pas qu’influencer RDA; ils constituent l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l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omprendr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240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Modèles FRBR et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s l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es pour l’us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D est une extension du modèle FRBR sur lequel il se b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s d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-- entre l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BR</a:t>
            </a: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s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en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u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BR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ductions artistiques ou intellectue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œuvre, expression, manifestation, exemp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abstraites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         </a:t>
            </a:r>
            <a:r>
              <a:rPr b="0" i="1" lang="en-US" sz="2400" spc="-1" strike="noStrike">
                <a:solidFill>
                  <a:srgbClr val="669900"/>
                </a:solidFill>
                <a:latin typeface="Bookman Old Style"/>
              </a:rPr>
              <a:t>phys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sponsables des entités du group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, collectivité (+ famil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uj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, objet, événement, lieu (+ entités des groupes 1 et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AutoShape 6"/>
          <p:cNvSpPr/>
          <p:nvPr/>
        </p:nvSpPr>
        <p:spPr>
          <a:xfrm rot="5400000">
            <a:off x="27428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 rot="5400000">
            <a:off x="59432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’entités du Groupe 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762120" y="2133720"/>
            <a:ext cx="2209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dée po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’histo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Kamouras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743200" y="3200400"/>
            <a:ext cx="2209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 texte frança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riginal tel qu’écr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ar Anne Héb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724280" y="4267080"/>
            <a:ext cx="221004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ontréal, Art global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6781680" y="5334120"/>
            <a:ext cx="221004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xemplaire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An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1"/>
          <p:cNvCxnSpPr>
            <a:stCxn id="612" idx="2"/>
            <a:endCxn id="613" idx="1"/>
          </p:cNvCxnSpPr>
          <p:nvPr/>
        </p:nvCxnSpPr>
        <p:spPr>
          <a:xfrm flipH="1" rot="16200000">
            <a:off x="2019240" y="2971440"/>
            <a:ext cx="57240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7" name="AutoShape 12"/>
          <p:cNvCxnSpPr>
            <a:stCxn id="613" idx="2"/>
            <a:endCxn id="614" idx="1"/>
          </p:cNvCxnSpPr>
          <p:nvPr/>
        </p:nvCxnSpPr>
        <p:spPr>
          <a:xfrm flipH="1" rot="16200000">
            <a:off x="4000320" y="4038120"/>
            <a:ext cx="5720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AutoShape 13"/>
          <p:cNvCxnSpPr>
            <a:stCxn id="614" idx="2"/>
            <a:endCxn id="615" idx="1"/>
          </p:cNvCxnSpPr>
          <p:nvPr/>
        </p:nvCxnSpPr>
        <p:spPr>
          <a:xfrm flipH="1" rot="16200000">
            <a:off x="6018840" y="5067360"/>
            <a:ext cx="572400" cy="952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9" name="Text Box 15"/>
          <p:cNvSpPr/>
          <p:nvPr/>
        </p:nvSpPr>
        <p:spPr>
          <a:xfrm>
            <a:off x="762120" y="358128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822240" y="35719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819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se concrétise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8380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trouve sa réalisation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4800600" y="5867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est représentée p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’attributs </a:t>
            </a:r>
            <a:r>
              <a:rPr b="0" lang="fr-CA" sz="2800" spc="-1" strike="noStrike">
                <a:solidFill>
                  <a:srgbClr val="993300"/>
                </a:solidFill>
                <a:latin typeface="Times New Roman"/>
              </a:rPr>
              <a:t>(groupes 1,2 et 3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762120" y="2036880"/>
          <a:ext cx="8550000" cy="4532040"/>
        </p:xfrm>
        <a:graphic>
          <a:graphicData uri="http://schemas.openxmlformats.org/drawingml/2006/table">
            <a:tbl>
              <a:tblPr/>
              <a:tblGrid>
                <a:gridCol w="2324160"/>
                <a:gridCol w="622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œ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, forme ou genre, date, distribution d’exécution, coordonnées (carte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’expression, forme de l’expression, langue de l’express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a manifestation, éditeur, date de publication, genre de support, dimension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e, code à barres, provenanc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, dates, titres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, numéro, lieu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. ex. économ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182880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nt les liens entre les 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e groupes différ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u même groupe (particulièrement entre entités du groupe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ent l’usager à naviguer dans le catalogue ou la base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 la co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54200" y="2147760"/>
          <a:ext cx="8550000" cy="4122720"/>
        </p:xfrm>
        <a:graphic>
          <a:graphicData uri="http://schemas.openxmlformats.org/drawingml/2006/table">
            <a:tbl>
              <a:tblPr/>
              <a:tblGrid>
                <a:gridCol w="2598480"/>
                <a:gridCol w="3102120"/>
                <a:gridCol w="2849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é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terprét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duit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priété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ujet d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raduction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crétisée da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est-ce que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CA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ébert, Anne, 1916-2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moura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j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Remémoration et commémoration dans Kamourask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d'Anne Héb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par Robert Ha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du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: a no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by Anne Hébert ; translated b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n Shapiro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un film de Claude Jutra ; une coproduction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Les Productions Pierre Lamy ltée, Parc Film, Société de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adiodiffusion du Québe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e les données d’autorité qui appuient le contrôle d’auto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et développement du modèle FRB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œuvre d’un groupe de l’IFLA appel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NAR : Working Group on Functional Requirements and Numbering of Authority Reco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ualis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ie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AD</a:t>
            </a:r>
            <a:br>
              <a:rPr sz="44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xtension de FRBR </a:t>
            </a:r>
            <a:endParaRPr b="0" i="1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d’accès contrôl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é sur le nom ou l’identif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soumise à d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que l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e ou modifie le point d’accè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ccolade fermante 4"/>
          <p:cNvSpPr/>
          <p:nvPr/>
        </p:nvSpPr>
        <p:spPr>
          <a:xfrm>
            <a:off x="3200400" y="23623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oneTexte 6"/>
          <p:cNvSpPr/>
          <p:nvPr/>
        </p:nvSpPr>
        <p:spPr>
          <a:xfrm flipH="1">
            <a:off x="3504600" y="2362320"/>
            <a:ext cx="327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000000"/>
                </a:solidFill>
                <a:latin typeface="Tahoma"/>
              </a:rPr>
              <a:t>de l’entité FRB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Impact des modèles FRBR + FRAD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rige l’attention vers les aspects des codes de catalogage qui ont besoin d’être amélior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réer des notices qui vont répondre aux besoins des us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’assurer que l’information contenue dans les notices a de la valeur pour l’us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collocation (en particulier des vedet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navigation dans une grosse base de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Structure de RDA 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93675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Plan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4200" y="21337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géné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relationshi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ex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u nombre de 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uscules, abréviations, articles initiaux, présentation des données, désignations des relations (vocabulaire contrôl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ss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9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manifestations et des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personnes, familles et collectivité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concepts, objets, événements et lie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3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personnes, des familles et des collectivités associées à une res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7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concepts, des objets, des événements et des lieux associés à une 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29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8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œuvres, expressions, manifestations et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personnes, familles et collectiv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concepts, objets, événements et lieux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’est-ce qu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4200" y="23623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velle n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un environnement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tous les contextes linguist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920" y="914400"/>
            <a:ext cx="95565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1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manifestations et des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4200" y="2817720"/>
            <a:ext cx="855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manifestations et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aire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4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formation sur l’acquisition et l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2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œuvres et des expression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6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7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attributs additionnels des œuvres et des express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3</a:t>
            </a:r>
            <a:br>
              <a:rPr sz="4000"/>
            </a:b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tributs des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8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attributs des personnes, familles et collectivi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9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0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1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collectivit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5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</a:rPr>
              <a:t>Relations primaires entre œuvre, expression, manifestation et exemplair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7.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6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avec des personnes, des familles et des collectivités associées à une ressourc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066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8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œuvres, expressions, manifestations et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4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Œ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vr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6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7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mplaires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9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ersonn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mill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llectivité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 de la de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res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en une seule partie, en plusieurs parties, en cours de parution, ressource intégratric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e ou analy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vision par chapitre puis par élément et sous-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élément=attribut ou 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éléments sont optionnels ou obligato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éments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 et port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prendre l’information à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la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rendre compte des changements apportés à l’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aspects de l’élément sont regroupés au même endr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y a-t-il de neuf dans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’environnement chan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sources 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sup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veaux genres de pub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utilis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ieurs nouvelles communautés reconnaissent le besoin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formats de communic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upart des directives ne sont pas différ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imées dans un vocabulaire mis à j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ordonnées selon une structure plus 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ées aux cadres conceptuels de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ées dans le contexte des opérations effectuées par les usagers telles qu’identifiées dans les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sur le contenu compatible av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es options d’affich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s schémas d’encodage des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formats communication traditionnels (p. ex. MARC21) et les options d’affichage traditionnelles (p. ex. ISB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lus grande conscience des us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remplissent les tâches utilisat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licite les relations entre entités pour les us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permett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concevoir de meilleurs affichages dans les catalog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’améliorer le regroupement des résultats de recher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cription des ressources facilité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rectives cohé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prise de décision plus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conceptuel extensible : s’adaptera aux nouveaux supports, médias et types de cont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itement intégré du mode d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vail entrepris avec d’autres communautés pour encourager la ré-utilisation des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urnit un cadre théorique permettant aux catalogueurs de développer leur ju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nternationa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upprime le biais anglo-améric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’adapte aux langues, écritures, chiffres et  systèmes de dates autres que ceux utilisés en anglais ou en Occ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e à supprimer les biais religieux et cultur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comme 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les ressources tangibles autant qu’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permet la capture automatique et la ré-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transcription de ce que le catalogueur voit, tel qu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rrection des erreurs ou inexactitudes ail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cilite la capture automatique de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s limitations imposées par l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ègle de tr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éduit les abré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 vocabulaire hérité des fiches, p. ex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edet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emplace l’IGGD par de nouveaux termes décrivant le contenu, le médium et le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pas juste pour les bibliothè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s’appliquer à un large éventail de res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ocuments d’arch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munautés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EEE L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alogue étendu à d’autres communautés de métadonnées après la premièr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Mise en œuvre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facile à utiliser et à ense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décision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asé sur des 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théorique cohé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cherche par mots-clés et pa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able des matières et textes déroulants (table des matières comme encadr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auvegarde des reche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g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tilise d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qui servent de guides pas à 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écrites à l’origine pour d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du concept de “classe de supports” lorsqu’on décrit des documents appartenant à plus d’une classe de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hérences entre les règles des différents chapitres de la Parti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ues personnalisées dans l’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u niveau d’une institution, d’un département, d’un consort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différents selon le type de res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tégration possible avec le module de catalogage du SIG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ordance avec 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en-CA" sz="2800" spc="-1" strike="noStrike">
                <a:solidFill>
                  <a:srgbClr val="333399"/>
                </a:solidFill>
                <a:latin typeface="Tahoma"/>
              </a:rPr>
              <a:t> où est passée cette règle?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patibilité avec les notices exi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ntention est de maintenir la compatibilité des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RDA + scénarios de mise en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œ</a:t>
            </a: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uvre dans les bases de donné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DA conçu pour satisfaire 3 scénari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s 2 et 3 : données stockées dans des structures de bases de données communes et cou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 1 : scénario possible dans l’ave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otices pour les entités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œuvre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ucture reflète les modèles FRBR et FR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e en œuvre initiale de RDA : en fonction du scénario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ices bibliographiques et d’autorité relié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MARC2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ance entre éléments de données RDA et MARC21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BI discussion paper no. 2008-DP04 (publié en déc. 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age de RDA avec MARC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s aux formats MARC21 (bibliographique et autorités) possiblement nécessaires en vue d’une mise en œuvre de RDA selon le scénari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DA/MARC Working Group (annoncé en mars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Dublin Cor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l d’application DC pour les données de R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’un vocabulaire d’éléments RD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emblables au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des vocabulaires de valeurs RDA sur le Web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contenu 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dre les métadonnées RDA interopérables avec d’autres initiatives du Web séman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4200" y="914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ôle des bibliothèques nationales et d’autres organismes, p. ex. OCLC, Program for Cooperative Cataloging, consortiums comme la CREPU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ation coordonn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au vocabulaire à apprend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lles directives (peu nombre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avigation dans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Échéancier projet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illet 2008 : sortie de l’ébauche complè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but 2009 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 en tant qu’outi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e en œuvre avant la fin de 2009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5280" y="214776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eb du JSC : 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www.collectionscanada.ca/jsc/rda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éba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de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uvelles et résultats des réun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 de discussion RDA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 faire parvenir des comment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sentation basée sur de l’information provenant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Steering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é canadien de catalog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A Outreach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ésentations sur le site Web d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ègles inadéquates pour décr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conti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électro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imposées pour sauver de l’espace, p. ex. règle de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de cadre théorique pour guider le processus de révision, le développement de nouvelles règl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onférence de 1997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87520" y="1600200"/>
            <a:ext cx="8550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 International Conference on the Principles &amp; Future Development of AACR, Toro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experts identifient 5 problèmes majeurs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u v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ogique des RCA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éri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adre théorique (IFLA)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modèles conceptu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BR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AD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9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Authorit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principes internationaux de catalogage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003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IME ICC Statement of International Cataloguing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4:22:48Z</dcterms:created>
  <dc:creator>Christine Oliver</dc:creator>
  <dc:description/>
  <dc:language>en-US</dc:language>
  <cp:lastModifiedBy>Paradis</cp:lastModifiedBy>
  <cp:lastPrinted>2007-04-08T20:28:39Z</cp:lastPrinted>
  <dcterms:modified xsi:type="dcterms:W3CDTF">2008-04-16T18:02:15Z</dcterms:modified>
  <cp:revision>172</cp:revision>
  <dc:subject/>
  <dc:title> </dc:title>
</cp:coreProperties>
</file>