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6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100584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sldImg"/>
          </p:nvPr>
        </p:nvSpPr>
        <p:spPr>
          <a:xfrm>
            <a:off x="947520" y="698400"/>
            <a:ext cx="51130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Click to move the slide</a:t>
            </a:r>
            <a:endParaRPr b="1" lang="en-US" sz="4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DA av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BC5467B-D238-4E62-A47F-93ADB18BC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51701CC-7BB7-4C56-9B0B-1A1F7F5D0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A12BE2D-CF65-42BA-B29A-5E865F50C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457200" y="4416120"/>
            <a:ext cx="63244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9FB44DC-5C57-45C9-831C-80A10370E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148B739-E0E4-45C3-A0B0-68A701474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E4BDCE6-9566-4D5C-BE5B-FF518BB9F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2C13099-E1BA-4EE9-A78E-D79178D6C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AB4FEEC-4151-47F3-A7F6-7049085C2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A6925A6-173A-4E17-AC79-CC1D0696F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 Steering Committe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American Library Associ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Australian Committee on Catalogu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British Libr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Canadian Committee on Catalogu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CILIP : Chartered Institute of Library and Information Profession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Library of Con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Comité canadien de catalogag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Association pour l'avancement des sciences et des techniques de la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Canadian Library 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Bibliothèque et Archives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8 autres organismes qui fournissent leur expertise dans leurs secteurs d'activités particuliers (bibliothèques de recherche, bibliothèques musicales, cartothèques et archives cartographiques, bibliothèques de droit, archives, bibliothèques spécialisées, sciences de l’inform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7DA052B-CA5C-481B-8307-563772977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36D4B9B-08E4-4F46-A800-39D2A74A2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tible avec l’environnement du Web 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pplicable aux ressources du We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util We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tible avec l’architecture du Web  et interopérable avec les initiatives du Web sémantique pour faciliter l’échange des métadonné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A6AB667-E76E-4C0F-A85A-62289B3D0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CEC638B-5FF8-4A30-839C-BFAB08A52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tible avec l’environnement du Web 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pplicable aux ressources du We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util We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tible avec l’architecture du Web  et interopérable avec les initiatives du Web sémantique pour faciliter l’échange des métadonné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379C4C9-639A-4588-8F53-A6115490E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ED26CDA-009C-418F-81E9-DB9362B75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C3034E8-901B-4422-BF02-16DF945DF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6F9956C-71A7-4742-9235-F11D21367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68C9DEC-4F9E-4F28-8F83-6E8A7DAF7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89F0498-238D-4922-B6BD-9A6260262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m= édition avec estampes originales de Antoine Du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934D1B9-95EF-4D5E-830A-153F0E30C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8885335-4C51-45FD-B996-C6ED36D63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outes les entités ne sont pas représentées dans ce tablea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704A383-60C7-4FE1-9468-23E70129E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950760" y="696960"/>
            <a:ext cx="5110200" cy="348444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A7AE21A-2E88-41FE-A683-C90B88198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2331006-BA2E-4999-9DEA-0A1711E4B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950760" y="696960"/>
            <a:ext cx="5110200" cy="348444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34275E3-9932-4888-B612-11BF0759F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Trouver 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les entités qui correspondent aux critères de recherche ou explorer les entités bibliographiq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Identifier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une entité pour confirmer qu’elle correspond à cette recherche ou valider la forme de la vedette retenue comme point d’accès contrôl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Contextualiser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i.e. mettre une entité dans son contexte, expliciter les liens entre entités et entre les entités et leurs n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Arial"/>
              </a:rPr>
              <a:t>Justifier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i.e. documenter les raisons pour le choix de la forme de la vedet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42F1387-AE03-46EE-98BA-794D1C1A9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6A376A6-ACD8-495F-9BAA-5B534D2FF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F1E4814-62DD-4472-9305-BB65B36E5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9012501-60A8-4A0E-95F8-CCD26ED70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AF015D3-28D3-4FF6-8257-95F8A071F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950760" y="696960"/>
            <a:ext cx="5110200" cy="348444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4E6E6B3-7C8A-4007-999E-3DF73ADDE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42AD82C-EC2F-4041-BA04-64537F548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AF76B5F-79B4-4484-8663-72C663176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ABEC795-D09B-4A7D-A595-49D19DE0B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3643890-9615-4B98-B73F-D539A482B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C73FF91-9420-475F-ABD3-797BE7E18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CB1AE2A-CCBC-4DDA-8845-1EE6BEE69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13F2821-1586-4E0C-B5AD-DAAF5716E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82970C1-0EA3-46A4-8BE8-111136E68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ressources électroniques : permettent la capture des données à partir des ressources elles-mê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é-utilisation des métadonnées bibliographiques : dont celles des édit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des types de formats de communication des métadonnées bibliograph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blin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86F0134-1722-4FEA-A106-986D295FF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Exemples du nouveau vocabulaire (en anglais) : </a:t>
            </a:r>
            <a:r>
              <a:rPr b="0" i="1" lang="fr-CA" sz="1200" spc="-1" strike="noStrike">
                <a:solidFill>
                  <a:srgbClr val="000000"/>
                </a:solidFill>
                <a:latin typeface="Arial"/>
              </a:rPr>
              <a:t>access point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CA" sz="1200" spc="-1" strike="noStrike">
                <a:solidFill>
                  <a:srgbClr val="000000"/>
                </a:solidFill>
                <a:latin typeface="Arial"/>
              </a:rPr>
              <a:t>preferred access point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CA" sz="1200" spc="-1" strike="noStrike">
                <a:solidFill>
                  <a:srgbClr val="000000"/>
                </a:solidFill>
                <a:latin typeface="Arial"/>
              </a:rPr>
              <a:t>preferred title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CA" sz="1200" spc="-1" strike="noStrike">
                <a:solidFill>
                  <a:srgbClr val="000000"/>
                </a:solidFill>
                <a:latin typeface="Arial"/>
              </a:rPr>
              <a:t>name of the work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459D0BD-CF9F-4004-95E6-0262B9182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s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4C0627A-A1AC-47A0-8CF3-0F63DD73F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1194B40-0AF2-4924-BEE4-CE9E9EB1D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1E644DC-CB40-49D5-A0D3-F36697914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6D746A5-908F-49B2-B08B-FA8280F54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F6280CE-F8A4-4124-99B0-EAF9F6F0E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conçu pour les ressources tangibles autant qu’électron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. ex. identificateurs persistents (</a:t>
            </a: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persistent identifiers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) et u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. ex. support est au niveau de la manife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permet la capture automatique et la ré-utilisation des donn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. ex. l’importance de la transcription des données pour l’identification des ressources va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livres anciens – très importa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ssources numériques – peut-être pas aussi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BCE8D82-1EB3-421F-BBEE-098370517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6CC0ADC-91EF-4EA8-BF5E-31804F783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6E5B675-0623-412C-96AA-6EBF0DE0B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D391B47-3FF8-4EC3-ACF0-AB2A94B45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2615328-325D-4BC2-AEF1-AE617B3FB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SIGB : Système intégré de gestion de bibliothè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63188AC-B003-4E9C-ADD6-74613A56D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2A71AD8-546D-4931-AE7C-DD2004E93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41A79B5-F30E-4050-B644-E3444461A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255B7CD-6E9C-4C4A-964D-CB0E99631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571320" y="4416120"/>
            <a:ext cx="5981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F71BF84-1722-4E94-96AD-684B882C2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80B12C8-4903-4971-ACBA-0B881A0A3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947880" y="698400"/>
            <a:ext cx="5113080" cy="348624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IME ICC : IFLA Meetings of Experts on a International Cataloguing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Espace réservé du pied de page 3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 March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Espace réservé du numéro de diapositive 4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0F9D72B-BBB9-4C46-9746-852B2E0B1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450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3616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7542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450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3616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755640" y="912600"/>
            <a:ext cx="854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6450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53616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7542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6450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53616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B9D6-27BD-47A2-AB94-4949FA8E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F93A-3AD6-4CA6-9F20-EAE2FE91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F8D9-CF2D-408E-B065-FA26BE0A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9919-D679-4BC8-ACAE-9D491289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EB31-E5BF-43CB-8E13-81BE1BD6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755640" y="912600"/>
            <a:ext cx="854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CE09-C078-4715-B74F-0C108763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B991-ED3C-4AAC-A2D7-3F7D7F44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B6CA-E6F6-4457-A75F-852F684F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5201-9E78-40D9-BBFA-7B70F605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344B-BDA0-4EB1-AD77-13344FD9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CF46-44F2-4A8C-98D4-1D308FBE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64500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536160" y="214776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7542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64500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536160" y="4297320"/>
            <a:ext cx="275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E7E4-AA68-47C0-B1D2-77781776A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755640" y="912600"/>
            <a:ext cx="854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135400" y="429732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35400" y="2147760"/>
            <a:ext cx="41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54200" y="4297320"/>
            <a:ext cx="85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Group 7"/>
          <p:cNvGrpSpPr/>
          <p:nvPr/>
        </p:nvGrpSpPr>
        <p:grpSpPr>
          <a:xfrm>
            <a:off x="250920" y="0"/>
            <a:ext cx="9336960" cy="831600"/>
            <a:chOff x="250920" y="0"/>
            <a:chExt cx="9336960" cy="831600"/>
          </a:xfrm>
        </p:grpSpPr>
        <p:grpSp>
          <p:nvGrpSpPr>
            <p:cNvPr id="3" name="Group 8"/>
            <p:cNvGrpSpPr/>
            <p:nvPr/>
          </p:nvGrpSpPr>
          <p:grpSpPr>
            <a:xfrm>
              <a:off x="1122120" y="77760"/>
              <a:ext cx="8465760" cy="685800"/>
              <a:chOff x="1122120" y="77760"/>
              <a:chExt cx="8465760" cy="685800"/>
            </a:xfrm>
          </p:grpSpPr>
          <p:sp>
            <p:nvSpPr>
              <p:cNvPr id="4" name="Freeform 9"/>
              <p:cNvSpPr/>
              <p:nvPr/>
            </p:nvSpPr>
            <p:spPr>
              <a:xfrm>
                <a:off x="1122120" y="77760"/>
                <a:ext cx="8465760" cy="685800"/>
              </a:xfrm>
              <a:prstGeom prst="pie">
                <a:avLst/>
              </a:pr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" name="Group 10"/>
              <p:cNvGrpSpPr/>
              <p:nvPr/>
            </p:nvGrpSpPr>
            <p:grpSpPr>
              <a:xfrm>
                <a:off x="2049480" y="77760"/>
                <a:ext cx="6682320" cy="680400"/>
                <a:chOff x="2049480" y="77760"/>
                <a:chExt cx="6682320" cy="680400"/>
              </a:xfrm>
            </p:grpSpPr>
            <p:grpSp>
              <p:nvGrpSpPr>
                <p:cNvPr id="6" name="Group 11"/>
                <p:cNvGrpSpPr/>
                <p:nvPr/>
              </p:nvGrpSpPr>
              <p:grpSpPr>
                <a:xfrm>
                  <a:off x="2049480" y="79200"/>
                  <a:ext cx="3855240" cy="677160"/>
                  <a:chOff x="2049480" y="79200"/>
                  <a:chExt cx="3855240" cy="677160"/>
                </a:xfrm>
              </p:grpSpPr>
              <p:sp>
                <p:nvSpPr>
                  <p:cNvPr id="7" name="Freeform 12"/>
                  <p:cNvSpPr/>
                  <p:nvPr/>
                </p:nvSpPr>
                <p:spPr>
                  <a:xfrm>
                    <a:off x="4207680" y="700920"/>
                    <a:ext cx="1224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" name="Freeform 13"/>
                  <p:cNvSpPr/>
                  <p:nvPr/>
                </p:nvSpPr>
                <p:spPr>
                  <a:xfrm>
                    <a:off x="4338360" y="743760"/>
                    <a:ext cx="1548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Freeform 14"/>
                  <p:cNvSpPr/>
                  <p:nvPr/>
                </p:nvSpPr>
                <p:spPr>
                  <a:xfrm>
                    <a:off x="3968640" y="673920"/>
                    <a:ext cx="223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" name="Freeform 15"/>
                  <p:cNvSpPr/>
                  <p:nvPr/>
                </p:nvSpPr>
                <p:spPr>
                  <a:xfrm>
                    <a:off x="3701160" y="694800"/>
                    <a:ext cx="1872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6"/>
                  <p:cNvSpPr/>
                  <p:nvPr/>
                </p:nvSpPr>
                <p:spPr>
                  <a:xfrm>
                    <a:off x="3620880" y="704160"/>
                    <a:ext cx="4896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7"/>
                  <p:cNvSpPr/>
                  <p:nvPr/>
                </p:nvSpPr>
                <p:spPr>
                  <a:xfrm>
                    <a:off x="3570120" y="702720"/>
                    <a:ext cx="5040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8"/>
                  <p:cNvSpPr/>
                  <p:nvPr/>
                </p:nvSpPr>
                <p:spPr>
                  <a:xfrm>
                    <a:off x="3296160" y="564480"/>
                    <a:ext cx="26352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9"/>
                  <p:cNvSpPr/>
                  <p:nvPr/>
                </p:nvSpPr>
                <p:spPr>
                  <a:xfrm>
                    <a:off x="3457080" y="555120"/>
                    <a:ext cx="11664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20"/>
                  <p:cNvSpPr/>
                  <p:nvPr/>
                </p:nvSpPr>
                <p:spPr>
                  <a:xfrm>
                    <a:off x="3570120" y="604080"/>
                    <a:ext cx="817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Freeform 21"/>
                  <p:cNvSpPr/>
                  <p:nvPr/>
                </p:nvSpPr>
                <p:spPr>
                  <a:xfrm>
                    <a:off x="3566520" y="629640"/>
                    <a:ext cx="558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22"/>
                  <p:cNvSpPr/>
                  <p:nvPr/>
                </p:nvSpPr>
                <p:spPr>
                  <a:xfrm>
                    <a:off x="3661200" y="599400"/>
                    <a:ext cx="273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" name="Freeform 23"/>
                  <p:cNvSpPr/>
                  <p:nvPr/>
                </p:nvSpPr>
                <p:spPr>
                  <a:xfrm>
                    <a:off x="3668040" y="648720"/>
                    <a:ext cx="345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" name="Freeform 24"/>
                  <p:cNvSpPr/>
                  <p:nvPr/>
                </p:nvSpPr>
                <p:spPr>
                  <a:xfrm>
                    <a:off x="3704760" y="624960"/>
                    <a:ext cx="4500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Freeform 25"/>
                  <p:cNvSpPr/>
                  <p:nvPr/>
                </p:nvSpPr>
                <p:spPr>
                  <a:xfrm>
                    <a:off x="3717000" y="637560"/>
                    <a:ext cx="21276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Freeform 26"/>
                  <p:cNvSpPr/>
                  <p:nvPr/>
                </p:nvSpPr>
                <p:spPr>
                  <a:xfrm>
                    <a:off x="3902040" y="646920"/>
                    <a:ext cx="5760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Freeform 27"/>
                  <p:cNvSpPr/>
                  <p:nvPr/>
                </p:nvSpPr>
                <p:spPr>
                  <a:xfrm>
                    <a:off x="4024440" y="559800"/>
                    <a:ext cx="1368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Freeform 28"/>
                  <p:cNvSpPr/>
                  <p:nvPr/>
                </p:nvSpPr>
                <p:spPr>
                  <a:xfrm>
                    <a:off x="4097520" y="623160"/>
                    <a:ext cx="1872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Freeform 29"/>
                  <p:cNvSpPr/>
                  <p:nvPr/>
                </p:nvSpPr>
                <p:spPr>
                  <a:xfrm>
                    <a:off x="3862080" y="48024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Freeform 30"/>
                  <p:cNvSpPr/>
                  <p:nvPr/>
                </p:nvSpPr>
                <p:spPr>
                  <a:xfrm>
                    <a:off x="3738240" y="54720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Freeform 31"/>
                  <p:cNvSpPr/>
                  <p:nvPr/>
                </p:nvSpPr>
                <p:spPr>
                  <a:xfrm>
                    <a:off x="3601800" y="526320"/>
                    <a:ext cx="5904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" name="Freeform 32"/>
                  <p:cNvSpPr/>
                  <p:nvPr/>
                </p:nvSpPr>
                <p:spPr>
                  <a:xfrm>
                    <a:off x="3582360" y="435960"/>
                    <a:ext cx="6948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Freeform 33"/>
                  <p:cNvSpPr/>
                  <p:nvPr/>
                </p:nvSpPr>
                <p:spPr>
                  <a:xfrm>
                    <a:off x="3600000" y="502560"/>
                    <a:ext cx="244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Freeform 34"/>
                  <p:cNvSpPr/>
                  <p:nvPr/>
                </p:nvSpPr>
                <p:spPr>
                  <a:xfrm>
                    <a:off x="3551040" y="509040"/>
                    <a:ext cx="3276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" name="Freeform 35"/>
                  <p:cNvSpPr/>
                  <p:nvPr/>
                </p:nvSpPr>
                <p:spPr>
                  <a:xfrm>
                    <a:off x="5382720" y="472320"/>
                    <a:ext cx="522000" cy="284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" name="Freeform 36"/>
                  <p:cNvSpPr/>
                  <p:nvPr/>
                </p:nvSpPr>
                <p:spPr>
                  <a:xfrm>
                    <a:off x="4691160" y="80280"/>
                    <a:ext cx="733320" cy="4489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Freeform 37"/>
                  <p:cNvSpPr/>
                  <p:nvPr/>
                </p:nvSpPr>
                <p:spPr>
                  <a:xfrm>
                    <a:off x="4465800" y="402480"/>
                    <a:ext cx="2628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Freeform 38"/>
                  <p:cNvSpPr/>
                  <p:nvPr/>
                </p:nvSpPr>
                <p:spPr>
                  <a:xfrm>
                    <a:off x="4444920" y="393120"/>
                    <a:ext cx="2808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" name="Freeform 39"/>
                  <p:cNvSpPr/>
                  <p:nvPr/>
                </p:nvSpPr>
                <p:spPr>
                  <a:xfrm>
                    <a:off x="5292000" y="340560"/>
                    <a:ext cx="127440" cy="52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Freeform 40"/>
                  <p:cNvSpPr/>
                  <p:nvPr/>
                </p:nvSpPr>
                <p:spPr>
                  <a:xfrm>
                    <a:off x="5426640" y="383400"/>
                    <a:ext cx="102600" cy="2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" name="Freeform 41"/>
                  <p:cNvSpPr/>
                  <p:nvPr/>
                </p:nvSpPr>
                <p:spPr>
                  <a:xfrm>
                    <a:off x="5372280" y="396360"/>
                    <a:ext cx="41760" cy="2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" name="Freeform 42"/>
                  <p:cNvSpPr/>
                  <p:nvPr/>
                </p:nvSpPr>
                <p:spPr>
                  <a:xfrm>
                    <a:off x="5344200" y="327960"/>
                    <a:ext cx="28080" cy="280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Freeform 43"/>
                  <p:cNvSpPr/>
                  <p:nvPr/>
                </p:nvSpPr>
                <p:spPr>
                  <a:xfrm>
                    <a:off x="5566320" y="413640"/>
                    <a:ext cx="3276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" name="Freeform 44"/>
                  <p:cNvSpPr/>
                  <p:nvPr/>
                </p:nvSpPr>
                <p:spPr>
                  <a:xfrm>
                    <a:off x="4974480" y="88200"/>
                    <a:ext cx="357840" cy="64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" name="Freeform 45"/>
                  <p:cNvSpPr/>
                  <p:nvPr/>
                </p:nvSpPr>
                <p:spPr>
                  <a:xfrm>
                    <a:off x="4658040" y="86760"/>
                    <a:ext cx="3315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Freeform 46"/>
                  <p:cNvSpPr/>
                  <p:nvPr/>
                </p:nvSpPr>
                <p:spPr>
                  <a:xfrm>
                    <a:off x="3926520" y="132840"/>
                    <a:ext cx="30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" name="Freeform 47"/>
                  <p:cNvSpPr/>
                  <p:nvPr/>
                </p:nvSpPr>
                <p:spPr>
                  <a:xfrm>
                    <a:off x="3070800" y="86760"/>
                    <a:ext cx="76140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" name="Freeform 48"/>
                  <p:cNvSpPr/>
                  <p:nvPr/>
                </p:nvSpPr>
                <p:spPr>
                  <a:xfrm>
                    <a:off x="3834000" y="79200"/>
                    <a:ext cx="34560" cy="86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Freeform 49"/>
                  <p:cNvSpPr/>
                  <p:nvPr/>
                </p:nvSpPr>
                <p:spPr>
                  <a:xfrm>
                    <a:off x="3813120" y="151920"/>
                    <a:ext cx="1026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Freeform 50"/>
                  <p:cNvSpPr/>
                  <p:nvPr/>
                </p:nvSpPr>
                <p:spPr>
                  <a:xfrm>
                    <a:off x="3702960" y="202680"/>
                    <a:ext cx="13968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Freeform 51"/>
                  <p:cNvSpPr/>
                  <p:nvPr/>
                </p:nvSpPr>
                <p:spPr>
                  <a:xfrm>
                    <a:off x="3795480" y="235800"/>
                    <a:ext cx="1044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Freeform 52"/>
                  <p:cNvSpPr/>
                  <p:nvPr/>
                </p:nvSpPr>
                <p:spPr>
                  <a:xfrm>
                    <a:off x="3013200" y="313560"/>
                    <a:ext cx="60588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Freeform 53"/>
                  <p:cNvSpPr/>
                  <p:nvPr/>
                </p:nvSpPr>
                <p:spPr>
                  <a:xfrm>
                    <a:off x="3119760" y="520200"/>
                    <a:ext cx="3312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Freeform 54"/>
                  <p:cNvSpPr/>
                  <p:nvPr/>
                </p:nvSpPr>
                <p:spPr>
                  <a:xfrm>
                    <a:off x="3584160" y="364320"/>
                    <a:ext cx="3132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Freeform 55"/>
                  <p:cNvSpPr/>
                  <p:nvPr/>
                </p:nvSpPr>
                <p:spPr>
                  <a:xfrm>
                    <a:off x="3673080" y="345600"/>
                    <a:ext cx="154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Freeform 56"/>
                  <p:cNvSpPr/>
                  <p:nvPr/>
                </p:nvSpPr>
                <p:spPr>
                  <a:xfrm>
                    <a:off x="2049480" y="194760"/>
                    <a:ext cx="75600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Freeform 57"/>
                  <p:cNvSpPr/>
                  <p:nvPr/>
                </p:nvSpPr>
                <p:spPr>
                  <a:xfrm>
                    <a:off x="2342880" y="405720"/>
                    <a:ext cx="284400" cy="350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58"/>
                  <p:cNvSpPr/>
                  <p:nvPr/>
                </p:nvSpPr>
                <p:spPr>
                  <a:xfrm>
                    <a:off x="2844000" y="666000"/>
                    <a:ext cx="1224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Freeform 59"/>
                  <p:cNvSpPr/>
                  <p:nvPr/>
                </p:nvSpPr>
                <p:spPr>
                  <a:xfrm>
                    <a:off x="2828160" y="485280"/>
                    <a:ext cx="1548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Freeform 60"/>
                  <p:cNvSpPr/>
                  <p:nvPr/>
                </p:nvSpPr>
                <p:spPr>
                  <a:xfrm>
                    <a:off x="2138400" y="262800"/>
                    <a:ext cx="432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61"/>
                  <p:cNvSpPr/>
                  <p:nvPr/>
                </p:nvSpPr>
                <p:spPr>
                  <a:xfrm>
                    <a:off x="2665800" y="117000"/>
                    <a:ext cx="51480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Freeform 62"/>
                  <p:cNvSpPr/>
                  <p:nvPr/>
                </p:nvSpPr>
                <p:spPr>
                  <a:xfrm>
                    <a:off x="2315160" y="88200"/>
                    <a:ext cx="10317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63"/>
                  <p:cNvSpPr/>
                  <p:nvPr/>
                </p:nvSpPr>
                <p:spPr>
                  <a:xfrm>
                    <a:off x="2524320" y="14400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64"/>
                  <p:cNvSpPr/>
                  <p:nvPr/>
                </p:nvSpPr>
                <p:spPr>
                  <a:xfrm>
                    <a:off x="2498400" y="165960"/>
                    <a:ext cx="3276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Freeform 65"/>
                  <p:cNvSpPr/>
                  <p:nvPr/>
                </p:nvSpPr>
                <p:spPr>
                  <a:xfrm>
                    <a:off x="2606400" y="231120"/>
                    <a:ext cx="5580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66"/>
                  <p:cNvSpPr/>
                  <p:nvPr/>
                </p:nvSpPr>
                <p:spPr>
                  <a:xfrm>
                    <a:off x="2702520" y="229680"/>
                    <a:ext cx="3096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67"/>
                  <p:cNvSpPr/>
                  <p:nvPr/>
                </p:nvSpPr>
                <p:spPr>
                  <a:xfrm>
                    <a:off x="2445840" y="164520"/>
                    <a:ext cx="244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8"/>
                <p:cNvGrpSpPr/>
                <p:nvPr/>
              </p:nvGrpSpPr>
              <p:grpSpPr>
                <a:xfrm>
                  <a:off x="6743520" y="77760"/>
                  <a:ext cx="1988280" cy="680400"/>
                  <a:chOff x="6743520" y="77760"/>
                  <a:chExt cx="1988280" cy="680400"/>
                </a:xfrm>
              </p:grpSpPr>
              <p:sp>
                <p:nvSpPr>
                  <p:cNvPr id="64" name="Freeform 69"/>
                  <p:cNvSpPr/>
                  <p:nvPr/>
                </p:nvSpPr>
                <p:spPr>
                  <a:xfrm>
                    <a:off x="8662320" y="674280"/>
                    <a:ext cx="223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70"/>
                  <p:cNvSpPr/>
                  <p:nvPr/>
                </p:nvSpPr>
                <p:spPr>
                  <a:xfrm>
                    <a:off x="8394840" y="695160"/>
                    <a:ext cx="190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Freeform 71"/>
                  <p:cNvSpPr/>
                  <p:nvPr/>
                </p:nvSpPr>
                <p:spPr>
                  <a:xfrm>
                    <a:off x="8314560" y="704520"/>
                    <a:ext cx="4896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72"/>
                  <p:cNvSpPr/>
                  <p:nvPr/>
                </p:nvSpPr>
                <p:spPr>
                  <a:xfrm>
                    <a:off x="8264160" y="703080"/>
                    <a:ext cx="5004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Freeform 73"/>
                  <p:cNvSpPr/>
                  <p:nvPr/>
                </p:nvSpPr>
                <p:spPr>
                  <a:xfrm>
                    <a:off x="7989840" y="564840"/>
                    <a:ext cx="26352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Freeform 74"/>
                  <p:cNvSpPr/>
                  <p:nvPr/>
                </p:nvSpPr>
                <p:spPr>
                  <a:xfrm>
                    <a:off x="8150760" y="555480"/>
                    <a:ext cx="11664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75"/>
                  <p:cNvSpPr/>
                  <p:nvPr/>
                </p:nvSpPr>
                <p:spPr>
                  <a:xfrm>
                    <a:off x="8264160" y="604440"/>
                    <a:ext cx="817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Freeform 76"/>
                  <p:cNvSpPr/>
                  <p:nvPr/>
                </p:nvSpPr>
                <p:spPr>
                  <a:xfrm>
                    <a:off x="8260560" y="630000"/>
                    <a:ext cx="558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Freeform 77"/>
                  <p:cNvSpPr/>
                  <p:nvPr/>
                </p:nvSpPr>
                <p:spPr>
                  <a:xfrm>
                    <a:off x="8354880" y="599760"/>
                    <a:ext cx="273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78"/>
                  <p:cNvSpPr/>
                  <p:nvPr/>
                </p:nvSpPr>
                <p:spPr>
                  <a:xfrm>
                    <a:off x="8361720" y="649080"/>
                    <a:ext cx="349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79"/>
                  <p:cNvSpPr/>
                  <p:nvPr/>
                </p:nvSpPr>
                <p:spPr>
                  <a:xfrm>
                    <a:off x="8398440" y="625320"/>
                    <a:ext cx="4536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Freeform 80"/>
                  <p:cNvSpPr/>
                  <p:nvPr/>
                </p:nvSpPr>
                <p:spPr>
                  <a:xfrm>
                    <a:off x="8410680" y="637920"/>
                    <a:ext cx="21276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81"/>
                  <p:cNvSpPr/>
                  <p:nvPr/>
                </p:nvSpPr>
                <p:spPr>
                  <a:xfrm>
                    <a:off x="8595720" y="647280"/>
                    <a:ext cx="5760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82"/>
                  <p:cNvSpPr/>
                  <p:nvPr/>
                </p:nvSpPr>
                <p:spPr>
                  <a:xfrm>
                    <a:off x="8718120" y="560160"/>
                    <a:ext cx="1368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Freeform 83"/>
                  <p:cNvSpPr/>
                  <p:nvPr/>
                </p:nvSpPr>
                <p:spPr>
                  <a:xfrm>
                    <a:off x="8555760" y="48060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84"/>
                  <p:cNvSpPr/>
                  <p:nvPr/>
                </p:nvSpPr>
                <p:spPr>
                  <a:xfrm>
                    <a:off x="8431920" y="54756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Freeform 85"/>
                  <p:cNvSpPr/>
                  <p:nvPr/>
                </p:nvSpPr>
                <p:spPr>
                  <a:xfrm>
                    <a:off x="8295480" y="526680"/>
                    <a:ext cx="5904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Freeform 86"/>
                  <p:cNvSpPr/>
                  <p:nvPr/>
                </p:nvSpPr>
                <p:spPr>
                  <a:xfrm>
                    <a:off x="8276040" y="436320"/>
                    <a:ext cx="6984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87"/>
                  <p:cNvSpPr/>
                  <p:nvPr/>
                </p:nvSpPr>
                <p:spPr>
                  <a:xfrm>
                    <a:off x="8293680" y="502920"/>
                    <a:ext cx="244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Freeform 88"/>
                  <p:cNvSpPr/>
                  <p:nvPr/>
                </p:nvSpPr>
                <p:spPr>
                  <a:xfrm>
                    <a:off x="8244720" y="509400"/>
                    <a:ext cx="3312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Freeform 89"/>
                  <p:cNvSpPr/>
                  <p:nvPr/>
                </p:nvSpPr>
                <p:spPr>
                  <a:xfrm>
                    <a:off x="8620200" y="133200"/>
                    <a:ext cx="30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90"/>
                  <p:cNvSpPr/>
                  <p:nvPr/>
                </p:nvSpPr>
                <p:spPr>
                  <a:xfrm>
                    <a:off x="7763040" y="87120"/>
                    <a:ext cx="76428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Freeform 91"/>
                  <p:cNvSpPr/>
                  <p:nvPr/>
                </p:nvSpPr>
                <p:spPr>
                  <a:xfrm>
                    <a:off x="8527680" y="77760"/>
                    <a:ext cx="34920" cy="87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Freeform 92"/>
                  <p:cNvSpPr/>
                  <p:nvPr/>
                </p:nvSpPr>
                <p:spPr>
                  <a:xfrm>
                    <a:off x="8506800" y="152280"/>
                    <a:ext cx="10332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93"/>
                  <p:cNvSpPr/>
                  <p:nvPr/>
                </p:nvSpPr>
                <p:spPr>
                  <a:xfrm>
                    <a:off x="8397000" y="203040"/>
                    <a:ext cx="13932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Freeform 94"/>
                  <p:cNvSpPr/>
                  <p:nvPr/>
                </p:nvSpPr>
                <p:spPr>
                  <a:xfrm>
                    <a:off x="8489160" y="236160"/>
                    <a:ext cx="1044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Freeform 95"/>
                  <p:cNvSpPr/>
                  <p:nvPr/>
                </p:nvSpPr>
                <p:spPr>
                  <a:xfrm>
                    <a:off x="7707240" y="313920"/>
                    <a:ext cx="60552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96"/>
                  <p:cNvSpPr/>
                  <p:nvPr/>
                </p:nvSpPr>
                <p:spPr>
                  <a:xfrm>
                    <a:off x="7813800" y="520560"/>
                    <a:ext cx="3312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Freeform 97"/>
                  <p:cNvSpPr/>
                  <p:nvPr/>
                </p:nvSpPr>
                <p:spPr>
                  <a:xfrm>
                    <a:off x="8278200" y="364680"/>
                    <a:ext cx="3096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Freeform 98"/>
                  <p:cNvSpPr/>
                  <p:nvPr/>
                </p:nvSpPr>
                <p:spPr>
                  <a:xfrm>
                    <a:off x="8367120" y="345960"/>
                    <a:ext cx="151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99"/>
                  <p:cNvSpPr/>
                  <p:nvPr/>
                </p:nvSpPr>
                <p:spPr>
                  <a:xfrm>
                    <a:off x="6743520" y="196560"/>
                    <a:ext cx="75564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Freeform 100"/>
                  <p:cNvSpPr/>
                  <p:nvPr/>
                </p:nvSpPr>
                <p:spPr>
                  <a:xfrm>
                    <a:off x="7036200" y="407880"/>
                    <a:ext cx="284400" cy="350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Freeform 101"/>
                  <p:cNvSpPr/>
                  <p:nvPr/>
                </p:nvSpPr>
                <p:spPr>
                  <a:xfrm>
                    <a:off x="7537680" y="666360"/>
                    <a:ext cx="1224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102"/>
                  <p:cNvSpPr/>
                  <p:nvPr/>
                </p:nvSpPr>
                <p:spPr>
                  <a:xfrm>
                    <a:off x="7521840" y="485640"/>
                    <a:ext cx="1548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Freeform 103"/>
                  <p:cNvSpPr/>
                  <p:nvPr/>
                </p:nvSpPr>
                <p:spPr>
                  <a:xfrm>
                    <a:off x="6832440" y="263160"/>
                    <a:ext cx="432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Freeform 104"/>
                  <p:cNvSpPr/>
                  <p:nvPr/>
                </p:nvSpPr>
                <p:spPr>
                  <a:xfrm>
                    <a:off x="7359480" y="117360"/>
                    <a:ext cx="51516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105"/>
                  <p:cNvSpPr/>
                  <p:nvPr/>
                </p:nvSpPr>
                <p:spPr>
                  <a:xfrm>
                    <a:off x="7008480" y="88560"/>
                    <a:ext cx="10317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Freeform 106"/>
                  <p:cNvSpPr/>
                  <p:nvPr/>
                </p:nvSpPr>
                <p:spPr>
                  <a:xfrm>
                    <a:off x="7218000" y="14436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Freeform 107"/>
                  <p:cNvSpPr/>
                  <p:nvPr/>
                </p:nvSpPr>
                <p:spPr>
                  <a:xfrm>
                    <a:off x="7192080" y="166320"/>
                    <a:ext cx="3312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8"/>
                  <p:cNvSpPr/>
                  <p:nvPr/>
                </p:nvSpPr>
                <p:spPr>
                  <a:xfrm>
                    <a:off x="7300080" y="231480"/>
                    <a:ext cx="5580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Freeform 109"/>
                  <p:cNvSpPr/>
                  <p:nvPr/>
                </p:nvSpPr>
                <p:spPr>
                  <a:xfrm>
                    <a:off x="7396200" y="230040"/>
                    <a:ext cx="3096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Freeform 110"/>
                  <p:cNvSpPr/>
                  <p:nvPr/>
                </p:nvSpPr>
                <p:spPr>
                  <a:xfrm>
                    <a:off x="7139880" y="164880"/>
                    <a:ext cx="241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" name="Group 111"/>
              <p:cNvGrpSpPr/>
              <p:nvPr/>
            </p:nvGrpSpPr>
            <p:grpSpPr>
              <a:xfrm>
                <a:off x="1356120" y="88560"/>
                <a:ext cx="8210520" cy="663840"/>
                <a:chOff x="1356120" y="88560"/>
                <a:chExt cx="8210520" cy="663840"/>
              </a:xfrm>
            </p:grpSpPr>
            <p:sp>
              <p:nvSpPr>
                <p:cNvPr id="107" name="Line 112"/>
                <p:cNvSpPr/>
                <p:nvPr/>
              </p:nvSpPr>
              <p:spPr>
                <a:xfrm>
                  <a:off x="1356120" y="439560"/>
                  <a:ext cx="821052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Line 113"/>
                <p:cNvSpPr/>
                <p:nvPr/>
              </p:nvSpPr>
              <p:spPr>
                <a:xfrm>
                  <a:off x="17539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Line 114"/>
                <p:cNvSpPr/>
                <p:nvPr/>
              </p:nvSpPr>
              <p:spPr>
                <a:xfrm>
                  <a:off x="21524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Line 115"/>
                <p:cNvSpPr/>
                <p:nvPr/>
              </p:nvSpPr>
              <p:spPr>
                <a:xfrm>
                  <a:off x="25502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Line 116"/>
                <p:cNvSpPr/>
                <p:nvPr/>
              </p:nvSpPr>
              <p:spPr>
                <a:xfrm>
                  <a:off x="29487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Line 117"/>
                <p:cNvSpPr/>
                <p:nvPr/>
              </p:nvSpPr>
              <p:spPr>
                <a:xfrm>
                  <a:off x="33465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Line 118"/>
                <p:cNvSpPr/>
                <p:nvPr/>
              </p:nvSpPr>
              <p:spPr>
                <a:xfrm>
                  <a:off x="37447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Line 119"/>
                <p:cNvSpPr/>
                <p:nvPr/>
              </p:nvSpPr>
              <p:spPr>
                <a:xfrm>
                  <a:off x="41428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Line 120"/>
                <p:cNvSpPr/>
                <p:nvPr/>
              </p:nvSpPr>
              <p:spPr>
                <a:xfrm>
                  <a:off x="45410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Line 121"/>
                <p:cNvSpPr/>
                <p:nvPr/>
              </p:nvSpPr>
              <p:spPr>
                <a:xfrm>
                  <a:off x="49395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Line 122"/>
                <p:cNvSpPr/>
                <p:nvPr/>
              </p:nvSpPr>
              <p:spPr>
                <a:xfrm>
                  <a:off x="53373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Line 123"/>
                <p:cNvSpPr/>
                <p:nvPr/>
              </p:nvSpPr>
              <p:spPr>
                <a:xfrm>
                  <a:off x="57358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Line 124"/>
                <p:cNvSpPr/>
                <p:nvPr/>
              </p:nvSpPr>
              <p:spPr>
                <a:xfrm>
                  <a:off x="61336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Line 125"/>
                <p:cNvSpPr/>
                <p:nvPr/>
              </p:nvSpPr>
              <p:spPr>
                <a:xfrm>
                  <a:off x="65318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Line 126"/>
                <p:cNvSpPr/>
                <p:nvPr/>
              </p:nvSpPr>
              <p:spPr>
                <a:xfrm>
                  <a:off x="693000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Line 127"/>
                <p:cNvSpPr/>
                <p:nvPr/>
              </p:nvSpPr>
              <p:spPr>
                <a:xfrm>
                  <a:off x="73281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Line 128"/>
                <p:cNvSpPr/>
                <p:nvPr/>
              </p:nvSpPr>
              <p:spPr>
                <a:xfrm>
                  <a:off x="77266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Line 129"/>
                <p:cNvSpPr/>
                <p:nvPr/>
              </p:nvSpPr>
              <p:spPr>
                <a:xfrm>
                  <a:off x="81244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Line 130"/>
                <p:cNvSpPr/>
                <p:nvPr/>
              </p:nvSpPr>
              <p:spPr>
                <a:xfrm>
                  <a:off x="85226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Line 131"/>
                <p:cNvSpPr/>
                <p:nvPr/>
              </p:nvSpPr>
              <p:spPr>
                <a:xfrm>
                  <a:off x="892080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132"/>
                <p:cNvSpPr/>
                <p:nvPr/>
              </p:nvSpPr>
              <p:spPr>
                <a:xfrm>
                  <a:off x="93189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Group 133"/>
              <p:cNvGrpSpPr/>
              <p:nvPr/>
            </p:nvGrpSpPr>
            <p:grpSpPr>
              <a:xfrm>
                <a:off x="2072160" y="85680"/>
                <a:ext cx="6450120" cy="671040"/>
                <a:chOff x="2072160" y="85680"/>
                <a:chExt cx="6450120" cy="671040"/>
              </a:xfrm>
            </p:grpSpPr>
            <p:sp>
              <p:nvSpPr>
                <p:cNvPr id="129" name="Line 134"/>
                <p:cNvSpPr/>
                <p:nvPr/>
              </p:nvSpPr>
              <p:spPr>
                <a:xfrm>
                  <a:off x="4939200" y="8712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135"/>
                <p:cNvSpPr/>
                <p:nvPr/>
              </p:nvSpPr>
              <p:spPr>
                <a:xfrm>
                  <a:off x="5151960" y="439560"/>
                  <a:ext cx="1220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Line 136"/>
                <p:cNvSpPr/>
                <p:nvPr/>
              </p:nvSpPr>
              <p:spPr>
                <a:xfrm>
                  <a:off x="5337360" y="46800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Line 137"/>
                <p:cNvSpPr/>
                <p:nvPr/>
              </p:nvSpPr>
              <p:spPr>
                <a:xfrm>
                  <a:off x="5735520" y="62676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Line 138"/>
                <p:cNvSpPr/>
                <p:nvPr/>
              </p:nvSpPr>
              <p:spPr>
                <a:xfrm>
                  <a:off x="6930000" y="26496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139"/>
                <p:cNvSpPr/>
                <p:nvPr/>
              </p:nvSpPr>
              <p:spPr>
                <a:xfrm>
                  <a:off x="6765840" y="439560"/>
                  <a:ext cx="6076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140"/>
                <p:cNvSpPr/>
                <p:nvPr/>
              </p:nvSpPr>
              <p:spPr>
                <a:xfrm>
                  <a:off x="7328160" y="28692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Line 141"/>
                <p:cNvSpPr/>
                <p:nvPr/>
              </p:nvSpPr>
              <p:spPr>
                <a:xfrm flipV="1">
                  <a:off x="7331760" y="9000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Line 142"/>
                <p:cNvSpPr/>
                <p:nvPr/>
              </p:nvSpPr>
              <p:spPr>
                <a:xfrm flipV="1">
                  <a:off x="7725960" y="8676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Line 143"/>
                <p:cNvSpPr/>
                <p:nvPr/>
              </p:nvSpPr>
              <p:spPr>
                <a:xfrm flipH="1">
                  <a:off x="7988400" y="439560"/>
                  <a:ext cx="136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Line 144"/>
                <p:cNvSpPr/>
                <p:nvPr/>
              </p:nvSpPr>
              <p:spPr>
                <a:xfrm flipH="1">
                  <a:off x="7757640" y="43956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Line 145"/>
                <p:cNvSpPr/>
                <p:nvPr/>
              </p:nvSpPr>
              <p:spPr>
                <a:xfrm flipV="1">
                  <a:off x="8124480" y="8676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Line 146"/>
                <p:cNvSpPr/>
                <p:nvPr/>
              </p:nvSpPr>
              <p:spPr>
                <a:xfrm>
                  <a:off x="8522280" y="65844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147"/>
                <p:cNvSpPr/>
                <p:nvPr/>
              </p:nvSpPr>
              <p:spPr>
                <a:xfrm>
                  <a:off x="3744720" y="9324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148"/>
                <p:cNvSpPr/>
                <p:nvPr/>
              </p:nvSpPr>
              <p:spPr>
                <a:xfrm>
                  <a:off x="3346560" y="8856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Line 149"/>
                <p:cNvSpPr/>
                <p:nvPr/>
              </p:nvSpPr>
              <p:spPr>
                <a:xfrm flipH="1">
                  <a:off x="3301200" y="439560"/>
                  <a:ext cx="1188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150"/>
                <p:cNvSpPr/>
                <p:nvPr/>
              </p:nvSpPr>
              <p:spPr>
                <a:xfrm>
                  <a:off x="3067200" y="439560"/>
                  <a:ext cx="1047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151"/>
                <p:cNvSpPr/>
                <p:nvPr/>
              </p:nvSpPr>
              <p:spPr>
                <a:xfrm flipH="1">
                  <a:off x="2718000" y="439560"/>
                  <a:ext cx="143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Line 152"/>
                <p:cNvSpPr/>
                <p:nvPr/>
              </p:nvSpPr>
              <p:spPr>
                <a:xfrm>
                  <a:off x="2072160" y="439560"/>
                  <a:ext cx="607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153"/>
                <p:cNvSpPr/>
                <p:nvPr/>
              </p:nvSpPr>
              <p:spPr>
                <a:xfrm>
                  <a:off x="2546640" y="28404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154"/>
                <p:cNvSpPr/>
                <p:nvPr/>
              </p:nvSpPr>
              <p:spPr>
                <a:xfrm>
                  <a:off x="2152440" y="31248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155"/>
                <p:cNvSpPr/>
                <p:nvPr/>
              </p:nvSpPr>
              <p:spPr>
                <a:xfrm flipV="1">
                  <a:off x="2550240" y="8568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156"/>
                <p:cNvSpPr/>
                <p:nvPr/>
              </p:nvSpPr>
              <p:spPr>
                <a:xfrm>
                  <a:off x="2948400" y="19800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157"/>
                <p:cNvSpPr/>
                <p:nvPr/>
              </p:nvSpPr>
              <p:spPr>
                <a:xfrm flipV="1">
                  <a:off x="2948400" y="8856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158"/>
                <p:cNvSpPr/>
                <p:nvPr/>
              </p:nvSpPr>
              <p:spPr>
                <a:xfrm>
                  <a:off x="7417080" y="437760"/>
                  <a:ext cx="1396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54" name="Picture 159" descr="earth"/>
            <p:cNvPicPr/>
            <p:nvPr/>
          </p:nvPicPr>
          <p:blipFill>
            <a:blip r:embed="rId2"/>
            <a:stretch/>
          </p:blipFill>
          <p:spPr>
            <a:xfrm>
              <a:off x="250920" y="0"/>
              <a:ext cx="981360" cy="83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5" name="Picture 163" descr="rda_lgo_rgb"/>
          <p:cNvPicPr/>
          <p:nvPr/>
        </p:nvPicPr>
        <p:blipFill>
          <a:blip r:embed="rId3"/>
          <a:stretch/>
        </p:blipFill>
        <p:spPr>
          <a:xfrm>
            <a:off x="0" y="0"/>
            <a:ext cx="243036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grpSp>
        <p:nvGrpSpPr>
          <p:cNvPr id="193" name="Group 7"/>
          <p:cNvGrpSpPr/>
          <p:nvPr/>
        </p:nvGrpSpPr>
        <p:grpSpPr>
          <a:xfrm>
            <a:off x="250920" y="0"/>
            <a:ext cx="9336960" cy="831600"/>
            <a:chOff x="250920" y="0"/>
            <a:chExt cx="9336960" cy="831600"/>
          </a:xfrm>
        </p:grpSpPr>
        <p:grpSp>
          <p:nvGrpSpPr>
            <p:cNvPr id="194" name="Group 8"/>
            <p:cNvGrpSpPr/>
            <p:nvPr/>
          </p:nvGrpSpPr>
          <p:grpSpPr>
            <a:xfrm>
              <a:off x="1122120" y="77760"/>
              <a:ext cx="8465760" cy="685800"/>
              <a:chOff x="1122120" y="77760"/>
              <a:chExt cx="8465760" cy="685800"/>
            </a:xfrm>
          </p:grpSpPr>
          <p:sp>
            <p:nvSpPr>
              <p:cNvPr id="195" name="Freeform 9"/>
              <p:cNvSpPr/>
              <p:nvPr/>
            </p:nvSpPr>
            <p:spPr>
              <a:xfrm>
                <a:off x="1122120" y="77760"/>
                <a:ext cx="8465760" cy="685800"/>
              </a:xfrm>
              <a:prstGeom prst="pie">
                <a:avLst/>
              </a:pr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6" name="Group 10"/>
              <p:cNvGrpSpPr/>
              <p:nvPr/>
            </p:nvGrpSpPr>
            <p:grpSpPr>
              <a:xfrm>
                <a:off x="2049480" y="77760"/>
                <a:ext cx="6682320" cy="680400"/>
                <a:chOff x="2049480" y="77760"/>
                <a:chExt cx="6682320" cy="680400"/>
              </a:xfrm>
            </p:grpSpPr>
            <p:grpSp>
              <p:nvGrpSpPr>
                <p:cNvPr id="197" name="Group 11"/>
                <p:cNvGrpSpPr/>
                <p:nvPr/>
              </p:nvGrpSpPr>
              <p:grpSpPr>
                <a:xfrm>
                  <a:off x="2049480" y="79200"/>
                  <a:ext cx="3855240" cy="677160"/>
                  <a:chOff x="2049480" y="79200"/>
                  <a:chExt cx="3855240" cy="677160"/>
                </a:xfrm>
              </p:grpSpPr>
              <p:sp>
                <p:nvSpPr>
                  <p:cNvPr id="198" name="Freeform 12"/>
                  <p:cNvSpPr/>
                  <p:nvPr/>
                </p:nvSpPr>
                <p:spPr>
                  <a:xfrm>
                    <a:off x="4207680" y="700920"/>
                    <a:ext cx="1224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Freeform 13"/>
                  <p:cNvSpPr/>
                  <p:nvPr/>
                </p:nvSpPr>
                <p:spPr>
                  <a:xfrm>
                    <a:off x="4338360" y="743760"/>
                    <a:ext cx="1548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Freeform 14"/>
                  <p:cNvSpPr/>
                  <p:nvPr/>
                </p:nvSpPr>
                <p:spPr>
                  <a:xfrm>
                    <a:off x="3968640" y="673920"/>
                    <a:ext cx="223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Freeform 15"/>
                  <p:cNvSpPr/>
                  <p:nvPr/>
                </p:nvSpPr>
                <p:spPr>
                  <a:xfrm>
                    <a:off x="3701160" y="694800"/>
                    <a:ext cx="1872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16"/>
                  <p:cNvSpPr/>
                  <p:nvPr/>
                </p:nvSpPr>
                <p:spPr>
                  <a:xfrm>
                    <a:off x="3620880" y="704160"/>
                    <a:ext cx="4896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Freeform 17"/>
                  <p:cNvSpPr/>
                  <p:nvPr/>
                </p:nvSpPr>
                <p:spPr>
                  <a:xfrm>
                    <a:off x="3570120" y="702720"/>
                    <a:ext cx="5040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Freeform 18"/>
                  <p:cNvSpPr/>
                  <p:nvPr/>
                </p:nvSpPr>
                <p:spPr>
                  <a:xfrm>
                    <a:off x="3296160" y="564480"/>
                    <a:ext cx="26352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19"/>
                  <p:cNvSpPr/>
                  <p:nvPr/>
                </p:nvSpPr>
                <p:spPr>
                  <a:xfrm>
                    <a:off x="3457080" y="555120"/>
                    <a:ext cx="11664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Freeform 20"/>
                  <p:cNvSpPr/>
                  <p:nvPr/>
                </p:nvSpPr>
                <p:spPr>
                  <a:xfrm>
                    <a:off x="3570120" y="604080"/>
                    <a:ext cx="817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Freeform 21"/>
                  <p:cNvSpPr/>
                  <p:nvPr/>
                </p:nvSpPr>
                <p:spPr>
                  <a:xfrm>
                    <a:off x="3566520" y="629640"/>
                    <a:ext cx="558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22"/>
                  <p:cNvSpPr/>
                  <p:nvPr/>
                </p:nvSpPr>
                <p:spPr>
                  <a:xfrm>
                    <a:off x="3661200" y="599400"/>
                    <a:ext cx="273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Freeform 23"/>
                  <p:cNvSpPr/>
                  <p:nvPr/>
                </p:nvSpPr>
                <p:spPr>
                  <a:xfrm>
                    <a:off x="3668040" y="648720"/>
                    <a:ext cx="345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Freeform 24"/>
                  <p:cNvSpPr/>
                  <p:nvPr/>
                </p:nvSpPr>
                <p:spPr>
                  <a:xfrm>
                    <a:off x="3704760" y="624960"/>
                    <a:ext cx="4500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Freeform 25"/>
                  <p:cNvSpPr/>
                  <p:nvPr/>
                </p:nvSpPr>
                <p:spPr>
                  <a:xfrm>
                    <a:off x="3717000" y="637560"/>
                    <a:ext cx="21276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26"/>
                  <p:cNvSpPr/>
                  <p:nvPr/>
                </p:nvSpPr>
                <p:spPr>
                  <a:xfrm>
                    <a:off x="3902040" y="646920"/>
                    <a:ext cx="5760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Freeform 27"/>
                  <p:cNvSpPr/>
                  <p:nvPr/>
                </p:nvSpPr>
                <p:spPr>
                  <a:xfrm>
                    <a:off x="4024440" y="559800"/>
                    <a:ext cx="1368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28"/>
                  <p:cNvSpPr/>
                  <p:nvPr/>
                </p:nvSpPr>
                <p:spPr>
                  <a:xfrm>
                    <a:off x="4097520" y="623160"/>
                    <a:ext cx="1872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Freeform 29"/>
                  <p:cNvSpPr/>
                  <p:nvPr/>
                </p:nvSpPr>
                <p:spPr>
                  <a:xfrm>
                    <a:off x="3862080" y="48024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30"/>
                  <p:cNvSpPr/>
                  <p:nvPr/>
                </p:nvSpPr>
                <p:spPr>
                  <a:xfrm>
                    <a:off x="3738240" y="54720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Freeform 31"/>
                  <p:cNvSpPr/>
                  <p:nvPr/>
                </p:nvSpPr>
                <p:spPr>
                  <a:xfrm>
                    <a:off x="3601800" y="526320"/>
                    <a:ext cx="5904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Freeform 32"/>
                  <p:cNvSpPr/>
                  <p:nvPr/>
                </p:nvSpPr>
                <p:spPr>
                  <a:xfrm>
                    <a:off x="3582360" y="435960"/>
                    <a:ext cx="6948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33"/>
                  <p:cNvSpPr/>
                  <p:nvPr/>
                </p:nvSpPr>
                <p:spPr>
                  <a:xfrm>
                    <a:off x="3600000" y="502560"/>
                    <a:ext cx="244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Freeform 34"/>
                  <p:cNvSpPr/>
                  <p:nvPr/>
                </p:nvSpPr>
                <p:spPr>
                  <a:xfrm>
                    <a:off x="3551040" y="509040"/>
                    <a:ext cx="3276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35"/>
                  <p:cNvSpPr/>
                  <p:nvPr/>
                </p:nvSpPr>
                <p:spPr>
                  <a:xfrm>
                    <a:off x="5382720" y="472320"/>
                    <a:ext cx="522000" cy="284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Freeform 36"/>
                  <p:cNvSpPr/>
                  <p:nvPr/>
                </p:nvSpPr>
                <p:spPr>
                  <a:xfrm>
                    <a:off x="4691160" y="80280"/>
                    <a:ext cx="733320" cy="4489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37"/>
                  <p:cNvSpPr/>
                  <p:nvPr/>
                </p:nvSpPr>
                <p:spPr>
                  <a:xfrm>
                    <a:off x="4465800" y="402480"/>
                    <a:ext cx="2628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Freeform 38"/>
                  <p:cNvSpPr/>
                  <p:nvPr/>
                </p:nvSpPr>
                <p:spPr>
                  <a:xfrm>
                    <a:off x="4444920" y="393120"/>
                    <a:ext cx="2808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Freeform 39"/>
                  <p:cNvSpPr/>
                  <p:nvPr/>
                </p:nvSpPr>
                <p:spPr>
                  <a:xfrm>
                    <a:off x="5292000" y="340560"/>
                    <a:ext cx="127440" cy="52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40"/>
                  <p:cNvSpPr/>
                  <p:nvPr/>
                </p:nvSpPr>
                <p:spPr>
                  <a:xfrm>
                    <a:off x="5426640" y="383400"/>
                    <a:ext cx="102600" cy="2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Freeform 41"/>
                  <p:cNvSpPr/>
                  <p:nvPr/>
                </p:nvSpPr>
                <p:spPr>
                  <a:xfrm>
                    <a:off x="5372280" y="396360"/>
                    <a:ext cx="41760" cy="2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Freeform 42"/>
                  <p:cNvSpPr/>
                  <p:nvPr/>
                </p:nvSpPr>
                <p:spPr>
                  <a:xfrm>
                    <a:off x="5344200" y="327960"/>
                    <a:ext cx="28080" cy="280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Freeform 43"/>
                  <p:cNvSpPr/>
                  <p:nvPr/>
                </p:nvSpPr>
                <p:spPr>
                  <a:xfrm>
                    <a:off x="5566320" y="413640"/>
                    <a:ext cx="3276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Freeform 44"/>
                  <p:cNvSpPr/>
                  <p:nvPr/>
                </p:nvSpPr>
                <p:spPr>
                  <a:xfrm>
                    <a:off x="4974480" y="88200"/>
                    <a:ext cx="357840" cy="64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45"/>
                  <p:cNvSpPr/>
                  <p:nvPr/>
                </p:nvSpPr>
                <p:spPr>
                  <a:xfrm>
                    <a:off x="4658040" y="86760"/>
                    <a:ext cx="3315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Freeform 46"/>
                  <p:cNvSpPr/>
                  <p:nvPr/>
                </p:nvSpPr>
                <p:spPr>
                  <a:xfrm>
                    <a:off x="3926520" y="132840"/>
                    <a:ext cx="30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47"/>
                  <p:cNvSpPr/>
                  <p:nvPr/>
                </p:nvSpPr>
                <p:spPr>
                  <a:xfrm>
                    <a:off x="3070800" y="86760"/>
                    <a:ext cx="76140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Freeform 48"/>
                  <p:cNvSpPr/>
                  <p:nvPr/>
                </p:nvSpPr>
                <p:spPr>
                  <a:xfrm>
                    <a:off x="3834000" y="79200"/>
                    <a:ext cx="34560" cy="86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Freeform 49"/>
                  <p:cNvSpPr/>
                  <p:nvPr/>
                </p:nvSpPr>
                <p:spPr>
                  <a:xfrm>
                    <a:off x="3813120" y="151920"/>
                    <a:ext cx="1026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Freeform 50"/>
                  <p:cNvSpPr/>
                  <p:nvPr/>
                </p:nvSpPr>
                <p:spPr>
                  <a:xfrm>
                    <a:off x="3702960" y="202680"/>
                    <a:ext cx="13968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51"/>
                  <p:cNvSpPr/>
                  <p:nvPr/>
                </p:nvSpPr>
                <p:spPr>
                  <a:xfrm>
                    <a:off x="3795480" y="235800"/>
                    <a:ext cx="1044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52"/>
                  <p:cNvSpPr/>
                  <p:nvPr/>
                </p:nvSpPr>
                <p:spPr>
                  <a:xfrm>
                    <a:off x="3013200" y="313560"/>
                    <a:ext cx="60588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Freeform 53"/>
                  <p:cNvSpPr/>
                  <p:nvPr/>
                </p:nvSpPr>
                <p:spPr>
                  <a:xfrm>
                    <a:off x="3119760" y="520200"/>
                    <a:ext cx="3312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54"/>
                  <p:cNvSpPr/>
                  <p:nvPr/>
                </p:nvSpPr>
                <p:spPr>
                  <a:xfrm>
                    <a:off x="3584160" y="364320"/>
                    <a:ext cx="3132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Freeform 55"/>
                  <p:cNvSpPr/>
                  <p:nvPr/>
                </p:nvSpPr>
                <p:spPr>
                  <a:xfrm>
                    <a:off x="3673080" y="345600"/>
                    <a:ext cx="154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Freeform 56"/>
                  <p:cNvSpPr/>
                  <p:nvPr/>
                </p:nvSpPr>
                <p:spPr>
                  <a:xfrm>
                    <a:off x="2049480" y="194760"/>
                    <a:ext cx="75600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57"/>
                  <p:cNvSpPr/>
                  <p:nvPr/>
                </p:nvSpPr>
                <p:spPr>
                  <a:xfrm>
                    <a:off x="2342880" y="405720"/>
                    <a:ext cx="284400" cy="350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58"/>
                  <p:cNvSpPr/>
                  <p:nvPr/>
                </p:nvSpPr>
                <p:spPr>
                  <a:xfrm>
                    <a:off x="2844000" y="666000"/>
                    <a:ext cx="1224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Freeform 59"/>
                  <p:cNvSpPr/>
                  <p:nvPr/>
                </p:nvSpPr>
                <p:spPr>
                  <a:xfrm>
                    <a:off x="2828160" y="485280"/>
                    <a:ext cx="1548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Freeform 60"/>
                  <p:cNvSpPr/>
                  <p:nvPr/>
                </p:nvSpPr>
                <p:spPr>
                  <a:xfrm>
                    <a:off x="2138400" y="262800"/>
                    <a:ext cx="432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61"/>
                  <p:cNvSpPr/>
                  <p:nvPr/>
                </p:nvSpPr>
                <p:spPr>
                  <a:xfrm>
                    <a:off x="2665800" y="117000"/>
                    <a:ext cx="51480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Freeform 62"/>
                  <p:cNvSpPr/>
                  <p:nvPr/>
                </p:nvSpPr>
                <p:spPr>
                  <a:xfrm>
                    <a:off x="2315160" y="88200"/>
                    <a:ext cx="10317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Freeform 63"/>
                  <p:cNvSpPr/>
                  <p:nvPr/>
                </p:nvSpPr>
                <p:spPr>
                  <a:xfrm>
                    <a:off x="2524320" y="14400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4"/>
                  <p:cNvSpPr/>
                  <p:nvPr/>
                </p:nvSpPr>
                <p:spPr>
                  <a:xfrm>
                    <a:off x="2498400" y="165960"/>
                    <a:ext cx="3276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Freeform 65"/>
                  <p:cNvSpPr/>
                  <p:nvPr/>
                </p:nvSpPr>
                <p:spPr>
                  <a:xfrm>
                    <a:off x="2606400" y="231120"/>
                    <a:ext cx="5580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66"/>
                  <p:cNvSpPr/>
                  <p:nvPr/>
                </p:nvSpPr>
                <p:spPr>
                  <a:xfrm>
                    <a:off x="2702520" y="229680"/>
                    <a:ext cx="3096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67"/>
                  <p:cNvSpPr/>
                  <p:nvPr/>
                </p:nvSpPr>
                <p:spPr>
                  <a:xfrm>
                    <a:off x="2445840" y="164520"/>
                    <a:ext cx="244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Group 68"/>
                <p:cNvGrpSpPr/>
                <p:nvPr/>
              </p:nvGrpSpPr>
              <p:grpSpPr>
                <a:xfrm>
                  <a:off x="6743520" y="77760"/>
                  <a:ext cx="1988280" cy="680400"/>
                  <a:chOff x="6743520" y="77760"/>
                  <a:chExt cx="1988280" cy="680400"/>
                </a:xfrm>
              </p:grpSpPr>
              <p:sp>
                <p:nvSpPr>
                  <p:cNvPr id="255" name="Freeform 69"/>
                  <p:cNvSpPr/>
                  <p:nvPr/>
                </p:nvSpPr>
                <p:spPr>
                  <a:xfrm>
                    <a:off x="8662320" y="674280"/>
                    <a:ext cx="223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Freeform 70"/>
                  <p:cNvSpPr/>
                  <p:nvPr/>
                </p:nvSpPr>
                <p:spPr>
                  <a:xfrm>
                    <a:off x="8394840" y="695160"/>
                    <a:ext cx="190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Freeform 71"/>
                  <p:cNvSpPr/>
                  <p:nvPr/>
                </p:nvSpPr>
                <p:spPr>
                  <a:xfrm>
                    <a:off x="8314560" y="704520"/>
                    <a:ext cx="4896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Freeform 72"/>
                  <p:cNvSpPr/>
                  <p:nvPr/>
                </p:nvSpPr>
                <p:spPr>
                  <a:xfrm>
                    <a:off x="8264160" y="703080"/>
                    <a:ext cx="5004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73"/>
                  <p:cNvSpPr/>
                  <p:nvPr/>
                </p:nvSpPr>
                <p:spPr>
                  <a:xfrm>
                    <a:off x="7989840" y="564840"/>
                    <a:ext cx="26352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74"/>
                  <p:cNvSpPr/>
                  <p:nvPr/>
                </p:nvSpPr>
                <p:spPr>
                  <a:xfrm>
                    <a:off x="8150760" y="555480"/>
                    <a:ext cx="11664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Freeform 75"/>
                  <p:cNvSpPr/>
                  <p:nvPr/>
                </p:nvSpPr>
                <p:spPr>
                  <a:xfrm>
                    <a:off x="8264160" y="604440"/>
                    <a:ext cx="817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76"/>
                  <p:cNvSpPr/>
                  <p:nvPr/>
                </p:nvSpPr>
                <p:spPr>
                  <a:xfrm>
                    <a:off x="8260560" y="630000"/>
                    <a:ext cx="558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Freeform 77"/>
                  <p:cNvSpPr/>
                  <p:nvPr/>
                </p:nvSpPr>
                <p:spPr>
                  <a:xfrm>
                    <a:off x="8354880" y="599760"/>
                    <a:ext cx="2736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78"/>
                  <p:cNvSpPr/>
                  <p:nvPr/>
                </p:nvSpPr>
                <p:spPr>
                  <a:xfrm>
                    <a:off x="8361720" y="649080"/>
                    <a:ext cx="349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Freeform 79"/>
                  <p:cNvSpPr/>
                  <p:nvPr/>
                </p:nvSpPr>
                <p:spPr>
                  <a:xfrm>
                    <a:off x="8398440" y="625320"/>
                    <a:ext cx="4536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Freeform 80"/>
                  <p:cNvSpPr/>
                  <p:nvPr/>
                </p:nvSpPr>
                <p:spPr>
                  <a:xfrm>
                    <a:off x="8410680" y="637920"/>
                    <a:ext cx="21276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Freeform 81"/>
                  <p:cNvSpPr/>
                  <p:nvPr/>
                </p:nvSpPr>
                <p:spPr>
                  <a:xfrm>
                    <a:off x="8595720" y="647280"/>
                    <a:ext cx="5760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Freeform 82"/>
                  <p:cNvSpPr/>
                  <p:nvPr/>
                </p:nvSpPr>
                <p:spPr>
                  <a:xfrm>
                    <a:off x="8718120" y="560160"/>
                    <a:ext cx="1368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Freeform 83"/>
                  <p:cNvSpPr/>
                  <p:nvPr/>
                </p:nvSpPr>
                <p:spPr>
                  <a:xfrm>
                    <a:off x="8555760" y="48060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Freeform 84"/>
                  <p:cNvSpPr/>
                  <p:nvPr/>
                </p:nvSpPr>
                <p:spPr>
                  <a:xfrm>
                    <a:off x="8431920" y="547560"/>
                    <a:ext cx="136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Freeform 85"/>
                  <p:cNvSpPr/>
                  <p:nvPr/>
                </p:nvSpPr>
                <p:spPr>
                  <a:xfrm>
                    <a:off x="8295480" y="526680"/>
                    <a:ext cx="5904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Freeform 86"/>
                  <p:cNvSpPr/>
                  <p:nvPr/>
                </p:nvSpPr>
                <p:spPr>
                  <a:xfrm>
                    <a:off x="8276040" y="436320"/>
                    <a:ext cx="6984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Freeform 87"/>
                  <p:cNvSpPr/>
                  <p:nvPr/>
                </p:nvSpPr>
                <p:spPr>
                  <a:xfrm>
                    <a:off x="8293680" y="502920"/>
                    <a:ext cx="244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Freeform 88"/>
                  <p:cNvSpPr/>
                  <p:nvPr/>
                </p:nvSpPr>
                <p:spPr>
                  <a:xfrm>
                    <a:off x="8244720" y="509400"/>
                    <a:ext cx="3312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Freeform 89"/>
                  <p:cNvSpPr/>
                  <p:nvPr/>
                </p:nvSpPr>
                <p:spPr>
                  <a:xfrm>
                    <a:off x="8620200" y="133200"/>
                    <a:ext cx="30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90"/>
                  <p:cNvSpPr/>
                  <p:nvPr/>
                </p:nvSpPr>
                <p:spPr>
                  <a:xfrm>
                    <a:off x="7763040" y="87120"/>
                    <a:ext cx="76428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Freeform 91"/>
                  <p:cNvSpPr/>
                  <p:nvPr/>
                </p:nvSpPr>
                <p:spPr>
                  <a:xfrm>
                    <a:off x="8527680" y="77760"/>
                    <a:ext cx="34920" cy="87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Freeform 92"/>
                  <p:cNvSpPr/>
                  <p:nvPr/>
                </p:nvSpPr>
                <p:spPr>
                  <a:xfrm>
                    <a:off x="8506800" y="152280"/>
                    <a:ext cx="10332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Freeform 93"/>
                  <p:cNvSpPr/>
                  <p:nvPr/>
                </p:nvSpPr>
                <p:spPr>
                  <a:xfrm>
                    <a:off x="8397000" y="203040"/>
                    <a:ext cx="13932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94"/>
                  <p:cNvSpPr/>
                  <p:nvPr/>
                </p:nvSpPr>
                <p:spPr>
                  <a:xfrm>
                    <a:off x="8489160" y="236160"/>
                    <a:ext cx="1044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Freeform 95"/>
                  <p:cNvSpPr/>
                  <p:nvPr/>
                </p:nvSpPr>
                <p:spPr>
                  <a:xfrm>
                    <a:off x="7707240" y="313920"/>
                    <a:ext cx="60552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Freeform 96"/>
                  <p:cNvSpPr/>
                  <p:nvPr/>
                </p:nvSpPr>
                <p:spPr>
                  <a:xfrm>
                    <a:off x="7813800" y="520560"/>
                    <a:ext cx="3312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97"/>
                  <p:cNvSpPr/>
                  <p:nvPr/>
                </p:nvSpPr>
                <p:spPr>
                  <a:xfrm>
                    <a:off x="8278200" y="364680"/>
                    <a:ext cx="3096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98"/>
                  <p:cNvSpPr/>
                  <p:nvPr/>
                </p:nvSpPr>
                <p:spPr>
                  <a:xfrm>
                    <a:off x="8367120" y="345960"/>
                    <a:ext cx="151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9"/>
                  <p:cNvSpPr/>
                  <p:nvPr/>
                </p:nvSpPr>
                <p:spPr>
                  <a:xfrm>
                    <a:off x="6743520" y="196560"/>
                    <a:ext cx="75564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Freeform 100"/>
                  <p:cNvSpPr/>
                  <p:nvPr/>
                </p:nvSpPr>
                <p:spPr>
                  <a:xfrm>
                    <a:off x="7036200" y="407880"/>
                    <a:ext cx="284400" cy="350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101"/>
                  <p:cNvSpPr/>
                  <p:nvPr/>
                </p:nvSpPr>
                <p:spPr>
                  <a:xfrm>
                    <a:off x="7537680" y="666360"/>
                    <a:ext cx="1224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Freeform 102"/>
                  <p:cNvSpPr/>
                  <p:nvPr/>
                </p:nvSpPr>
                <p:spPr>
                  <a:xfrm>
                    <a:off x="7521840" y="485640"/>
                    <a:ext cx="1548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Freeform 103"/>
                  <p:cNvSpPr/>
                  <p:nvPr/>
                </p:nvSpPr>
                <p:spPr>
                  <a:xfrm>
                    <a:off x="6832440" y="263160"/>
                    <a:ext cx="432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Freeform 104"/>
                  <p:cNvSpPr/>
                  <p:nvPr/>
                </p:nvSpPr>
                <p:spPr>
                  <a:xfrm>
                    <a:off x="7359480" y="117360"/>
                    <a:ext cx="51516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105"/>
                  <p:cNvSpPr/>
                  <p:nvPr/>
                </p:nvSpPr>
                <p:spPr>
                  <a:xfrm>
                    <a:off x="7008480" y="88560"/>
                    <a:ext cx="10317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06"/>
                  <p:cNvSpPr/>
                  <p:nvPr/>
                </p:nvSpPr>
                <p:spPr>
                  <a:xfrm>
                    <a:off x="7218000" y="14436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Freeform 107"/>
                  <p:cNvSpPr/>
                  <p:nvPr/>
                </p:nvSpPr>
                <p:spPr>
                  <a:xfrm>
                    <a:off x="7192080" y="166320"/>
                    <a:ext cx="3312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Freeform 108"/>
                  <p:cNvSpPr/>
                  <p:nvPr/>
                </p:nvSpPr>
                <p:spPr>
                  <a:xfrm>
                    <a:off x="7300080" y="231480"/>
                    <a:ext cx="5580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Freeform 109"/>
                  <p:cNvSpPr/>
                  <p:nvPr/>
                </p:nvSpPr>
                <p:spPr>
                  <a:xfrm>
                    <a:off x="7396200" y="230040"/>
                    <a:ext cx="3096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Freeform 110"/>
                  <p:cNvSpPr/>
                  <p:nvPr/>
                </p:nvSpPr>
                <p:spPr>
                  <a:xfrm>
                    <a:off x="7139880" y="164880"/>
                    <a:ext cx="241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7" name="Group 111"/>
              <p:cNvGrpSpPr/>
              <p:nvPr/>
            </p:nvGrpSpPr>
            <p:grpSpPr>
              <a:xfrm>
                <a:off x="1356120" y="88560"/>
                <a:ext cx="8210520" cy="663840"/>
                <a:chOff x="1356120" y="88560"/>
                <a:chExt cx="8210520" cy="663840"/>
              </a:xfrm>
            </p:grpSpPr>
            <p:sp>
              <p:nvSpPr>
                <p:cNvPr id="298" name="Line 112"/>
                <p:cNvSpPr/>
                <p:nvPr/>
              </p:nvSpPr>
              <p:spPr>
                <a:xfrm>
                  <a:off x="1356120" y="439560"/>
                  <a:ext cx="821052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Line 113"/>
                <p:cNvSpPr/>
                <p:nvPr/>
              </p:nvSpPr>
              <p:spPr>
                <a:xfrm>
                  <a:off x="17539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Line 114"/>
                <p:cNvSpPr/>
                <p:nvPr/>
              </p:nvSpPr>
              <p:spPr>
                <a:xfrm>
                  <a:off x="21524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Line 115"/>
                <p:cNvSpPr/>
                <p:nvPr/>
              </p:nvSpPr>
              <p:spPr>
                <a:xfrm>
                  <a:off x="25502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Line 116"/>
                <p:cNvSpPr/>
                <p:nvPr/>
              </p:nvSpPr>
              <p:spPr>
                <a:xfrm>
                  <a:off x="29487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Line 117"/>
                <p:cNvSpPr/>
                <p:nvPr/>
              </p:nvSpPr>
              <p:spPr>
                <a:xfrm>
                  <a:off x="33465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18"/>
                <p:cNvSpPr/>
                <p:nvPr/>
              </p:nvSpPr>
              <p:spPr>
                <a:xfrm>
                  <a:off x="374472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Line 119"/>
                <p:cNvSpPr/>
                <p:nvPr/>
              </p:nvSpPr>
              <p:spPr>
                <a:xfrm>
                  <a:off x="41428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Line 120"/>
                <p:cNvSpPr/>
                <p:nvPr/>
              </p:nvSpPr>
              <p:spPr>
                <a:xfrm>
                  <a:off x="45410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Line 121"/>
                <p:cNvSpPr/>
                <p:nvPr/>
              </p:nvSpPr>
              <p:spPr>
                <a:xfrm>
                  <a:off x="49395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22"/>
                <p:cNvSpPr/>
                <p:nvPr/>
              </p:nvSpPr>
              <p:spPr>
                <a:xfrm>
                  <a:off x="53373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23"/>
                <p:cNvSpPr/>
                <p:nvPr/>
              </p:nvSpPr>
              <p:spPr>
                <a:xfrm>
                  <a:off x="57358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Line 124"/>
                <p:cNvSpPr/>
                <p:nvPr/>
              </p:nvSpPr>
              <p:spPr>
                <a:xfrm>
                  <a:off x="61336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Line 125"/>
                <p:cNvSpPr/>
                <p:nvPr/>
              </p:nvSpPr>
              <p:spPr>
                <a:xfrm>
                  <a:off x="65318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26"/>
                <p:cNvSpPr/>
                <p:nvPr/>
              </p:nvSpPr>
              <p:spPr>
                <a:xfrm>
                  <a:off x="693000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27"/>
                <p:cNvSpPr/>
                <p:nvPr/>
              </p:nvSpPr>
              <p:spPr>
                <a:xfrm>
                  <a:off x="73281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28"/>
                <p:cNvSpPr/>
                <p:nvPr/>
              </p:nvSpPr>
              <p:spPr>
                <a:xfrm>
                  <a:off x="77266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29"/>
                <p:cNvSpPr/>
                <p:nvPr/>
              </p:nvSpPr>
              <p:spPr>
                <a:xfrm>
                  <a:off x="812448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30"/>
                <p:cNvSpPr/>
                <p:nvPr/>
              </p:nvSpPr>
              <p:spPr>
                <a:xfrm>
                  <a:off x="852264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Line 131"/>
                <p:cNvSpPr/>
                <p:nvPr/>
              </p:nvSpPr>
              <p:spPr>
                <a:xfrm>
                  <a:off x="892080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Line 132"/>
                <p:cNvSpPr/>
                <p:nvPr/>
              </p:nvSpPr>
              <p:spPr>
                <a:xfrm>
                  <a:off x="9318960" y="8856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Group 133"/>
              <p:cNvGrpSpPr/>
              <p:nvPr/>
            </p:nvGrpSpPr>
            <p:grpSpPr>
              <a:xfrm>
                <a:off x="2072160" y="85680"/>
                <a:ext cx="6450120" cy="671040"/>
                <a:chOff x="2072160" y="85680"/>
                <a:chExt cx="6450120" cy="671040"/>
              </a:xfrm>
            </p:grpSpPr>
            <p:sp>
              <p:nvSpPr>
                <p:cNvPr id="320" name="Line 134"/>
                <p:cNvSpPr/>
                <p:nvPr/>
              </p:nvSpPr>
              <p:spPr>
                <a:xfrm>
                  <a:off x="4939200" y="8712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Line 135"/>
                <p:cNvSpPr/>
                <p:nvPr/>
              </p:nvSpPr>
              <p:spPr>
                <a:xfrm>
                  <a:off x="5151960" y="439560"/>
                  <a:ext cx="1220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Line 136"/>
                <p:cNvSpPr/>
                <p:nvPr/>
              </p:nvSpPr>
              <p:spPr>
                <a:xfrm>
                  <a:off x="5337360" y="46800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37"/>
                <p:cNvSpPr/>
                <p:nvPr/>
              </p:nvSpPr>
              <p:spPr>
                <a:xfrm>
                  <a:off x="5735520" y="62676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Line 138"/>
                <p:cNvSpPr/>
                <p:nvPr/>
              </p:nvSpPr>
              <p:spPr>
                <a:xfrm>
                  <a:off x="6930000" y="26496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Line 139"/>
                <p:cNvSpPr/>
                <p:nvPr/>
              </p:nvSpPr>
              <p:spPr>
                <a:xfrm>
                  <a:off x="6765840" y="439560"/>
                  <a:ext cx="6076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40"/>
                <p:cNvSpPr/>
                <p:nvPr/>
              </p:nvSpPr>
              <p:spPr>
                <a:xfrm>
                  <a:off x="7328160" y="28692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Line 141"/>
                <p:cNvSpPr/>
                <p:nvPr/>
              </p:nvSpPr>
              <p:spPr>
                <a:xfrm flipV="1">
                  <a:off x="7331760" y="9000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Line 142"/>
                <p:cNvSpPr/>
                <p:nvPr/>
              </p:nvSpPr>
              <p:spPr>
                <a:xfrm flipV="1">
                  <a:off x="7725960" y="8676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Line 143"/>
                <p:cNvSpPr/>
                <p:nvPr/>
              </p:nvSpPr>
              <p:spPr>
                <a:xfrm flipH="1">
                  <a:off x="7988400" y="439560"/>
                  <a:ext cx="136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Line 144"/>
                <p:cNvSpPr/>
                <p:nvPr/>
              </p:nvSpPr>
              <p:spPr>
                <a:xfrm flipH="1">
                  <a:off x="7757640" y="43956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Line 145"/>
                <p:cNvSpPr/>
                <p:nvPr/>
              </p:nvSpPr>
              <p:spPr>
                <a:xfrm flipV="1">
                  <a:off x="8124480" y="8676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Line 146"/>
                <p:cNvSpPr/>
                <p:nvPr/>
              </p:nvSpPr>
              <p:spPr>
                <a:xfrm>
                  <a:off x="8522280" y="65844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47"/>
                <p:cNvSpPr/>
                <p:nvPr/>
              </p:nvSpPr>
              <p:spPr>
                <a:xfrm>
                  <a:off x="3744720" y="9324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Line 148"/>
                <p:cNvSpPr/>
                <p:nvPr/>
              </p:nvSpPr>
              <p:spPr>
                <a:xfrm>
                  <a:off x="3346560" y="8856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Line 149"/>
                <p:cNvSpPr/>
                <p:nvPr/>
              </p:nvSpPr>
              <p:spPr>
                <a:xfrm flipH="1">
                  <a:off x="3301200" y="439560"/>
                  <a:ext cx="1188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Line 150"/>
                <p:cNvSpPr/>
                <p:nvPr/>
              </p:nvSpPr>
              <p:spPr>
                <a:xfrm>
                  <a:off x="3067200" y="439560"/>
                  <a:ext cx="1047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Line 151"/>
                <p:cNvSpPr/>
                <p:nvPr/>
              </p:nvSpPr>
              <p:spPr>
                <a:xfrm flipH="1">
                  <a:off x="2718000" y="439560"/>
                  <a:ext cx="143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Line 152"/>
                <p:cNvSpPr/>
                <p:nvPr/>
              </p:nvSpPr>
              <p:spPr>
                <a:xfrm>
                  <a:off x="2072160" y="439560"/>
                  <a:ext cx="607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Line 153"/>
                <p:cNvSpPr/>
                <p:nvPr/>
              </p:nvSpPr>
              <p:spPr>
                <a:xfrm>
                  <a:off x="2546640" y="28404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Line 154"/>
                <p:cNvSpPr/>
                <p:nvPr/>
              </p:nvSpPr>
              <p:spPr>
                <a:xfrm>
                  <a:off x="2152440" y="31248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Line 155"/>
                <p:cNvSpPr/>
                <p:nvPr/>
              </p:nvSpPr>
              <p:spPr>
                <a:xfrm flipV="1">
                  <a:off x="2550240" y="8568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Line 156"/>
                <p:cNvSpPr/>
                <p:nvPr/>
              </p:nvSpPr>
              <p:spPr>
                <a:xfrm>
                  <a:off x="2948400" y="19800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57"/>
                <p:cNvSpPr/>
                <p:nvPr/>
              </p:nvSpPr>
              <p:spPr>
                <a:xfrm flipV="1">
                  <a:off x="2948400" y="8856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58"/>
                <p:cNvSpPr/>
                <p:nvPr/>
              </p:nvSpPr>
              <p:spPr>
                <a:xfrm>
                  <a:off x="7417080" y="437760"/>
                  <a:ext cx="1396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45" name="Picture 159" descr="earth"/>
            <p:cNvPicPr/>
            <p:nvPr/>
          </p:nvPicPr>
          <p:blipFill>
            <a:blip r:embed="rId2"/>
            <a:stretch/>
          </p:blipFill>
          <p:spPr>
            <a:xfrm>
              <a:off x="250920" y="0"/>
              <a:ext cx="981360" cy="83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6" name="Picture 163" descr="rda_lgo_rgb"/>
          <p:cNvPicPr/>
          <p:nvPr/>
        </p:nvPicPr>
        <p:blipFill>
          <a:blip r:embed="rId3"/>
          <a:stretch/>
        </p:blipFill>
        <p:spPr>
          <a:xfrm>
            <a:off x="0" y="0"/>
            <a:ext cx="2430360" cy="10796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02920" y="1604520"/>
            <a:ext cx="9052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Group 2"/>
          <p:cNvGrpSpPr/>
          <p:nvPr/>
        </p:nvGrpSpPr>
        <p:grpSpPr>
          <a:xfrm>
            <a:off x="0" y="-19080"/>
            <a:ext cx="10058040" cy="6876720"/>
            <a:chOff x="0" y="-19080"/>
            <a:chExt cx="10058040" cy="6876720"/>
          </a:xfrm>
        </p:grpSpPr>
        <p:sp>
          <p:nvSpPr>
            <p:cNvPr id="385" name="Rectangle 3"/>
            <p:cNvSpPr/>
            <p:nvPr/>
          </p:nvSpPr>
          <p:spPr>
            <a:xfrm>
              <a:off x="3387960" y="1770120"/>
              <a:ext cx="667008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Group 4"/>
            <p:cNvGrpSpPr/>
            <p:nvPr/>
          </p:nvGrpSpPr>
          <p:grpSpPr>
            <a:xfrm>
              <a:off x="0" y="-19080"/>
              <a:ext cx="10058040" cy="1827360"/>
              <a:chOff x="0" y="-19080"/>
              <a:chExt cx="10058040" cy="1827360"/>
            </a:xfrm>
          </p:grpSpPr>
          <p:sp>
            <p:nvSpPr>
              <p:cNvPr id="387" name="Freeform 5"/>
              <p:cNvSpPr/>
              <p:nvPr/>
            </p:nvSpPr>
            <p:spPr>
              <a:xfrm>
                <a:off x="1806480" y="223560"/>
                <a:ext cx="825156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8" name="Group 6"/>
              <p:cNvGrpSpPr/>
              <p:nvPr/>
            </p:nvGrpSpPr>
            <p:grpSpPr>
              <a:xfrm>
                <a:off x="2283480" y="203400"/>
                <a:ext cx="7414560" cy="1603080"/>
                <a:chOff x="2283480" y="203400"/>
                <a:chExt cx="7414560" cy="1603080"/>
              </a:xfrm>
            </p:grpSpPr>
            <p:sp>
              <p:nvSpPr>
                <p:cNvPr id="389" name="Freeform 7"/>
                <p:cNvSpPr/>
                <p:nvPr/>
              </p:nvSpPr>
              <p:spPr>
                <a:xfrm>
                  <a:off x="6433560" y="1674720"/>
                  <a:ext cx="2412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8"/>
                <p:cNvSpPr/>
                <p:nvPr/>
              </p:nvSpPr>
              <p:spPr>
                <a:xfrm>
                  <a:off x="6685920" y="1775880"/>
                  <a:ext cx="2988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9"/>
                <p:cNvSpPr/>
                <p:nvPr/>
              </p:nvSpPr>
              <p:spPr>
                <a:xfrm>
                  <a:off x="5973840" y="1611720"/>
                  <a:ext cx="4428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10"/>
                <p:cNvSpPr/>
                <p:nvPr/>
              </p:nvSpPr>
              <p:spPr>
                <a:xfrm>
                  <a:off x="5460840" y="1660680"/>
                  <a:ext cx="3564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11"/>
                <p:cNvSpPr/>
                <p:nvPr/>
              </p:nvSpPr>
              <p:spPr>
                <a:xfrm>
                  <a:off x="5306040" y="1682280"/>
                  <a:ext cx="9288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12"/>
                <p:cNvSpPr/>
                <p:nvPr/>
              </p:nvSpPr>
              <p:spPr>
                <a:xfrm>
                  <a:off x="5208840" y="1679040"/>
                  <a:ext cx="972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13"/>
                <p:cNvSpPr/>
                <p:nvPr/>
              </p:nvSpPr>
              <p:spPr>
                <a:xfrm>
                  <a:off x="4681440" y="1352160"/>
                  <a:ext cx="50688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Freeform 14"/>
                <p:cNvSpPr/>
                <p:nvPr/>
              </p:nvSpPr>
              <p:spPr>
                <a:xfrm>
                  <a:off x="4989240" y="1329120"/>
                  <a:ext cx="22500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15"/>
                <p:cNvSpPr/>
                <p:nvPr/>
              </p:nvSpPr>
              <p:spPr>
                <a:xfrm>
                  <a:off x="5208840" y="1445760"/>
                  <a:ext cx="1573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16"/>
                <p:cNvSpPr/>
                <p:nvPr/>
              </p:nvSpPr>
              <p:spPr>
                <a:xfrm>
                  <a:off x="5201640" y="1505880"/>
                  <a:ext cx="10728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Freeform 17"/>
                <p:cNvSpPr/>
                <p:nvPr/>
              </p:nvSpPr>
              <p:spPr>
                <a:xfrm>
                  <a:off x="5383440" y="1434960"/>
                  <a:ext cx="5292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18"/>
                <p:cNvSpPr/>
                <p:nvPr/>
              </p:nvSpPr>
              <p:spPr>
                <a:xfrm>
                  <a:off x="5396400" y="1551600"/>
                  <a:ext cx="6696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19"/>
                <p:cNvSpPr/>
                <p:nvPr/>
              </p:nvSpPr>
              <p:spPr>
                <a:xfrm>
                  <a:off x="5466600" y="1495080"/>
                  <a:ext cx="8712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20"/>
                <p:cNvSpPr/>
                <p:nvPr/>
              </p:nvSpPr>
              <p:spPr>
                <a:xfrm>
                  <a:off x="5491080" y="1525680"/>
                  <a:ext cx="40932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21"/>
                <p:cNvSpPr/>
                <p:nvPr/>
              </p:nvSpPr>
              <p:spPr>
                <a:xfrm>
                  <a:off x="5846040" y="1547280"/>
                  <a:ext cx="11160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22"/>
                <p:cNvSpPr/>
                <p:nvPr/>
              </p:nvSpPr>
              <p:spPr>
                <a:xfrm>
                  <a:off x="6081120" y="1341360"/>
                  <a:ext cx="2664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23"/>
                <p:cNvSpPr/>
                <p:nvPr/>
              </p:nvSpPr>
              <p:spPr>
                <a:xfrm>
                  <a:off x="6222960" y="1491840"/>
                  <a:ext cx="3708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Freeform 24"/>
                <p:cNvSpPr/>
                <p:nvPr/>
              </p:nvSpPr>
              <p:spPr>
                <a:xfrm>
                  <a:off x="5768640" y="1154160"/>
                  <a:ext cx="270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25"/>
                <p:cNvSpPr/>
                <p:nvPr/>
              </p:nvSpPr>
              <p:spPr>
                <a:xfrm>
                  <a:off x="5531040" y="1310760"/>
                  <a:ext cx="270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26"/>
                <p:cNvSpPr/>
                <p:nvPr/>
              </p:nvSpPr>
              <p:spPr>
                <a:xfrm>
                  <a:off x="5268600" y="1261800"/>
                  <a:ext cx="11448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27"/>
                <p:cNvSpPr/>
                <p:nvPr/>
              </p:nvSpPr>
              <p:spPr>
                <a:xfrm>
                  <a:off x="5231880" y="1047960"/>
                  <a:ext cx="13428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Freeform 28"/>
                <p:cNvSpPr/>
                <p:nvPr/>
              </p:nvSpPr>
              <p:spPr>
                <a:xfrm>
                  <a:off x="5265720" y="1206360"/>
                  <a:ext cx="460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29"/>
                <p:cNvSpPr/>
                <p:nvPr/>
              </p:nvSpPr>
              <p:spPr>
                <a:xfrm>
                  <a:off x="5171400" y="1221480"/>
                  <a:ext cx="6444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30"/>
                <p:cNvSpPr/>
                <p:nvPr/>
              </p:nvSpPr>
              <p:spPr>
                <a:xfrm>
                  <a:off x="8694000" y="1134000"/>
                  <a:ext cx="100404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31"/>
                <p:cNvSpPr/>
                <p:nvPr/>
              </p:nvSpPr>
              <p:spPr>
                <a:xfrm>
                  <a:off x="7364880" y="206280"/>
                  <a:ext cx="140940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32"/>
                <p:cNvSpPr/>
                <p:nvPr/>
              </p:nvSpPr>
              <p:spPr>
                <a:xfrm>
                  <a:off x="6930720" y="969840"/>
                  <a:ext cx="5112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33"/>
                <p:cNvSpPr/>
                <p:nvPr/>
              </p:nvSpPr>
              <p:spPr>
                <a:xfrm>
                  <a:off x="6890400" y="946800"/>
                  <a:ext cx="5436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34"/>
                <p:cNvSpPr/>
                <p:nvPr/>
              </p:nvSpPr>
              <p:spPr>
                <a:xfrm>
                  <a:off x="8519400" y="822240"/>
                  <a:ext cx="24480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35"/>
                <p:cNvSpPr/>
                <p:nvPr/>
              </p:nvSpPr>
              <p:spPr>
                <a:xfrm>
                  <a:off x="8778600" y="923400"/>
                  <a:ext cx="197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36"/>
                <p:cNvSpPr/>
                <p:nvPr/>
              </p:nvSpPr>
              <p:spPr>
                <a:xfrm>
                  <a:off x="8673840" y="954360"/>
                  <a:ext cx="799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37"/>
                <p:cNvSpPr/>
                <p:nvPr/>
              </p:nvSpPr>
              <p:spPr>
                <a:xfrm>
                  <a:off x="8620920" y="793080"/>
                  <a:ext cx="5292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38"/>
                <p:cNvSpPr/>
                <p:nvPr/>
              </p:nvSpPr>
              <p:spPr>
                <a:xfrm>
                  <a:off x="9046440" y="995760"/>
                  <a:ext cx="6408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39"/>
                <p:cNvSpPr/>
                <p:nvPr/>
              </p:nvSpPr>
              <p:spPr>
                <a:xfrm>
                  <a:off x="7908840" y="226080"/>
                  <a:ext cx="68760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40"/>
                <p:cNvSpPr/>
                <p:nvPr/>
              </p:nvSpPr>
              <p:spPr>
                <a:xfrm>
                  <a:off x="7300080" y="221760"/>
                  <a:ext cx="63900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41"/>
                <p:cNvSpPr/>
                <p:nvPr/>
              </p:nvSpPr>
              <p:spPr>
                <a:xfrm>
                  <a:off x="5893560" y="330840"/>
                  <a:ext cx="597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42"/>
                <p:cNvSpPr/>
                <p:nvPr/>
              </p:nvSpPr>
              <p:spPr>
                <a:xfrm>
                  <a:off x="4247280" y="221760"/>
                  <a:ext cx="14641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Freeform 43"/>
                <p:cNvSpPr/>
                <p:nvPr/>
              </p:nvSpPr>
              <p:spPr>
                <a:xfrm>
                  <a:off x="5715720" y="203400"/>
                  <a:ext cx="6696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44"/>
                <p:cNvSpPr/>
                <p:nvPr/>
              </p:nvSpPr>
              <p:spPr>
                <a:xfrm>
                  <a:off x="5675760" y="375120"/>
                  <a:ext cx="197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45"/>
                <p:cNvSpPr/>
                <p:nvPr/>
              </p:nvSpPr>
              <p:spPr>
                <a:xfrm>
                  <a:off x="5463720" y="496800"/>
                  <a:ext cx="26784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46"/>
                <p:cNvSpPr/>
                <p:nvPr/>
              </p:nvSpPr>
              <p:spPr>
                <a:xfrm>
                  <a:off x="5641560" y="574920"/>
                  <a:ext cx="198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Freeform 47"/>
                <p:cNvSpPr/>
                <p:nvPr/>
              </p:nvSpPr>
              <p:spPr>
                <a:xfrm>
                  <a:off x="4137120" y="759240"/>
                  <a:ext cx="116460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48"/>
                <p:cNvSpPr/>
                <p:nvPr/>
              </p:nvSpPr>
              <p:spPr>
                <a:xfrm>
                  <a:off x="4341960" y="1247760"/>
                  <a:ext cx="6444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49"/>
                <p:cNvSpPr/>
                <p:nvPr/>
              </p:nvSpPr>
              <p:spPr>
                <a:xfrm>
                  <a:off x="5235840" y="879120"/>
                  <a:ext cx="597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Freeform 50"/>
                <p:cNvSpPr/>
                <p:nvPr/>
              </p:nvSpPr>
              <p:spPr>
                <a:xfrm>
                  <a:off x="5406480" y="834480"/>
                  <a:ext cx="2988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51"/>
                <p:cNvSpPr/>
                <p:nvPr/>
              </p:nvSpPr>
              <p:spPr>
                <a:xfrm>
                  <a:off x="2283480" y="476640"/>
                  <a:ext cx="145404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52"/>
                <p:cNvSpPr/>
                <p:nvPr/>
              </p:nvSpPr>
              <p:spPr>
                <a:xfrm>
                  <a:off x="2847960" y="977400"/>
                  <a:ext cx="54684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53"/>
                <p:cNvSpPr/>
                <p:nvPr/>
              </p:nvSpPr>
              <p:spPr>
                <a:xfrm>
                  <a:off x="3812040" y="1593360"/>
                  <a:ext cx="2268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54"/>
                <p:cNvSpPr/>
                <p:nvPr/>
              </p:nvSpPr>
              <p:spPr>
                <a:xfrm>
                  <a:off x="3781800" y="1164960"/>
                  <a:ext cx="2988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55"/>
                <p:cNvSpPr/>
                <p:nvPr/>
              </p:nvSpPr>
              <p:spPr>
                <a:xfrm>
                  <a:off x="2455560" y="639720"/>
                  <a:ext cx="828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56"/>
                <p:cNvSpPr/>
                <p:nvPr/>
              </p:nvSpPr>
              <p:spPr>
                <a:xfrm>
                  <a:off x="3469680" y="293760"/>
                  <a:ext cx="98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57"/>
                <p:cNvSpPr/>
                <p:nvPr/>
              </p:nvSpPr>
              <p:spPr>
                <a:xfrm>
                  <a:off x="2793240" y="226080"/>
                  <a:ext cx="198540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58"/>
                <p:cNvSpPr/>
                <p:nvPr/>
              </p:nvSpPr>
              <p:spPr>
                <a:xfrm>
                  <a:off x="3197520" y="356760"/>
                  <a:ext cx="4284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59"/>
                <p:cNvSpPr/>
                <p:nvPr/>
              </p:nvSpPr>
              <p:spPr>
                <a:xfrm>
                  <a:off x="3145680" y="408960"/>
                  <a:ext cx="6444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Freeform 60"/>
                <p:cNvSpPr/>
                <p:nvPr/>
              </p:nvSpPr>
              <p:spPr>
                <a:xfrm>
                  <a:off x="3354840" y="564480"/>
                  <a:ext cx="1072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61"/>
                <p:cNvSpPr/>
                <p:nvPr/>
              </p:nvSpPr>
              <p:spPr>
                <a:xfrm>
                  <a:off x="3539880" y="559440"/>
                  <a:ext cx="597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62"/>
                <p:cNvSpPr/>
                <p:nvPr/>
              </p:nvSpPr>
              <p:spPr>
                <a:xfrm>
                  <a:off x="3045600" y="406080"/>
                  <a:ext cx="4716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5" name="Group 63"/>
              <p:cNvGrpSpPr/>
              <p:nvPr/>
            </p:nvGrpSpPr>
            <p:grpSpPr>
              <a:xfrm>
                <a:off x="1816560" y="-19080"/>
                <a:ext cx="8220600" cy="641880"/>
                <a:chOff x="1816560" y="-19080"/>
                <a:chExt cx="8220600" cy="641880"/>
              </a:xfrm>
            </p:grpSpPr>
            <p:sp>
              <p:nvSpPr>
                <p:cNvPr id="446" name="Line 64"/>
                <p:cNvSpPr/>
                <p:nvPr/>
              </p:nvSpPr>
              <p:spPr>
                <a:xfrm>
                  <a:off x="1816560" y="320040"/>
                  <a:ext cx="8220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Line 65"/>
                <p:cNvSpPr/>
                <p:nvPr/>
              </p:nvSpPr>
              <p:spPr>
                <a:xfrm>
                  <a:off x="248112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Line 66"/>
                <p:cNvSpPr/>
                <p:nvPr/>
              </p:nvSpPr>
              <p:spPr>
                <a:xfrm>
                  <a:off x="3246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Line 67"/>
                <p:cNvSpPr/>
                <p:nvPr/>
              </p:nvSpPr>
              <p:spPr>
                <a:xfrm>
                  <a:off x="40125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Line 68"/>
                <p:cNvSpPr/>
                <p:nvPr/>
              </p:nvSpPr>
              <p:spPr>
                <a:xfrm>
                  <a:off x="477792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Line 69"/>
                <p:cNvSpPr/>
                <p:nvPr/>
              </p:nvSpPr>
              <p:spPr>
                <a:xfrm>
                  <a:off x="5543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Line 70"/>
                <p:cNvSpPr/>
                <p:nvPr/>
              </p:nvSpPr>
              <p:spPr>
                <a:xfrm>
                  <a:off x="63093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Line 71"/>
                <p:cNvSpPr/>
                <p:nvPr/>
              </p:nvSpPr>
              <p:spPr>
                <a:xfrm>
                  <a:off x="707472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Line 72"/>
                <p:cNvSpPr/>
                <p:nvPr/>
              </p:nvSpPr>
              <p:spPr>
                <a:xfrm>
                  <a:off x="78411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Line 73"/>
                <p:cNvSpPr/>
                <p:nvPr/>
              </p:nvSpPr>
              <p:spPr>
                <a:xfrm>
                  <a:off x="860652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Line 74"/>
                <p:cNvSpPr/>
                <p:nvPr/>
              </p:nvSpPr>
              <p:spPr>
                <a:xfrm>
                  <a:off x="93726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" name="Group 75"/>
              <p:cNvGrpSpPr/>
              <p:nvPr/>
            </p:nvGrpSpPr>
            <p:grpSpPr>
              <a:xfrm>
                <a:off x="0" y="217440"/>
                <a:ext cx="3005640" cy="1582200"/>
                <a:chOff x="0" y="217440"/>
                <a:chExt cx="3005640" cy="1582200"/>
              </a:xfrm>
            </p:grpSpPr>
            <p:sp>
              <p:nvSpPr>
                <p:cNvPr id="458" name="Line 76"/>
                <p:cNvSpPr/>
                <p:nvPr/>
              </p:nvSpPr>
              <p:spPr>
                <a:xfrm>
                  <a:off x="2352240" y="220680"/>
                  <a:ext cx="0" cy="531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Line 77"/>
                <p:cNvSpPr/>
                <p:nvPr/>
              </p:nvSpPr>
              <p:spPr>
                <a:xfrm>
                  <a:off x="2526840" y="1051560"/>
                  <a:ext cx="99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Line 78"/>
                <p:cNvSpPr/>
                <p:nvPr/>
              </p:nvSpPr>
              <p:spPr>
                <a:xfrm>
                  <a:off x="2678760" y="111852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Line 79"/>
                <p:cNvSpPr/>
                <p:nvPr/>
              </p:nvSpPr>
              <p:spPr>
                <a:xfrm>
                  <a:off x="3005640" y="149292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Line 80"/>
                <p:cNvSpPr/>
                <p:nvPr/>
              </p:nvSpPr>
              <p:spPr>
                <a:xfrm>
                  <a:off x="1371960" y="235800"/>
                  <a:ext cx="0" cy="231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Line 81"/>
                <p:cNvSpPr/>
                <p:nvPr/>
              </p:nvSpPr>
              <p:spPr>
                <a:xfrm>
                  <a:off x="1045440" y="223920"/>
                  <a:ext cx="0" cy="1261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Line 82"/>
                <p:cNvSpPr/>
                <p:nvPr/>
              </p:nvSpPr>
              <p:spPr>
                <a:xfrm flipH="1">
                  <a:off x="1008360" y="1051560"/>
                  <a:ext cx="972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Line 83"/>
                <p:cNvSpPr/>
                <p:nvPr/>
              </p:nvSpPr>
              <p:spPr>
                <a:xfrm>
                  <a:off x="816120" y="1051560"/>
                  <a:ext cx="860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Line 84"/>
                <p:cNvSpPr/>
                <p:nvPr/>
              </p:nvSpPr>
              <p:spPr>
                <a:xfrm flipH="1">
                  <a:off x="529560" y="1051560"/>
                  <a:ext cx="117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Line 85"/>
                <p:cNvSpPr/>
                <p:nvPr/>
              </p:nvSpPr>
              <p:spPr>
                <a:xfrm>
                  <a:off x="0" y="1051560"/>
                  <a:ext cx="498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Line 86"/>
                <p:cNvSpPr/>
                <p:nvPr/>
              </p:nvSpPr>
              <p:spPr>
                <a:xfrm>
                  <a:off x="389160" y="684720"/>
                  <a:ext cx="0" cy="111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Line 87"/>
                <p:cNvSpPr/>
                <p:nvPr/>
              </p:nvSpPr>
              <p:spPr>
                <a:xfrm>
                  <a:off x="65880" y="752040"/>
                  <a:ext cx="0" cy="583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Line 88"/>
                <p:cNvSpPr/>
                <p:nvPr/>
              </p:nvSpPr>
              <p:spPr>
                <a:xfrm flipV="1">
                  <a:off x="392400" y="21744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Line 89"/>
                <p:cNvSpPr/>
                <p:nvPr/>
              </p:nvSpPr>
              <p:spPr>
                <a:xfrm>
                  <a:off x="718920" y="482760"/>
                  <a:ext cx="0" cy="358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Line 90"/>
                <p:cNvSpPr/>
                <p:nvPr/>
              </p:nvSpPr>
              <p:spPr>
                <a:xfrm flipV="1">
                  <a:off x="718920" y="22392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73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2287800" y="2627640"/>
              <a:ext cx="988200" cy="986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4" name="Picture 98" descr="rda_lgo_rgb"/>
          <p:cNvPicPr/>
          <p:nvPr/>
        </p:nvPicPr>
        <p:blipFill>
          <a:blip r:embed="rId3"/>
          <a:stretch/>
        </p:blipFill>
        <p:spPr>
          <a:xfrm>
            <a:off x="3687840" y="762120"/>
            <a:ext cx="2682720" cy="1190520"/>
          </a:xfrm>
          <a:prstGeom prst="rect">
            <a:avLst/>
          </a:prstGeom>
          <a:ln w="0">
            <a:noFill/>
          </a:ln>
        </p:spPr>
      </p:pic>
      <p:sp>
        <p:nvSpPr>
          <p:cNvPr id="475" name="Oval 99"/>
          <p:cNvSpPr/>
          <p:nvPr/>
        </p:nvSpPr>
        <p:spPr>
          <a:xfrm>
            <a:off x="587520" y="2438280"/>
            <a:ext cx="1172880" cy="106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714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1"/>
          </p:nvPr>
        </p:nvSpPr>
        <p:spPr>
          <a:xfrm>
            <a:off x="587520" y="6324480"/>
            <a:ext cx="209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"/>
          </p:nvPr>
        </p:nvSpPr>
        <p:spPr>
          <a:xfrm>
            <a:off x="3521160" y="6324480"/>
            <a:ext cx="3184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DA March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"/>
          </p:nvPr>
        </p:nvSpPr>
        <p:spPr>
          <a:xfrm>
            <a:off x="7543440" y="6324480"/>
            <a:ext cx="2095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B8CE-5208-43FB-B488-BA1348D6A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http://www.collectionscanada.ca/jsc/rda.html" TargetMode="External"/><Relationship Id="rId2" Type="http://schemas.openxmlformats.org/officeDocument/2006/relationships/hyperlink" Target="http://www.collectionscanada.ca/jsc/rda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2010960" y="4572000"/>
            <a:ext cx="7628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Christine Oliver et Daniel Parad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Avril 200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609120" y="1904760"/>
            <a:ext cx="899172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RDA</a:t>
            </a:r>
            <a:br>
              <a:rPr sz="4800"/>
            </a:b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Ressources : Description et Accès</a:t>
            </a:r>
            <a:endParaRPr b="1" lang="en-US" sz="48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1006560" y="1066680"/>
            <a:ext cx="1554120" cy="18288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3" descr=""/>
          <p:cNvPicPr/>
          <p:nvPr/>
        </p:nvPicPr>
        <p:blipFill>
          <a:blip r:embed="rId2"/>
          <a:stretch/>
        </p:blipFill>
        <p:spPr>
          <a:xfrm>
            <a:off x="2179800" y="2133720"/>
            <a:ext cx="1336680" cy="16761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" descr=""/>
          <p:cNvPicPr/>
          <p:nvPr/>
        </p:nvPicPr>
        <p:blipFill>
          <a:blip r:embed="rId3"/>
          <a:stretch/>
        </p:blipFill>
        <p:spPr>
          <a:xfrm>
            <a:off x="3352680" y="2895480"/>
            <a:ext cx="1467000" cy="18288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5791320" y="1447560"/>
            <a:ext cx="3512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visions des RCAA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8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6" name="Picture 6" descr="aacr"/>
          <p:cNvPicPr/>
          <p:nvPr/>
        </p:nvPicPr>
        <p:blipFill>
          <a:blip r:embed="rId4"/>
          <a:stretch/>
        </p:blipFill>
        <p:spPr>
          <a:xfrm>
            <a:off x="4610160" y="4114800"/>
            <a:ext cx="192708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Les révisions sont insuffisantes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54200" y="19051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nu vs support toujours non résol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é d’adapter les règles aux nouveaux supports et types de pub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hérence logique dé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évisions apportent solutions partielles uniqu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. ex. révision de la règle 0.2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CAA2</a:t>
            </a: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CAA3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 2004, planification d’une nouvelle édi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AACR3 : resource description and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fs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r la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jouter cadre théor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ir le contenu des règles RCAA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AutoShape 4"/>
          <p:cNvSpPr/>
          <p:nvPr/>
        </p:nvSpPr>
        <p:spPr>
          <a:xfrm>
            <a:off x="4495680" y="1295280"/>
            <a:ext cx="1276560" cy="486000"/>
          </a:xfrm>
          <a:prstGeom prst="rightArrow">
            <a:avLst>
              <a:gd name="adj1" fmla="val 50000"/>
              <a:gd name="adj2" fmla="val 65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55640" y="914040"/>
            <a:ext cx="854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3300"/>
                </a:solidFill>
                <a:latin typeface="Times New Roman"/>
              </a:rPr>
              <a:t>RCAA2</a:t>
            </a:r>
            <a:r>
              <a:rPr b="0" i="1" lang="en-US" sz="4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993300"/>
                </a:solidFill>
                <a:latin typeface="Times New Roman"/>
              </a:rPr>
              <a:t>RCAA3</a:t>
            </a:r>
            <a:r>
              <a:rPr b="0" i="1" lang="en-US" sz="4800" spc="-1" strike="noStrike">
                <a:solidFill>
                  <a:srgbClr val="993300"/>
                </a:solidFill>
                <a:latin typeface="Times New Roman"/>
              </a:rPr>
              <a:t>         </a:t>
            </a:r>
            <a:r>
              <a:rPr b="1" lang="en-US" sz="4800" spc="-1" strike="noStrike">
                <a:solidFill>
                  <a:srgbClr val="993300"/>
                </a:solidFill>
                <a:latin typeface="Times New Roman"/>
              </a:rPr>
              <a:t>RDA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5 : </a:t>
            </a: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décision d’aller plus loin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nt qu’à changer, autant le faire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complètement!</a:t>
            </a:r>
            <a:r>
              <a:rPr b="0" lang="en-US" sz="31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5800"/>
                </a:solidFill>
                <a:latin typeface="Tahoma"/>
              </a:rPr>
              <a:t>	</a:t>
            </a:r>
            <a:r>
              <a:rPr b="0" i="1" lang="en-US" sz="3100" spc="-1" strike="noStrike">
                <a:solidFill>
                  <a:srgbClr val="005800"/>
                </a:solidFill>
                <a:latin typeface="Tahoma"/>
              </a:rPr>
              <a:t>a new standard for resource description and access, designed for the digital worl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AutoShape 4"/>
          <p:cNvSpPr/>
          <p:nvPr/>
        </p:nvSpPr>
        <p:spPr>
          <a:xfrm>
            <a:off x="3200400" y="1295280"/>
            <a:ext cx="1074600" cy="486000"/>
          </a:xfrm>
          <a:prstGeom prst="rightArrow">
            <a:avLst>
              <a:gd name="adj1" fmla="val 50000"/>
              <a:gd name="adj2" fmla="val 55278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5"/>
          <p:cNvSpPr/>
          <p:nvPr/>
        </p:nvSpPr>
        <p:spPr>
          <a:xfrm>
            <a:off x="6477120" y="1295280"/>
            <a:ext cx="1074600" cy="486000"/>
          </a:xfrm>
          <a:prstGeom prst="rightArrow">
            <a:avLst>
              <a:gd name="adj1" fmla="val 50000"/>
              <a:gd name="adj2" fmla="val 55278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7" descr="rda_lgo_rgb"/>
          <p:cNvPicPr/>
          <p:nvPr/>
        </p:nvPicPr>
        <p:blipFill>
          <a:blip r:embed="rId1"/>
          <a:stretch/>
        </p:blipFill>
        <p:spPr>
          <a:xfrm>
            <a:off x="0" y="0"/>
            <a:ext cx="2430360" cy="10796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8" descr="rda_lgo_rgb"/>
          <p:cNvPicPr/>
          <p:nvPr/>
        </p:nvPicPr>
        <p:blipFill>
          <a:blip r:embed="rId2"/>
          <a:stretch/>
        </p:blipFill>
        <p:spPr>
          <a:xfrm>
            <a:off x="3276720" y="3581280"/>
            <a:ext cx="357336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DA remplace RCAA2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2005 : dernières modifications des RCAA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RCAA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utilisé partout à travers le mon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traduit en 24 lan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RDA conserve les meilleurs aspects des RCAA2 mais va au-del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DA continue de :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refléter l’usage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permettre l’échange de notice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être étroitement relié aux usages et conventions concernant la citation des 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  <a:ea typeface="Tahoma"/>
              </a:rPr>
              <a:t>œuvres et l’identification des auteur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aborder les problèmes de description et d’accès rencontrés dans des situations concrète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55640" y="914040"/>
            <a:ext cx="854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Qui développe et finance RDA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grpSp>
        <p:nvGrpSpPr>
          <p:cNvPr id="563" name="Organization Chart 3"/>
          <p:cNvGrpSpPr/>
          <p:nvPr/>
        </p:nvGrpSpPr>
        <p:grpSpPr>
          <a:xfrm>
            <a:off x="749160" y="2147760"/>
            <a:ext cx="8550360" cy="3184920"/>
            <a:chOff x="749160" y="2147760"/>
            <a:chExt cx="8550360" cy="3184920"/>
          </a:xfrm>
        </p:grpSpPr>
        <p:cxnSp>
          <p:nvCxnSpPr>
            <p:cNvPr id="564" name="_s1028"/>
            <p:cNvCxnSpPr>
              <a:stCxn id="565" idx="0"/>
              <a:endCxn id="566" idx="2"/>
            </p:cNvCxnSpPr>
            <p:nvPr/>
          </p:nvCxnSpPr>
          <p:spPr>
            <a:xfrm flipV="1" rot="16200000">
              <a:off x="6670440" y="2490120"/>
              <a:ext cx="415080" cy="359172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7" name="_s1029"/>
            <p:cNvCxnSpPr>
              <a:stCxn id="568" idx="0"/>
              <a:endCxn id="566" idx="2"/>
            </p:cNvCxnSpPr>
            <p:nvPr/>
          </p:nvCxnSpPr>
          <p:spPr>
            <a:xfrm flipV="1" rot="16200000">
              <a:off x="5941440" y="3219840"/>
              <a:ext cx="415080" cy="213228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9" name="_s1030"/>
            <p:cNvCxnSpPr>
              <a:stCxn id="570" idx="0"/>
              <a:endCxn id="566" idx="2"/>
            </p:cNvCxnSpPr>
            <p:nvPr/>
          </p:nvCxnSpPr>
          <p:spPr>
            <a:xfrm flipV="1" rot="16200000">
              <a:off x="5210280" y="3950280"/>
              <a:ext cx="415080" cy="67140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1" name="_s1031"/>
            <p:cNvCxnSpPr>
              <a:stCxn id="572" idx="0"/>
              <a:endCxn id="566" idx="2"/>
            </p:cNvCxnSpPr>
            <p:nvPr/>
          </p:nvCxnSpPr>
          <p:spPr>
            <a:xfrm flipH="1" flipV="1" rot="5400000">
              <a:off x="4481280" y="3891960"/>
              <a:ext cx="415080" cy="78840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3" name="_s1032"/>
            <p:cNvCxnSpPr>
              <a:stCxn id="574" idx="0"/>
              <a:endCxn id="566" idx="2"/>
            </p:cNvCxnSpPr>
            <p:nvPr/>
          </p:nvCxnSpPr>
          <p:spPr>
            <a:xfrm flipH="1" flipV="1" rot="5400000">
              <a:off x="3752280" y="3162600"/>
              <a:ext cx="415080" cy="224712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5" name="_s1033"/>
            <p:cNvCxnSpPr>
              <a:stCxn id="576" idx="0"/>
              <a:endCxn id="566" idx="2"/>
            </p:cNvCxnSpPr>
            <p:nvPr/>
          </p:nvCxnSpPr>
          <p:spPr>
            <a:xfrm flipH="1" flipV="1" rot="5400000">
              <a:off x="3021480" y="2431800"/>
              <a:ext cx="415080" cy="3708720"/>
            </a:xfrm>
            <a:prstGeom prst="bentConnector3">
              <a:avLst>
                <a:gd name="adj1" fmla="val 274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7" name="_s1034"/>
            <p:cNvCxnSpPr>
              <a:stCxn id="566" idx="0"/>
              <a:endCxn id="578" idx="2"/>
            </p:cNvCxnSpPr>
            <p:nvPr/>
          </p:nvCxnSpPr>
          <p:spPr>
            <a:xfrm flipV="1" rot="16200000">
              <a:off x="3875040" y="2067480"/>
              <a:ext cx="304200" cy="2112120"/>
            </a:xfrm>
            <a:prstGeom prst="bentConnector3">
              <a:avLst>
                <a:gd name="adj1" fmla="val 376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9" name="_s1035"/>
            <p:cNvCxnSpPr>
              <a:stCxn id="580" idx="0"/>
              <a:endCxn id="578" idx="2"/>
            </p:cNvCxnSpPr>
            <p:nvPr/>
          </p:nvCxnSpPr>
          <p:spPr>
            <a:xfrm flipH="1" flipV="1" rot="5400000">
              <a:off x="2440440" y="2744640"/>
              <a:ext cx="304200" cy="758160"/>
            </a:xfrm>
            <a:prstGeom prst="bentConnector3">
              <a:avLst>
                <a:gd name="adj1" fmla="val 376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78" name="_s1036"/>
            <p:cNvSpPr/>
            <p:nvPr/>
          </p:nvSpPr>
          <p:spPr>
            <a:xfrm>
              <a:off x="1980360" y="2147760"/>
              <a:ext cx="1981080" cy="8244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ittee of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rincipal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_s1037"/>
            <p:cNvSpPr/>
            <p:nvPr/>
          </p:nvSpPr>
          <p:spPr>
            <a:xfrm>
              <a:off x="760680" y="3275640"/>
              <a:ext cx="2904120" cy="8031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ACR Fund Trustees/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ublisher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_s1038"/>
            <p:cNvSpPr/>
            <p:nvPr/>
          </p:nvSpPr>
          <p:spPr>
            <a:xfrm>
              <a:off x="4114080" y="3275640"/>
              <a:ext cx="1936440" cy="8031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Joint Steering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itte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_s1039"/>
            <p:cNvSpPr/>
            <p:nvPr/>
          </p:nvSpPr>
          <p:spPr>
            <a:xfrm>
              <a:off x="749160" y="4493880"/>
              <a:ext cx="124992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L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_s1040"/>
            <p:cNvSpPr/>
            <p:nvPr/>
          </p:nvSpPr>
          <p:spPr>
            <a:xfrm>
              <a:off x="2208960" y="4493880"/>
              <a:ext cx="125316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CO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_s1041"/>
            <p:cNvSpPr/>
            <p:nvPr/>
          </p:nvSpPr>
          <p:spPr>
            <a:xfrm>
              <a:off x="3668040" y="4493880"/>
              <a:ext cx="125280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B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_s1042"/>
            <p:cNvSpPr/>
            <p:nvPr/>
          </p:nvSpPr>
          <p:spPr>
            <a:xfrm>
              <a:off x="5127840" y="4493880"/>
              <a:ext cx="125136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C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_s1043"/>
            <p:cNvSpPr/>
            <p:nvPr/>
          </p:nvSpPr>
          <p:spPr>
            <a:xfrm>
              <a:off x="6589440" y="4493880"/>
              <a:ext cx="124884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ILIP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_s1044"/>
            <p:cNvSpPr/>
            <p:nvPr/>
          </p:nvSpPr>
          <p:spPr>
            <a:xfrm>
              <a:off x="8048160" y="4493880"/>
              <a:ext cx="1251360" cy="582120"/>
            </a:xfrm>
            <a:prstGeom prst="roundRect">
              <a:avLst>
                <a:gd name="adj" fmla="val 13426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L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1" name=""/>
            <p:cNvCxnSpPr>
              <a:endCxn id="570" idx="2"/>
            </p:cNvCxnSpPr>
            <p:nvPr/>
          </p:nvCxnSpPr>
          <p:spPr>
            <a:xfrm flipH="1" flipV="1" rot="5400000">
              <a:off x="5271480" y="4850640"/>
              <a:ext cx="257400" cy="707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582" name="_s1041"/>
          <p:cNvSpPr/>
          <p:nvPr/>
        </p:nvSpPr>
        <p:spPr>
          <a:xfrm>
            <a:off x="2895480" y="5334120"/>
            <a:ext cx="1252800" cy="582480"/>
          </a:xfrm>
          <a:prstGeom prst="roundRect">
            <a:avLst>
              <a:gd name="adj" fmla="val 1342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2 repr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_s1042"/>
          <p:cNvSpPr/>
          <p:nvPr/>
        </p:nvSpPr>
        <p:spPr>
          <a:xfrm>
            <a:off x="4419720" y="5334120"/>
            <a:ext cx="1252440" cy="582480"/>
          </a:xfrm>
          <a:prstGeom prst="roundRect">
            <a:avLst>
              <a:gd name="adj" fmla="val 1342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2 repr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_s1043"/>
          <p:cNvSpPr/>
          <p:nvPr/>
        </p:nvSpPr>
        <p:spPr>
          <a:xfrm>
            <a:off x="5943600" y="5334120"/>
            <a:ext cx="1249200" cy="582480"/>
          </a:xfrm>
          <a:prstGeom prst="roundRect">
            <a:avLst>
              <a:gd name="adj" fmla="val 1342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2 repr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_s1044"/>
          <p:cNvSpPr/>
          <p:nvPr/>
        </p:nvSpPr>
        <p:spPr>
          <a:xfrm>
            <a:off x="7467480" y="5334120"/>
            <a:ext cx="1251000" cy="582480"/>
          </a:xfrm>
          <a:prstGeom prst="roundRect">
            <a:avLst>
              <a:gd name="adj" fmla="val 1342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8 autr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rganism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6" name="_s1035"/>
          <p:cNvCxnSpPr>
            <a:stCxn id="582" idx="0"/>
          </p:cNvCxnSpPr>
          <p:nvPr/>
        </p:nvCxnSpPr>
        <p:spPr>
          <a:xfrm flipH="1" flipV="1" rot="5400000">
            <a:off x="4509720" y="4088880"/>
            <a:ext cx="258120" cy="22327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87" name="_s1035"/>
          <p:cNvCxnSpPr>
            <a:endCxn id="585" idx="0"/>
          </p:cNvCxnSpPr>
          <p:nvPr/>
        </p:nvCxnSpPr>
        <p:spPr>
          <a:xfrm flipH="1" rot="16200000">
            <a:off x="6795000" y="4035600"/>
            <a:ext cx="258120" cy="2339280"/>
          </a:xfrm>
          <a:prstGeom prst="bentConnector3">
            <a:avLst>
              <a:gd name="adj1" fmla="val 49301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88" name="_s1035"/>
          <p:cNvCxnSpPr>
            <a:stCxn id="584" idx="0"/>
          </p:cNvCxnSpPr>
          <p:nvPr/>
        </p:nvCxnSpPr>
        <p:spPr>
          <a:xfrm flipV="1" rot="16200000">
            <a:off x="6032520" y="4797360"/>
            <a:ext cx="258120" cy="8150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Objectifs de RDA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55640" y="83772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Objectifs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55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directives fondées sur des principe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notices capables de répondre aux besoins des usager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Tahoma"/>
              </a:rPr>
              <a:t>compatible avec les principes, modèles et normes établis au plan international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alignement avec modèles FRBR et FR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fournir un cadre théorique pour développer le “</a:t>
            </a:r>
            <a:r>
              <a:rPr b="0" lang="en-US" sz="3100" spc="-1" strike="noStrike">
                <a:solidFill>
                  <a:srgbClr val="0000ff"/>
                </a:solidFill>
                <a:latin typeface="Tahoma"/>
              </a:rPr>
              <a:t>jugement du catalogueur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55640" y="930240"/>
            <a:ext cx="854856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Objectifs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7720" y="1903320"/>
            <a:ext cx="855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compatible avec les données RCAA2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compatible avec l’environnement du Web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contrôle bibliographique efficace des tous les types de ressources ou de contenu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accent sur l’enregistrement des données 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31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31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31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3100" spc="-1" strike="noStrike">
                <a:solidFill>
                  <a:srgbClr val="800000"/>
                </a:solidFill>
                <a:latin typeface="Tahoma"/>
              </a:rPr>
              <a:t>PAS</a:t>
            </a:r>
            <a:r>
              <a:rPr b="0" i="1" lang="en-US" sz="3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sur leur présentation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55280" y="912600"/>
            <a:ext cx="855036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Plan de la présentation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967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Qu’est-ce que RD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d’où vient RD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pourquoi une nouvelle nor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qui développe et finance RD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Objectifs de R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Alignement sur FRBR/FR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Structure de R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con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Qu’y a-t-il de neuf dans RD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Mise en 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  <a:ea typeface="Tahoma"/>
              </a:rPr>
              <a:t>œuv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55640" y="930240"/>
            <a:ext cx="854856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Objectifs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7720" y="1903320"/>
            <a:ext cx="855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utilisation par d’autres communautés que celle des bibliothèque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utilisation partout à travers le monde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facilité et efficacité d’utilisation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Alignement avec FRBR/FRAD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Alignement de RDA avec </a:t>
            </a:r>
            <a:br>
              <a:rPr sz="4400"/>
            </a:b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FRBR + FRAD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62120" y="251784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èles entités-rel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es de travail de l’IF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ultation à l’échelle internation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és sur l’analyse des notices bibliographiques et d’autorité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èles ne font pas qu’influencer RDA; ils constituent la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clé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ur comprendre 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1" name="Picture 4" descr=""/>
          <p:cNvPicPr/>
          <p:nvPr/>
        </p:nvPicPr>
        <p:blipFill>
          <a:blip r:embed="rId1"/>
          <a:stretch/>
        </p:blipFill>
        <p:spPr>
          <a:xfrm>
            <a:off x="7315200" y="2743200"/>
            <a:ext cx="2403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Modèles FRBR et FRAD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it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ns les notices bibliographiques et d’autorité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antes pour l’us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D est une extension du modèle FRBR sur lequel il se ba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ributs des entité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-- entre les entité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CA" sz="4400" spc="-1" strike="noStrike">
                <a:solidFill>
                  <a:srgbClr val="993300"/>
                </a:solidFill>
                <a:latin typeface="Times New Roman"/>
              </a:rPr>
              <a:t>Opérations effectuées par les usagers selon FRBR</a:t>
            </a:r>
            <a:br>
              <a:rPr sz="4400"/>
            </a:b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ouv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i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isi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teni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vigu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Entités FRBR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Groupe 1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productions artistiques ou intellectuel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œuvre, expression, manifestation, exempla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i="1" lang="en-US" sz="2400" spc="-1" strike="noStrike">
                <a:solidFill>
                  <a:srgbClr val="0099cc"/>
                </a:solidFill>
                <a:latin typeface="Bookman Old Style"/>
              </a:rPr>
              <a:t>abstraites</a:t>
            </a:r>
            <a:r>
              <a:rPr b="0" i="1" lang="en-US" sz="2400" spc="-1" strike="noStrike">
                <a:solidFill>
                  <a:srgbClr val="0099cc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0099cc"/>
                </a:solidFill>
                <a:latin typeface="Bookman Old Style"/>
              </a:rPr>
              <a:t>         </a:t>
            </a:r>
            <a:r>
              <a:rPr b="0" i="1" lang="en-US" sz="2400" spc="-1" strike="noStrike">
                <a:solidFill>
                  <a:srgbClr val="669900"/>
                </a:solidFill>
                <a:latin typeface="Bookman Old Style"/>
              </a:rPr>
              <a:t>phys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Groupe 2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responsables des entités du group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sonne, collectivité (+ famil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Groupe 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uj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pt, objet, événement, lieu (+ entités des groupes 1 et 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AutoShape 6"/>
          <p:cNvSpPr/>
          <p:nvPr/>
        </p:nvSpPr>
        <p:spPr>
          <a:xfrm rot="5400000">
            <a:off x="2742840" y="2743200"/>
            <a:ext cx="190440" cy="1714680"/>
          </a:xfrm>
          <a:custGeom>
            <a:avLst/>
            <a:gdLst>
              <a:gd name="textAreaLeft" fmla="*/ 0 w 190440"/>
              <a:gd name="textAreaRight" fmla="*/ 68760 w 190440"/>
              <a:gd name="textAreaTop" fmla="*/ 44640 h 1714680"/>
              <a:gd name="textAreaBottom" fmla="*/ 167004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8"/>
          <p:cNvSpPr/>
          <p:nvPr/>
        </p:nvSpPr>
        <p:spPr>
          <a:xfrm rot="5400000">
            <a:off x="5943240" y="2743200"/>
            <a:ext cx="190440" cy="1714680"/>
          </a:xfrm>
          <a:custGeom>
            <a:avLst/>
            <a:gdLst>
              <a:gd name="textAreaLeft" fmla="*/ 0 w 190440"/>
              <a:gd name="textAreaRight" fmla="*/ 68760 w 190440"/>
              <a:gd name="textAreaTop" fmla="*/ 44640 h 1714680"/>
              <a:gd name="textAreaBottom" fmla="*/ 167004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Exemples d’entités du Groupe 1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4"/>
          <p:cNvSpPr/>
          <p:nvPr/>
        </p:nvSpPr>
        <p:spPr>
          <a:xfrm>
            <a:off x="762120" y="2133720"/>
            <a:ext cx="2209680" cy="99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idée pou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l’histoi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i="1" lang="fr-CA" sz="1800" spc="-1" strike="noStrike">
                <a:solidFill>
                  <a:srgbClr val="000000"/>
                </a:solidFill>
                <a:latin typeface="Arial"/>
              </a:rPr>
              <a:t>Kamourask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5"/>
          <p:cNvSpPr/>
          <p:nvPr/>
        </p:nvSpPr>
        <p:spPr>
          <a:xfrm>
            <a:off x="2743200" y="3200400"/>
            <a:ext cx="2209680" cy="99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= texte françai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original tel qu’écr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par Anne Hébe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4724280" y="4267080"/>
            <a:ext cx="2210040" cy="99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Montréal, Art global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197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7"/>
          <p:cNvSpPr/>
          <p:nvPr/>
        </p:nvSpPr>
        <p:spPr>
          <a:xfrm>
            <a:off x="6781680" y="5334120"/>
            <a:ext cx="2210040" cy="99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exemplaire 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BAnQ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6" name="AutoShape 11"/>
          <p:cNvCxnSpPr>
            <a:stCxn id="612" idx="2"/>
            <a:endCxn id="613" idx="1"/>
          </p:cNvCxnSpPr>
          <p:nvPr/>
        </p:nvCxnSpPr>
        <p:spPr>
          <a:xfrm flipH="1" rot="16200000">
            <a:off x="2019240" y="2971440"/>
            <a:ext cx="572400" cy="8769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7" name="AutoShape 12"/>
          <p:cNvCxnSpPr>
            <a:stCxn id="613" idx="2"/>
            <a:endCxn id="614" idx="1"/>
          </p:cNvCxnSpPr>
          <p:nvPr/>
        </p:nvCxnSpPr>
        <p:spPr>
          <a:xfrm flipH="1" rot="16200000">
            <a:off x="4000320" y="4038120"/>
            <a:ext cx="572040" cy="8769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8" name="AutoShape 13"/>
          <p:cNvCxnSpPr>
            <a:stCxn id="614" idx="2"/>
            <a:endCxn id="615" idx="1"/>
          </p:cNvCxnSpPr>
          <p:nvPr/>
        </p:nvCxnSpPr>
        <p:spPr>
          <a:xfrm flipH="1" rot="16200000">
            <a:off x="6018840" y="5067360"/>
            <a:ext cx="572400" cy="9529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9" name="Text Box 15"/>
          <p:cNvSpPr/>
          <p:nvPr/>
        </p:nvSpPr>
        <p:spPr>
          <a:xfrm>
            <a:off x="762120" y="3581280"/>
            <a:ext cx="1752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6"/>
          <p:cNvSpPr/>
          <p:nvPr/>
        </p:nvSpPr>
        <p:spPr>
          <a:xfrm>
            <a:off x="822240" y="3571920"/>
            <a:ext cx="1768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7"/>
          <p:cNvSpPr/>
          <p:nvPr/>
        </p:nvSpPr>
        <p:spPr>
          <a:xfrm>
            <a:off x="2819520" y="48006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Times New Roman"/>
              </a:rPr>
              <a:t>se concrétise da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8"/>
          <p:cNvSpPr/>
          <p:nvPr/>
        </p:nvSpPr>
        <p:spPr>
          <a:xfrm>
            <a:off x="838080" y="37339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Times New Roman"/>
              </a:rPr>
              <a:t>trouve sa réalisation da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9"/>
          <p:cNvSpPr/>
          <p:nvPr/>
        </p:nvSpPr>
        <p:spPr>
          <a:xfrm>
            <a:off x="4800600" y="5867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Times New Roman"/>
              </a:rPr>
              <a:t>est représentée p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993300"/>
                </a:solidFill>
                <a:latin typeface="Times New Roman"/>
              </a:rPr>
              <a:t>Exemples d’attributs </a:t>
            </a:r>
            <a:r>
              <a:rPr b="0" lang="fr-CA" sz="2800" spc="-1" strike="noStrike">
                <a:solidFill>
                  <a:srgbClr val="993300"/>
                </a:solidFill>
                <a:latin typeface="Times New Roman"/>
              </a:rPr>
              <a:t>(groupes 1,2 et 3)</a:t>
            </a:r>
            <a:endParaRPr b="0" i="1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762120" y="2036880"/>
          <a:ext cx="8550000" cy="4532040"/>
        </p:xfrm>
        <a:graphic>
          <a:graphicData uri="http://schemas.openxmlformats.org/drawingml/2006/table">
            <a:tbl>
              <a:tblPr/>
              <a:tblGrid>
                <a:gridCol w="2324160"/>
                <a:gridCol w="62258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œ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v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re, forme ou genre, date, distribution d’exécution, coordonnées (carte)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re de l’expression, forme de l’expression, langue de l’expressio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ifest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re de la manifestation, éditeur, date de publication, genre de support, dimensions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emplai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te, code à barres, provenance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onn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s, dates, titres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lectivit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, numéro, lieu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ep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p. ex. économi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55280" y="912960"/>
            <a:ext cx="855036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elations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69600" y="1828800"/>
            <a:ext cx="855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écrivent les liens entre les entit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entre entités de groupes différ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entre entités du même groupe (particulièrement entre entités du groupe 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dent l’usager à naviguer dans le catalogue ou la base de donné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et la col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993300"/>
                </a:solidFill>
                <a:latin typeface="Times New Roman"/>
              </a:rPr>
              <a:t>Exemples de relations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754200" y="2147760"/>
          <a:ext cx="8550000" cy="4122720"/>
        </p:xfrm>
        <a:graphic>
          <a:graphicData uri="http://schemas.openxmlformats.org/drawingml/2006/table">
            <a:tbl>
              <a:tblPr/>
              <a:tblGrid>
                <a:gridCol w="2598480"/>
                <a:gridCol w="3102120"/>
                <a:gridCol w="28494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œuv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créée par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onn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interprétée par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onn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ifest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produite par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lectivit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emplai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propriété 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lectivit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ep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sujet de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œuv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traduction 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œuvr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on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concrétisée da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ifest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Qu’est-ce que RDA?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CA" sz="44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Exemples de relations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991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ébert, Anne, 1916-2000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mouras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jet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Tahoma"/>
              </a:rPr>
              <a:t>Remémoration et commémoration dans Kamouraska </a:t>
            </a:r>
            <a:r>
              <a:rPr b="1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Tahoma"/>
              </a:rPr>
              <a:t>d'Anne Héber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/ par Robert Harve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aduc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amouraska : a nov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/ by Anne Hébert ; translated by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rman Shapiro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ansform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amouraska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 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un film de Claude Jutra ; une coproduction 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Les Productions Pierre Lamy ltée, Parc Film, Société de 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radiodiffusion du Québe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9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FRAD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se les données d’autorité qui appuient le contrôle d’autorit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 et développement du modèle FRB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œuvre d’un groupe de l’IFLA appelé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RANAR : Working Group on Functional Requirements and Numbering of Authority Record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993300"/>
                </a:solidFill>
                <a:latin typeface="Times New Roman"/>
              </a:rPr>
              <a:t>Opérations effectuées par les usagers selon FRAD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ouv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xtualis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stifier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Entités FRAD</a:t>
            </a:r>
            <a:br>
              <a:rPr sz="4400"/>
            </a:b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extension de FRBR </a:t>
            </a:r>
            <a:endParaRPr b="0" i="1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int d’accès contrôl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é sur le nom ou l’identifi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ulation soumise à des règ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èg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que les règ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ée ou modifie le point d’accè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Accolade fermante 4"/>
          <p:cNvSpPr/>
          <p:nvPr/>
        </p:nvSpPr>
        <p:spPr>
          <a:xfrm>
            <a:off x="3200400" y="2362320"/>
            <a:ext cx="228600" cy="685800"/>
          </a:xfrm>
          <a:custGeom>
            <a:avLst/>
            <a:gdLst>
              <a:gd name="textAreaLeft" fmla="*/ 0 w 228600"/>
              <a:gd name="textAreaRight" fmla="*/ 82440 w 228600"/>
              <a:gd name="textAreaTop" fmla="*/ 5760 h 685800"/>
              <a:gd name="textAreaBottom" fmla="*/ 6800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ZoneTexte 6"/>
          <p:cNvSpPr/>
          <p:nvPr/>
        </p:nvSpPr>
        <p:spPr>
          <a:xfrm flipH="1">
            <a:off x="3504600" y="2362320"/>
            <a:ext cx="3276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300" spc="-1" strike="noStrike">
                <a:solidFill>
                  <a:srgbClr val="000000"/>
                </a:solidFill>
                <a:latin typeface="Tahoma"/>
              </a:rPr>
              <a:t>de l’entité FRBR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Impact des modèles FRBR + FRAD 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irige l’attention vers les aspects des codes de catalogage qui ont besoin d’être amélioré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créer des notices qui vont répondre aux besoins des usa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’assurer que l’information contenue dans les notices a de la valeur pour l’us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améliorer la collocation (en particulier des vedett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améliorer la navigation dans une grosse base de donné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Structure de RDA 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936756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Plan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754200" y="21337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tion génér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s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cording attribut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cording relationship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nex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u nombre de 1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uscules, abréviations, articles initiaux, présentation des données, désignations des relations (vocabulaire contrôlé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ssa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Structu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9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tribut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s des manifestations et des exempla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s des œuvres et des expre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s des personnes, familles et collectivité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4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s des concepts, objets, événements et lieu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[place réservée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9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Structu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173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lation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primaires entre œuvre, expression, manifestation et exempla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avec des personnes, des familles et des collectivités associées à une res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73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7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avec des concepts, des objets, des événements et des lieux associés à une œuv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Structu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829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lation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8.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entre œuvres, expressions, manifestations et exempla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entre personnes, familles et collectivité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829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tion 1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 entre concepts, objets, événements et lieux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[place réservée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Qu’est-ce que RDA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54200" y="23623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velle nor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place les RCAA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çu pour être utilisé dans un environnement numér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çu pour être utilisé dans tous les contextes linguist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50920" y="914400"/>
            <a:ext cx="9556560" cy="167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1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Attributs des manifestations et des exemplaire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54200" y="2817720"/>
            <a:ext cx="8550000" cy="38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1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dentification des manifestations et d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mplaire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3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escription des sup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4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nformation sur l’acquisition et l’accè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50920" y="914040"/>
            <a:ext cx="955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2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Attributs des </a:t>
            </a:r>
            <a:r>
              <a:rPr b="0" lang="en-US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œuvres et des expression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5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6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dentification des œuvres et des expre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249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981080" indent="0">
              <a:spcBef>
                <a:spcPts val="700"/>
              </a:spcBef>
              <a:buNone/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7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escription des attributs additionnels des œuvres et des express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50920" y="912960"/>
            <a:ext cx="9556560" cy="16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3</a:t>
            </a:r>
            <a:br>
              <a:rPr sz="4000"/>
            </a:b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ttributs des personnes, familles et collectivité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754200" y="2819160"/>
            <a:ext cx="855000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03652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8.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r les attributs des personnes, familles et collectivité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36520" indent="0"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03652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pitre 9.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dentification d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n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3652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pitre 10.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dentification d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mil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36520" indent="0"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03652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pitre 11.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dentification des collectivité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50920" y="912960"/>
            <a:ext cx="9556560" cy="16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5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</a:rPr>
              <a:t>Relations primaires entre œuvre, expression, manifestation et exemplaire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54200" y="2819160"/>
            <a:ext cx="85500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156348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56348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pitre 17.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r les relations primaires entre œuvre, expression, manifestation et exempla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0920" y="914040"/>
            <a:ext cx="955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6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Relations avec des personnes, des familles et des collectivités associées à une ressource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839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0664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18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640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19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sonnes, familles et collectivités associées à une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œuv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6640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0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sonnes, familles et collectivités associées à une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exp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6640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1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sonnes, familles et collectivités associées à une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manife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6640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2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sonnes, familles et collectivités associées à un exempla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66400" indent="0">
              <a:spcBef>
                <a:spcPts val="700"/>
              </a:spcBef>
              <a:buNone/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0920" y="990360"/>
            <a:ext cx="955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8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Relations entre œuvres, expressions, manifestations et exemplaire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837720" y="2438280"/>
            <a:ext cx="854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4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5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Œ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uvre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6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Expression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7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Manifestation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8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mplaires 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50920" y="990360"/>
            <a:ext cx="955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Section 9</a:t>
            </a:r>
            <a:br>
              <a:rPr sz="4000"/>
            </a:br>
            <a:r>
              <a:rPr b="0" lang="fr-CA" sz="4000" spc="-1" strike="noStrike">
                <a:solidFill>
                  <a:srgbClr val="993300"/>
                </a:solidFill>
                <a:latin typeface="Times New Roman"/>
                <a:ea typeface="宋体"/>
              </a:rPr>
              <a:t>Relations entre personnes, familles et collectivité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7720" y="2438280"/>
            <a:ext cx="854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29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s générales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30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ersonne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31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Famille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Chapitre 32.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llectivités conn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Conception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t de la descri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cision à propos du type de res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source en une seule partie, en plusieurs parties, en cours de parution, ressource intégratrice, etc.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cision à propos du type de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e ou analyt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ivision par chapitre puis par élément et sous-élé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006600"/>
                </a:solidFill>
                <a:latin typeface="Tahoma"/>
              </a:rPr>
              <a:t>élément=attribut ou re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les éléments sont optionnels ou obligato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Conception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léments de donné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t et porté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prendre l’information à consig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la consig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rendre compte des changements apportés à l’élé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s les aspects de l’élément sont regroupés au même endro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Qu’y a-t-il de neuf dans RDA?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Pourquoi une nouvelle norme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’environnement chang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sources électro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ication des types de suppor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uveaux genres de pub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-utilisation des métadonnées bibliograph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usieurs nouvelles communautés reconnaissent le besoin de méta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ication des types de formats de communication des métadonnées bibliograph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plupart des directives ne sont pas différ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rimées dans un vocabulaire mis à jo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-ordonnées selon une structure plus log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ées aux cadres conceptuels de FRBR et FR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ées dans le contexte des opérations effectuées par les usagers telles qu’identifiées dans les modèles FRBR et FR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norme sur le contenu compatible ave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ifférentes options d’affich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ifférents schémas d’encodage des méta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les formats communication traditionnels (p. ex. MARC21) et les options d’affichage traditionnelles (p. ex. ISB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54200" y="19051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plus grande conscience des usag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lus de points d’accè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 les données qui remplissent les tâches utilisate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explicite les relations entre entités pour les usag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signe les données qui permetten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 concevoir de meilleurs affichages dans les catalog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’améliorer le regroupement des résultats de recher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754200" y="19051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description des ressources facilitée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directives cohér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processus de prise de décision plus log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cadre conceptuel extensible : s’adaptera aux nouveaux supports, médias et types de conten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traitement intégré du mode de par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travail entrepris avec d’autres communautés pour encourager la ré-utilisation des donné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fournit un cadre théorique permettant aux catalogueurs de développer leur ju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internationalis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upprime le biais anglo-améric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’adapte aux langues, écritures, chiffres et  systèmes de dates autres que ceux utilisés en anglais ou en Occid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e à supprimer les biais religieux et cultur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753840" y="1905120"/>
            <a:ext cx="8885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norme pour le monde numér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çu comme outil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çu pour les ressources tangibles autant qu’électro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permet la capture automatique et la ré-utilisation des 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transcription de ce que le catalogueur voit, tel qu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rrection des erreurs ou inexactitudes aille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facilite la capture automatique de 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53840" y="1905120"/>
            <a:ext cx="8885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norme pour le monde numérique (suit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élimine les limitations imposées par les catalogues sur fi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lus d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règle de tro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réduit les abrév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élimine le vocabulaire hérité des fiches, p. ex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vedet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remplace l’IGGD par de nouveaux termes décrivant le contenu, le médium et le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Qu’y a-t-il de neuf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pas juste pour les bibliothè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nçu pour s’appliquer à un large éventail de res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ocuments d’arch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mmunautés de métadonn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Dublin C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IEEE L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dialogue étendu à d’autres communautés de métadonnées après la première par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754200" y="2130120"/>
            <a:ext cx="85500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006600"/>
                </a:solidFill>
                <a:latin typeface="Times New Roman"/>
              </a:rPr>
              <a:t>Mise en œuvre de RDA</a:t>
            </a:r>
            <a:endParaRPr b="0" i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1508040" y="388620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Mise en œuv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54200" y="198108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lus facile à utiliser et à enseig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processus de décision log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basé sur des princi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cadre théorique cohé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outil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recherche par mots-clés et pa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table des matières et textes déroulants (table des matières comme encadré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auvegarde des recher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ig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utilise d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flux de travau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qui servent de guides pas à p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Pourquoi une nouvelle norme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blèmes avec les RCAA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écrites à l’origine pour des catalogues sur fi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ations du concept de “classe de supports” lorsqu’on décrit des documents appartenant à plus d’une classe de sup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hérences entre les règles des différents chapitres de la Parti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Mise en œuv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54200" y="198108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vues personnalisées dans l’outil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au niveau d’une institution, d’un département, d’un consort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flux de travau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différents selon le type de res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intégration possible avec le module de catalogage du SIG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ordance avec les RCAA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«</a:t>
            </a:r>
            <a:r>
              <a:rPr b="0" i="1" lang="en-CA" sz="2800" spc="-1" strike="noStrike">
                <a:solidFill>
                  <a:srgbClr val="333399"/>
                </a:solidFill>
                <a:latin typeface="Tahoma"/>
              </a:rPr>
              <a:t> où est passée cette règle?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ompatibilité avec les notices exist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’intention est de maintenir la compatibilité des points d’accè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55640" y="914040"/>
            <a:ext cx="854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RDA + scénarios de mise en </a:t>
            </a: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œ</a:t>
            </a:r>
            <a:r>
              <a:rPr b="0" lang="en-CA" sz="4000" spc="-1" strike="noStrike">
                <a:solidFill>
                  <a:srgbClr val="993300"/>
                </a:solidFill>
                <a:latin typeface="Times New Roman"/>
              </a:rPr>
              <a:t>uvre dans les bases de données</a:t>
            </a:r>
            <a:endParaRPr b="0" i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RDA conçu pour satisfaire 3 scénarios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cénarios 2 et 3 : données stockées dans des structures de bases de données communes et cour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cénario 1 : scénario possible dans l’aven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notices pour les entités </a:t>
            </a:r>
            <a:r>
              <a:rPr b="0" i="1" lang="en-CA" sz="2400" spc="-1" strike="noStrike">
                <a:solidFill>
                  <a:srgbClr val="000000"/>
                </a:solidFill>
                <a:latin typeface="Tahoma"/>
              </a:rPr>
              <a:t>œuvre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et </a:t>
            </a:r>
            <a:r>
              <a:rPr b="0" i="1" lang="en-CA" sz="24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tructure reflète les modèles FRBR et FRA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e en œuvre initiale de RDA : en fonction du scénario 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tices bibliographiques et d’autorité relié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DA et MARC21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ance entre éléments de données RDA et MARC21 (200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BI discussion paper no. 2008-DP04 (publié en déc. 200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odage de RDA avec MARC2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ications aux formats MARC21 (bibliographique et autorités) possiblement nécessaires en vue d’une mise en œuvre de RDA selon le scénario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RDA/MARC Working Group (annoncé en mars 200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DA et Dublin Core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il d’application DC pour les données de R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veloppement d’un vocabulaire d’éléments RD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semblables aux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mps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cation des vocabulaires de valeurs RDA sur le Web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contenu d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mps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ndre les métadonnées RDA interopérables avec d’autres initiatives du Web sémant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54200" y="91404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Mise en œuv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rôle des bibliothèques nationales et d’autres organismes, p. ex. OCLC, Program for Cooperative Cataloging, consortiums comme la CREPUQ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formation coordonné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nouveau vocabulaire à apprend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nouvelles directives (peu nombre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navigation dans 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3300"/>
                </a:solidFill>
                <a:latin typeface="Times New Roman"/>
              </a:rPr>
              <a:t>Mise en œuvre de 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Échéancier projeté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illet 2008 : sortie de l’ébauche complè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but 2009 :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r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rution en tant qu’outil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e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se en œuvre avant la fin de 2009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55280" y="912960"/>
            <a:ext cx="8550360" cy="59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RDA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55280" y="2147760"/>
            <a:ext cx="855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Web du JSC : </a:t>
            </a:r>
            <a:r>
              <a:rPr b="0" lang="en-US" sz="2800" spc="-1" strike="noStrike" u="sng">
                <a:solidFill>
                  <a:srgbClr val="e5d093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e5d093"/>
                </a:solidFill>
                <a:uFillTx/>
                <a:latin typeface="Tahoma"/>
                <a:hlinkClick r:id="rId2"/>
              </a:rPr>
              <a:t>www.collectionscanada.ca/jsc/rda.ht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ébau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Q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génér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uments de trav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uvelles et résultats des réun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e de discussion RDA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ent faire parvenir des commentai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755640" y="91260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ésentation basée sur de l’information provenant de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t Steering Committ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ité canadien de catalog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DA Outreach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ésentations sur le site Web de R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Pourquoi une nouvelle norme?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54200" y="214776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blèmes avec les RCAA2 (suit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ègles inadéquates pour décri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 ressources contin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 ressources électro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ations imposées pour sauver de l’espace, p. ex. règle de 3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ence de cadre théorique pour guider le processus de révision, le développement de nouvelles règl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55280" y="912600"/>
            <a:ext cx="855036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Conférence de 1997 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87520" y="1600200"/>
            <a:ext cx="85500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7 International Conference on the Principles &amp; Future Development of AACR, Toro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 experts identifient 5 problèmes majeurs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-27396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ci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-27396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u vs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-27396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logique des RCAA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-27396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érialit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3800" indent="-27396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tionalis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55640" y="9298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Cadre théorique (IFLA)</a:t>
            </a:r>
            <a:endParaRPr b="0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9372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veloppement de modèles conceptu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FRBR</a:t>
            </a: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Functional Requirements for Bibliographic Reco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FRAD </a:t>
            </a: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1999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Functional Requirements for Authority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veloppement de principes internationaux de catalogage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2003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IME ICC Statement of International Cataloguing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4:22:48Z</dcterms:created>
  <dc:creator>Christine Oliver</dc:creator>
  <dc:description/>
  <dc:language>en-US</dc:language>
  <cp:lastModifiedBy>Paradis</cp:lastModifiedBy>
  <cp:lastPrinted>2007-04-08T20:28:39Z</cp:lastPrinted>
  <dcterms:modified xsi:type="dcterms:W3CDTF">2008-04-16T18:02:15Z</dcterms:modified>
  <cp:revision>172</cp:revision>
  <dc:subject/>
  <dc:title> </dc:title>
</cp:coreProperties>
</file>