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EB4-01D8-4F13-8600-69A93732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B6E-8499-4A21-A448-AF65F4E8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FE9-469D-45E2-91F1-57CBEDF2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336-4672-41E5-8DF9-39BE230A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82B-AA72-416C-A63E-B94A10CD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75F-13F3-4646-9349-3893E644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E7A-1432-476B-A692-3589A2CE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958-47C7-492B-B9B2-AFEC809C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16C-8B6F-43F1-B0FF-9876D96C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CE1-7148-4813-8BB2-E2636BAC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7D0-3A2F-4944-8FFD-7D32A2BF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506-1EEE-479F-8F58-FF5D9BB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D4E7-3340-4A88-A41F-CC2D07F9517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8:02:29Z</dcterms:modified>
  <cp:revision>105</cp:revision>
  <dc:subject/>
  <dc:title>Quiz Module 8: les relations RDA</dc:title>
</cp:coreProperties>
</file>