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CBC-F6BA-4E22-BE4C-CBD69CA8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BC3-2A91-4D2D-AED4-5CF7FEF5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3631-EC7D-404D-B689-CE215265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0C0-ACD4-4B5E-892A-64C01D6D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927-346B-441B-A5EC-F11007AD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C1B-1BD6-49DE-BB9A-7EA1DB1A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6DC-D66B-48B0-A53C-346F3444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0A5-2227-4E98-882C-B93345D9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FD3-DF12-42F6-9172-64167B1C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029-24C8-409A-9E54-1C3FCD44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9F7-7341-46D0-8FD8-AD107D4C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721-0926-499D-B6CC-E1A88C50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EFBD-725F-47E1-B2DF-F6FA12DF14F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395280" y="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5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70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5/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/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/J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2/J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4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8:02:29Z</dcterms:modified>
  <cp:revision>105</cp:revision>
  <dc:subject/>
  <dc:title>Quiz Module 8: les relations RDA</dc:title>
</cp:coreProperties>
</file>