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D16-5496-4171-824E-6BDE312C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A4E-3DB6-477B-9A48-EDC474D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5AB-9A55-4F77-BD4F-9082A287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00F-C03A-4C50-B6B3-E5EEDE00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338-A795-476E-B51A-5C36DD4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28B-B727-4CF1-B5A1-9CB70FD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A06-F246-4659-A19A-37CDA2AB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4CE-F277-4D5C-80A9-D2F160A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9FC-8F59-4D3D-AF03-2702DD89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801-20B9-420C-ABA7-D42C79A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95B-EA2C-4ADA-AC6F-EBE87E1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0FE-7382-4B7A-AB42-08FFEB9D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4A26-F688-4EB0-98A0-8013291E023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8:02:29Z</dcterms:modified>
  <cp:revision>105</cp:revision>
  <dc:subject/>
  <dc:title>Quiz Module 8: les relations RDA</dc:title>
</cp:coreProperties>
</file>