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E537F4-5053-4E87-974C-BC21455CE1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541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C5F9EA-AE8A-488F-ADE3-1E79E9E6AE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541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711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982A2C-334B-434B-B768-179BAB8FDD3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365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190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541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365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190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A7AC73-620B-4BDD-9021-72EE121C004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D14D5C-2338-4E72-BFB5-2EE139D7679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2E6A50-4724-4AB7-9E77-3942222E2A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C3D6C7-F776-4915-9D17-BFDBA918524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8DAAC6-76E0-4745-810F-A2DBEEF5E2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54120" y="2026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3D34AB-BD8F-40B6-A2F0-773FDE2ED6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541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141FC4-7E26-424D-8948-97292B7CBF8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711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F49EBA-A7B1-40F5-95B7-12BB232FAC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541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7A6B56-59CB-4ADA-BB15-394740CF1D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Image 6" descr="bandeauux ppt9.jpg"/>
          <p:cNvPicPr/>
          <p:nvPr/>
        </p:nvPicPr>
        <p:blipFill>
          <a:blip r:embed="rId2"/>
          <a:stretch/>
        </p:blipFill>
        <p:spPr>
          <a:xfrm>
            <a:off x="0" y="228600"/>
            <a:ext cx="9144000" cy="11462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700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228600">
              <a:spcBef>
                <a:spcPts val="700"/>
              </a:spcBef>
              <a:buClr>
                <a:srgbClr val="5f5f5f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76080" y="6441840"/>
            <a:ext cx="324324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4d4d4d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&lt;footer&gt;</a:t>
            </a: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3384360" y="6447960"/>
            <a:ext cx="226188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900" spc="-1" strike="noStrike">
                <a:solidFill>
                  <a:srgbClr val="4d4d4d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07300E76-34E5-4837-8AC9-7EFF7132F5ED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nvironnement hybrid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ses de données hybrid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Notices RCAA2 et notices RDA vont cohabiter dans la même base de donné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Tout comme les notices RCAA1 avec RCAA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RDA suit le principe de continuit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Chaque base de données collective définira des polit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exemple, OCLC WorldC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1 seule notice par ressource par lan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transformer RCAA2 en RDA, jamais l'inver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FB42F9-41CC-49DE-B22E-D1410FE9F96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ices bibliographiques hybrid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 résultat d'ajouts d'éléments RDA à une notice bibliographique RCAA2 existant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 description n'est pas modifiée (transcription dans le 245, etc.) et reste selon les RCAA2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uide/18 = a (RCAA2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s, avec des points d'accès formulés selon RDA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, avec des éléments techniques RDA (exemple, 336/337/338 ajoutés en lot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E912DE-FD89-4BBB-9280-447E9036BA4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ices d'autorité hybrid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int d'accès formulé selon les RCAA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ice d'autorité bonifiée avec les nouvelles zones 046, 37x ou 38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is jamais, un point d'accès partiellement RDA et partiellement RCAA2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9D32FD-F10B-40B5-8B21-235F96DAC2C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ices dérivées ou mises à jou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éliorer l'accès à la ressourc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riger les erreurs de contenu, ne pas changer d'un style à un autre, d'un code à l'aut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jouter de l'information, ne pas en enlever (sauf si erronée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nger de RCAA2 à RDA seulement avec la ressource en main pour en faire une nouvelle descri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0C6AC4-28E8-4E74-9CCB-B7CE89201DA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lendrie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duction et implantation de RDA en françai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3920" indent="-22392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Partenaires à la tra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74480" indent="-22392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ASTED, BAC, BAnQ, Bn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Version imprimée : publication juin 20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Mise en ligne dans RDA Toolkit : 14 mai 20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LC/British Library : transition terminée le 31 mars 20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BAnQ : début avril 2013 pour les monographies et début juin 2013 pour les périod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Service québécois de traitement documentaire (SQTD)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74480" indent="-22392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avril 2013 pour les documents publiés au Québe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74480" indent="-22392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juillet 2013 pour les documents imprimés traités par SD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CABCCC-2CE1-4A5B-B5D6-D0252BB1BCF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cessus continu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ycle annuel de modifications a commencé en 2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duction des mises à jo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ifications de notices RCAA2 dans les catalog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Évolution des SIG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9215C4-9AA7-4896-9BE9-530BE4FCD7C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6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A239FAD2-E235-4AD3-AA83-C61031EC72BF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7" name="Rectangle 6"/>
          <p:cNvSpPr/>
          <p:nvPr/>
        </p:nvSpPr>
        <p:spPr>
          <a:xfrm>
            <a:off x="690480" y="1882800"/>
            <a:ext cx="3919680" cy="45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Région de Montréal : 514 873-1100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ans frais, d’ailleurs au Québec : 1 800 363-9028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GRANDE BIBLIOTHÈQUE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475, boulevard De Maisonneuve Est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ontréal (Québec)  H2L 5C4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CENTRE DE CONSERVATION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2275, rue Holt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ontréal (Québec)  H2G 3H1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CENTRES D’ARCHIVES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Abitibi-Témiscamingue et Nord-du-Québec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27, rue du Terminus Ouest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Rouyn-Noranda (Québec)  J9X 2P3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as-Saint-Laurent et 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Gaspésie–Îles-de-la-Madeleine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337, rue Moreault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Rimouski (Québec)  G5L 1P4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100000"/>
              </a:lnSpc>
              <a:spcAft>
                <a:spcPts val="14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000" spc="-1" strike="noStrike">
                <a:solidFill>
                  <a:srgbClr val="000000"/>
                </a:solidFill>
                <a:latin typeface="Arial"/>
              </a:rPr>
              <a:t>Point de service de Gaspé</a:t>
            </a:r>
            <a:br>
              <a:rPr sz="1000"/>
            </a:b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80, boulevard de Gaspé</a:t>
            </a:r>
            <a:br>
              <a:rPr sz="1000"/>
            </a:b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Gaspé (Québec)  G4X 1A9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Côte-Nord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700, boulevard Laure, bureau 190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pt-Îles (Québec)  G4R 1Y1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8" name="Rectangle 8"/>
          <p:cNvSpPr/>
          <p:nvPr/>
        </p:nvSpPr>
        <p:spPr>
          <a:xfrm>
            <a:off x="5262480" y="2336760"/>
            <a:ext cx="3598920" cy="40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Estrie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225, rue Frontenac, bureau 401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herbrooke (Québec)  J1H 1K1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uricie et Centre-du-Québec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225, rue des Forges, bureau 208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Trois-Rivières (Québec)  G9A 2G7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ontréa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535, avenue Viger Est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ontréal (Québec)  H2L 2P3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Outaouais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855, boulevard de la Gappe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Gatineau (Québec)  J8T 8H9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Québec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villon Louis-Jacques-Casault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Campus de l’Université Laval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1055, avenue du Séminaire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Québec (Québec)  G1V 4N1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aguenay–Lac-Saint-Jean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930, rue Jacques-Cartier Est, bureau C-103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aguenay (Québec)  G7H 7K9</a:t>
            </a: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59" name="Image 9" descr="bandeauux ppt.jpg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114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BAB169-F846-4EDC-8BED-F10D86C9A58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5T20:24:45Z</dcterms:created>
  <dc:creator>Louise Lecavalier</dc:creator>
  <dc:description/>
  <dc:language>en-US</dc:language>
  <cp:lastModifiedBy>Mylène Robichaud</cp:lastModifiedBy>
  <cp:lastPrinted>2010-10-18T15:40:26Z</cp:lastPrinted>
  <dcterms:modified xsi:type="dcterms:W3CDTF">2014-01-09T19:54:56Z</dcterms:modified>
  <cp:revision>271</cp:revision>
  <dc:subject/>
  <dc:title>Diapositive 1</dc:title>
</cp:coreProperties>
</file>