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C744-4D42-44A6-B7BD-624B1C41A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0C26-AC6A-461B-BCB8-5A9F80E40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0035-9FD3-418B-8000-E3F3E3A09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1E61-BA86-4D31-BB1D-73C4AB4C72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C9BF-54C1-4346-BBF4-0B48D628DC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0219-AA8D-4CD3-836B-E2261894B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A6E1-360C-4608-911E-0DAE3B1BD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089B-4777-4AE9-BFD3-434BD1141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A883-FA5A-42C5-B81D-A2B8BD88A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83A2-DEDB-403B-9717-27C960726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250A-6418-42B0-9773-3E215C52D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F1EC-6DA8-4BC4-9657-C59D3232D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A88924E-D8BD-458C-B58A-69D3A989933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0C89F-2CDD-4C55-9ABF-92DFE1FD50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3B37-C702-4FCA-936B-181D93DECC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FADC-BC8F-41C6-BF79-0EBD500010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97D5-55B1-40FF-A83D-17474433DC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C633-DD30-4CCA-93F1-77DB5D551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0373-F265-4AA8-A828-70C189004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6E37087-C8FD-4F3D-9085-599CFF7FE1B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B2F3-B8A7-407D-8517-783DAD078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4-01-09T19:54:56Z</dcterms:modified>
  <cp:revision>271</cp:revision>
  <dc:subject/>
  <dc:title>Diapositive 1</dc:title>
</cp:coreProperties>
</file>