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586FA-3507-4B8C-8A09-F2E4F0057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85183-50FC-4778-AF0D-78028EB2E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92936-1F44-44A5-9E39-58856D9CF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F74A-0E3A-48D7-AC16-9C599E09A8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4EDA5-0FDF-4C0E-BF4A-A75AF8C014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1AC75-96CB-4D28-8E0D-E32250BEF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0E666-3078-450E-9FA8-07BC16080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98CE-F767-4B90-AD95-E62247E94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654CC-6FA6-4651-9EB6-F006410B0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7415A-A681-43CB-9D55-E3410076F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C7109-B52B-400C-AA79-40809E99B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7485B-D23B-4510-B7F5-0D1BAEC23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C69B209-C791-4CF0-B92F-A2871994FFF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DCFA-068D-47E0-9E1B-9ADD60D82F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6FE36-4FBE-4B4E-BD49-8074D5B4E4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FEF38-B03E-4D86-8F47-B67A1B906C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3217E-C57A-4FCA-8F1E-E99DD4FE27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ju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 et début juin 2013 pour les périod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uillet 2013 pour les documents imprimé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1B48-7F1D-48B1-9016-172D25D466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53D94-D448-47B3-88B7-6DC6564BEE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3F1F2D8-E324-4809-897F-1263C754001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9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99E55-BBF9-4B6E-8A62-71D8F3F180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4-01-09T19:54:56Z</dcterms:modified>
  <cp:revision>271</cp:revision>
  <dc:subject/>
  <dc:title>Diapositive 1</dc:title>
</cp:coreProperties>
</file>