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A5BE-CC48-4409-895B-301CA96CE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6BCE-2C08-446D-AE2C-C0F96E834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D505-F4D7-4E17-A505-4C6D87B6D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451A-860D-48EE-B98D-D361AFFEB7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9C28-1D33-4BF8-9F36-C4ACA0CF36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5119-86C8-4BF3-A14C-8C81F5A20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CAAD-57ED-4B55-BD57-A0D8ECBF9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D166-3116-41A2-B81C-15A9ECD61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5C89-2618-4C89-8A74-05F002BC1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A745-5234-4FCB-AFCB-FEC1FB8FF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5DA9-2109-4243-B08E-C1770D3FF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13D8-6652-458D-849D-F07F72C4D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D8EB06C-21C2-4A3D-8AD5-4F639C68DE4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8369-CF6D-4CD8-A5FD-523D58AA7C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8998-D2D9-4F77-94CF-AA299B906E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CA9F-2877-4459-B759-68393977EF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22C2-36F2-42B8-B770-A3A34D7987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E6D8-827B-45CC-ACC5-145AE61955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D89D-1BD7-49B4-B11A-725A2C25D3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5D508C6-80F3-469E-9C28-4C341524813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9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0D9C1-50EF-41D7-89B0-53A3BB842D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4-01-09T19:54:56Z</dcterms:modified>
  <cp:revision>271</cp:revision>
  <dc:subject/>
  <dc:title>Diapositive 1</dc:title>
</cp:coreProperties>
</file>