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5A58F-0012-4B46-A315-E7276FF4B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10B1-EA78-43DB-9D36-D92137F43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C14F2-3A8C-4B31-8967-E5A3CD67C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83B7-C2B6-48D2-87FF-6C2E9E7DE2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4BFB6-4EC0-44EE-A2B1-2147A9DE83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EE90-7B9D-402B-87E8-598DECA23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32DD-D625-4522-A608-63DA078CF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0366-6B42-4A96-B324-B3988BB10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EB8A-D556-4434-B273-F7A54C130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BDD9-952E-4775-9988-EA333070D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8D38-CBBF-437C-98A4-4E62001F1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4961-1FB5-49CE-A28F-308D24C49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CCF31AF-6753-47BB-8D74-2A2FB5F9FFA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813C-323A-4385-BCD8-D797056B7B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972D-4722-40AA-8F78-D1A0CED75C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0FD21-49A9-4865-BA51-B6CF9237FD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F5677-F124-4BCF-8DCF-BAD841365A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DC8D-1FF9-4AE0-8E50-F420D2219E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6E2D-D1A5-41B5-B10A-62ABF6186B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739DCEA-26C5-4314-ABEC-CF55FF0BF40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3053-6977-4A86-ABAF-B6E27CF2A7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1:06Z</dcterms:modified>
  <cp:revision>270</cp:revision>
  <dc:subject/>
  <dc:title>Diapositive 1</dc:title>
</cp:coreProperties>
</file>