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662BE-CB0C-43D7-9ABC-A82B6F2F6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82A84-5328-4B26-9F27-6987C3BDE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DDCEB-9A6C-4C5E-9FF7-BDC00A950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79B31-3B36-45F7-9D84-0B787AE446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7D237-D432-4B99-AD1E-D9DA10EDF1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124A2-4B90-43FB-872F-78E57D2AB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98802-D027-4886-844C-78EEE34B9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22672-FB31-4553-918F-98C177F87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0DE14-7066-431B-BFDA-129EFDD3D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EEC4A-3C30-43C4-BF99-291636213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B6B3C-0183-4A60-AA3E-6E9A543A7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F689D-18A7-4692-A5FD-6A57336F9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D423A5B-BAE4-4893-8861-9F78A2D0676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nement hybr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s de donné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ices RCAA2 et notices RDA vont cohabiter dans la même bas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comme les notices RCAA1 avec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uit le principe de continu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base de données collective définira de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emple, OCLC World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1 seule notice par ressource par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ransformer RCAA2 en RDA, jamais l'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90BE3-0A9D-4409-A0CE-A8E04509DC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bibliographiqu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ultat d'ajouts d'éléments RDA à une notice bibliographique RCAA2 exist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cription n'est pas modifiée (transcription dans le 245, etc.) et reste selon les RCA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18 = a (RCAA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, avec des points d'accès formulés selo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, avec des éléments techniques RDA (exemple, 336/337/338 ajoutés en lo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3248C-448F-4319-AE37-A4BDF65377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'autorité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'accès formulé selon les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d'autorité bonifiée avec les nouvelles zones 046, 37x ou 38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jamais, un point d'accès partiellement RDA et partiellement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82F96-A2AD-4148-83F0-EB3336BC49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érivées ou mises à j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'accès à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ger les erreurs de contenu, ne pas changer d'un style à un autre, d'un code à l'a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de l'information, ne pas en enlever (sauf si erroné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de RCAA2 à RDA seulement avec la ressource en main pour en faire une nouvell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7BFAA-2135-459A-8551-A05F76F4AC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uction et implantation de RDA en franç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tenaires à la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STED, BAC, BAnQ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ersion imprimée : publication jui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ise en ligne dans RDA Toolkit : 14 mai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C/British Library : transition terminée le 31 mars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début avril 2013 pour les monographies et début juin 2013 pour les périod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rvice québécois de traitement documentaire (SQTD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ril 2013 pour les documents publiés au Qué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juillet 2013 pour les documents imprimés traités par 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6DEA0-8E59-423D-A8AC-34738D5D07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us conti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annuel de modifications a commencé 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uction des mises à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s de notices RCAA2 dans les cat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volution des SI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7CD74-0B50-4F6F-93AD-57025ED1CA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C2ACD2D-EFE6-409F-8E22-12F9E726896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90480" y="1882800"/>
            <a:ext cx="3919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égion de Montréal : 514 873-110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ns frais, d’ailleurs au Québec : 1 800 363-902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RANDE BIBLIOTHÈQU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75, boulevard De Maisonneuve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5C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 DE CONSERVATIO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75, rue Ho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G 3H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S D’ARCHIVE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bitibi-Témiscamingue et Nord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7, rue du Terminus Ou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uyn-Noranda (Québec)  J9X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-Saint-Laurent et 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spésie–Îles-de-la-Madelein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37, rue More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mouski (Québec)  G5L 1P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oint de service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0, boulevard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spé (Québec)  G4X 1A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ôte-Nord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00, boulevard Laure, bureau 19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pt-Îles (Québec)  G4R 1Y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262480" y="2336760"/>
            <a:ext cx="35989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stri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Frontenac, bureau 40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herbrooke (Québec)  J1H 1K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uricie et Centre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des Forges, bureau 20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is-Rivières (Québec)  G9A 2G7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ntré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35, avenue Viger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taouai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55, boulevard de la Gapp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ineau (Québec)  J8T 8H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villon Louis-Jacques-Cas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mpus de l’Université Lava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55, avenue du Séminair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Québec (Québec)  G1V 4N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guenay–Lac-Saint-Jea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930, rue Jacques-Cartier Est, bureau C-10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aguenay (Québec)  G7H 7K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0" name="Image 9" descr="bandeauux ppt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36B16-69B7-4271-9E9D-97BB91CA7E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12-06T17:01:06Z</dcterms:modified>
  <cp:revision>270</cp:revision>
  <dc:subject/>
  <dc:title>Diapositive 1</dc:title>
</cp:coreProperties>
</file>