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661B-D810-418E-9DF6-1B30E59D5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5CDF-D099-4A41-856A-64D356A56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7A9B-C32B-4AB2-B728-5356F83AA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3862-B1EE-4AAA-9AD1-11128C08FB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AE18-1E42-47CD-A8F3-D021E7956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FF7C-6023-4E38-BE41-12C48E06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1C46-0E04-4243-AB6D-D58AF29BF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622F-E0F9-4573-9EB8-5EE3C7A9C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652C-DEF6-4862-B1F3-8240DC8BF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A7A5-89B2-46FF-970A-154DF45EC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BCC7-9B1A-4901-BB19-055E854BE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4AA3-EC55-414A-ABF8-F1FE90B1B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3177E0F-1744-446D-9931-3CAE618D9E9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CBD7-F5C0-4107-9EBF-6A8D4D503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7D2C-6CEF-4BD8-A6CD-905A80AE9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63A1-24AD-477F-8B00-0F9D823026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830F-6526-409A-A3A3-0430352EE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ED1A-AE35-415E-AF3C-FF82C24DB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ECEC-A447-4C92-A5AB-DD4709120E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F3B9532-FB2A-4599-8AF7-D5BBE6428BF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C970-FF70-40E3-8307-770CB67AB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1:06Z</dcterms:modified>
  <cp:revision>270</cp:revision>
  <dc:subject/>
  <dc:title>Diapositive 1</dc:title>
</cp:coreProperties>
</file>