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6520" cy="34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421451-2104-462F-A66F-8349F137AEEF}" type="slidenum">
              <a:rPr b="0" lang="fr-CA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F1B672-C5A6-4A8F-8355-6D4450A6B5F0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017-E9D2-42C1-B6CD-7ABCEF13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F27-E85F-4C4A-A034-30F27D00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7BF-4E05-4D53-9814-C89A0C57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9C2-C07E-4D27-AFFD-B2DA3D74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D7E6-BA7F-4BEB-A030-DF59CF8A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C47A-531E-4759-973C-8B722ABF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7F6D-6F43-41A5-B763-2FBEF46B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EE80-6B3D-4B20-B2BF-6853C5CA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B694-2FE7-4897-8FA4-BEB038F7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08B6-F09A-49C4-8631-C594E299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CEE1-BC14-4525-A9D1-F41904F6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3C6-4A16-4531-9CF6-5C60258A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D470-91F8-4BB1-B2A1-2F8814FA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9E74-8C3B-4D21-B789-6F46E612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9AD3-8E1F-46F7-A7F6-A8CE2777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31CE-2A0B-4CE6-BBFA-674DEEDB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6F68-2425-4FE5-ABE7-07A8189F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5B2-6FA8-4CC4-A9E6-FDEC853E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7FD-7954-4F85-B179-92FAB998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4BAB-0E37-406D-AB38-E9070E38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F188-B48A-4F9D-A2E1-9E0CBDDB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38BF-903E-4DE9-9512-5417E6B7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E3B9-9BBF-4F93-9788-29440DD3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A35-483A-4CA0-97C4-BC3540A9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CAC019-8747-45D0-A73D-E464509751BA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CB9CF4-5775-4467-9129-B7C27E829C2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Arial"/>
                <a:ea typeface="Arial"/>
              </a:rPr>
              <a:t>Quiz</a:t>
            </a:r>
            <a:br>
              <a:rPr sz="4000"/>
            </a:br>
            <a:r>
              <a:rPr b="1" i="1" lang="en-CA" sz="3600" spc="-1" strike="noStrike">
                <a:solidFill>
                  <a:srgbClr val="333399"/>
                </a:solidFill>
                <a:latin typeface="Arial"/>
                <a:ea typeface="Arial"/>
              </a:rPr>
              <a:t>Les relations R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Calibri"/>
              </a:rPr>
              <a:t>RDA fournit des instructions pour quels types de rel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ressources et les personnes/collectivités/fam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œuvres, les expressions, les manifestations et les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personnes, les collectivités et les fam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relations entre les concepts, les objets, les événements et les lieu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" dur="indefinite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" dur="indefinite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87280"/>
            <a:ext cx="822960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Que retrouve-t-on dans les </a:t>
            </a:r>
            <a:br>
              <a:rPr sz="3600"/>
            </a:b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annexes I, J et K?</a:t>
            </a:r>
            <a:r>
              <a:rPr b="1" lang="fr-CA" sz="40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133720"/>
            <a:ext cx="82296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fermées de termes relatifs aux types de médias, de contenus et de supports matériels 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es listes ouvertes d’indicateurs de relation pour qualifier les différents types de relations existant entre les entit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6352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Parmi les énoncés ci-dessous, lesquels expriment une relation entre une œuvre et une perso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9120" y="2575080"/>
            <a:ext cx="808524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uteur du roma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rtiste qui a créé le tableau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e compositeur du concerto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est l’annotateur de la version manuscrite de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" dur="indefinite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" dur="indefinite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  <a:ea typeface="Arial"/>
              </a:rPr>
              <a:t>Les indicateurs de relatio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413000"/>
            <a:ext cx="82296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priment la nature précise d’une re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e à la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fin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s zones 100 ou 700 pour exprimer le rôle de la person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ont codés en $i au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début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 zones 700, 775, etc. pour exprimer une relation entre res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’accordent avec le genre de la person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" dur="indefinite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2" dur="indefinite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50003" t="26393" r="26745" b="16639"/>
          <a:stretch/>
        </p:blipFill>
        <p:spPr>
          <a:xfrm>
            <a:off x="2700360" y="326880"/>
            <a:ext cx="4535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3399"/>
                </a:solidFill>
                <a:latin typeface="Arial"/>
                <a:ea typeface="Arial"/>
              </a:rPr>
              <a:t>Lesquelles des options suivantes sont conformes à R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Quatre zones 700 pour Gariépy, Gauthier, Paulhiac Scherrer et Scherrer, sans $e aute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Une seule zone 700 pour Garié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Aucune zone 7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L’indicateur de relation «auteur», saisi en $e dans quatre zones 700 pour Gariépy, Gauthier, Paulhiac Scherrer et Scherr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1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2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Daniel Paradis</cp:lastModifiedBy>
  <dcterms:modified xsi:type="dcterms:W3CDTF">2013-12-20T19:09:57Z</dcterms:modified>
  <cp:revision>120</cp:revision>
  <dc:subject/>
  <dc:title>Quiz Module 8: les relations RDA</dc:title>
</cp:coreProperties>
</file>