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6520" cy="348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BD164C0-2A9D-4EB6-B405-692884495D5C}" type="slidenum">
              <a:rPr b="0" lang="fr-CA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52EDB3-96D0-4E0A-987F-6681E17C2C08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FBBD-C79A-4074-A5EF-89AFCCE5D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5CD0-3DD1-45CB-9908-A13D5911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E441-A15C-40BA-82AE-4AAD48FDA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0D39-D9D4-4AA1-80AC-5BC00366A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2F8EC-D73F-4E36-B5F7-1CDD3F1FC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D9B1-12F7-4D22-84F4-4C1DF4E3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274F-C3F6-42E2-888C-53085DFC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366E-5A26-4B54-AA6A-87BDB0FC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A8FD-F8E1-48A8-B75D-E615DBC2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1240-549E-421D-83D1-250160F3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C80F-262C-4E6F-AB0B-62C68248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6737-8876-42F2-A3B2-008278B6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8B68-F290-4B75-B018-18DC545D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BA2D-3A1C-4F18-91A2-28ED2A6D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155A-A424-48D7-A25B-09B2EACB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9A4B1-4C6B-4700-A852-69F4D80CE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E9FF0-A112-41B9-ABB9-2351303FD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4F11-D34F-4DD8-A762-99545DF4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1662-B3B9-4372-99A8-AC16BFC8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20B8-63F2-4C45-B139-4AAAF409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E09A-2A0F-4147-BC04-252A2B17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306C-B73F-42E9-BE79-956FC577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15C3-0DD4-4E1A-A6B4-B0B5AB1A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703C-DC8D-4F33-93A7-BCC669F4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E32AEC6-3542-4445-A8B0-180442B0FC2A}" type="slidenum">
              <a:rPr b="0" lang="fr-CA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28C60F2-AE2C-4F29-9D99-E8738AC02D90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CA" sz="4000" spc="-1" strike="noStrike">
                <a:solidFill>
                  <a:srgbClr val="333399"/>
                </a:solidFill>
                <a:latin typeface="Arial"/>
                <a:ea typeface="Arial"/>
              </a:rPr>
              <a:t>Quiz</a:t>
            </a:r>
            <a:br>
              <a:rPr sz="4000"/>
            </a:br>
            <a:r>
              <a:rPr b="1" i="1" lang="en-CA" sz="3600" spc="-1" strike="noStrike">
                <a:solidFill>
                  <a:srgbClr val="333399"/>
                </a:solidFill>
                <a:latin typeface="Arial"/>
                <a:ea typeface="Arial"/>
              </a:rPr>
              <a:t>Les relations R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4000" spc="-1" strike="noStrike">
                <a:solidFill>
                  <a:srgbClr val="333399"/>
                </a:solidFill>
                <a:latin typeface="Calibri"/>
              </a:rPr>
              <a:t>RDA fournit des instructions pour quels types de rel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es relations entre les ressources et les personnes/collectivités/fami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es relations entre les œuvres, les expressions, les manifestations et les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es relations entre les personnes, les collectivités et les fami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es relations entre les concepts, les objets, les événements et les lieu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" dur="indefinite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" dur="indefinite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" dur="indefinite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" dur="indefinite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287280"/>
            <a:ext cx="8229600" cy="12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3600" spc="-1" strike="noStrike">
                <a:solidFill>
                  <a:srgbClr val="333399"/>
                </a:solidFill>
                <a:latin typeface="Arial"/>
                <a:ea typeface="Arial"/>
              </a:rPr>
              <a:t>Que retrouve-t-on dans les </a:t>
            </a:r>
            <a:br>
              <a:rPr sz="3600"/>
            </a:br>
            <a:r>
              <a:rPr b="1" lang="fr-CA" sz="3600" spc="-1" strike="noStrike">
                <a:solidFill>
                  <a:srgbClr val="333399"/>
                </a:solidFill>
                <a:latin typeface="Arial"/>
                <a:ea typeface="Arial"/>
              </a:rPr>
              <a:t>annexes I, J et K?</a:t>
            </a:r>
            <a:r>
              <a:rPr b="1" lang="fr-CA" sz="40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2133720"/>
            <a:ext cx="8229600" cy="29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Des listes fermées de termes relatifs aux types de médias, de contenus et de supports matériels R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Des listes ouvertes d’indicateurs de relation pour qualifier les différents types de relations existant entre les entité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indefinite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" dur="indefinite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" dur="indefinite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263520"/>
            <a:ext cx="82296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3600" spc="-1" strike="noStrike">
                <a:solidFill>
                  <a:srgbClr val="333399"/>
                </a:solidFill>
                <a:latin typeface="Arial"/>
                <a:ea typeface="Arial"/>
              </a:rPr>
              <a:t>Parmi les énoncés ci-dessous, lesquels expriment une relation entre une œuvre et une person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9120" y="2575080"/>
            <a:ext cx="8085240" cy="33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est l’auteur du roman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est l’artiste qui a créé le tableau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est le compositeur du concerto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est l’annotateur de la version manuscrite de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5" dur="indefinite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6" dur="indefinite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indefinite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9" dur="indefinite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0" dur="indefinite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indefinite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3" dur="indefinite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4" dur="indefinite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333399"/>
                </a:solidFill>
                <a:latin typeface="Arial"/>
                <a:ea typeface="Arial"/>
              </a:rPr>
              <a:t>Les indicateurs de relation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1413000"/>
            <a:ext cx="82296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xpriment la nature précise d’une re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Sont codés en $e à la </a:t>
            </a:r>
            <a:r>
              <a:rPr b="0" i="1" lang="fr-FR" sz="3000" spc="-1" strike="noStrike">
                <a:solidFill>
                  <a:srgbClr val="000000"/>
                </a:solidFill>
                <a:latin typeface="Calibri"/>
              </a:rPr>
              <a:t>fin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des zones 100 ou 700 pour exprimer le rôle de la person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Sont codés en $i au </a:t>
            </a:r>
            <a:r>
              <a:rPr b="0" i="1" lang="fr-FR" sz="3000" spc="-1" strike="noStrike">
                <a:solidFill>
                  <a:srgbClr val="000000"/>
                </a:solidFill>
                <a:latin typeface="Calibri"/>
              </a:rPr>
              <a:t>début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de zones 700, 775, etc. pour exprimer une relation entre res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S’accordent avec le genre de la personn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indefinite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1" dur="indefinite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2" dur="indefinite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indefinite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5" dur="indefinite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6" dur="indefinite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9" dur="indefinite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0" dur="indefinite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rcRect l="50003" t="26393" r="26745" b="16639"/>
          <a:stretch/>
        </p:blipFill>
        <p:spPr>
          <a:xfrm>
            <a:off x="2700360" y="326880"/>
            <a:ext cx="45356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333399"/>
                </a:solidFill>
                <a:latin typeface="Arial"/>
                <a:ea typeface="Arial"/>
              </a:rPr>
              <a:t>Lesquelles des options suivantes sont conformes à RD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836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  <a:ea typeface="Arial"/>
              </a:rPr>
              <a:t>Quatre zones 700 pour Gariépy, Gauthier, Paulhiac Scherrer et Scherrer, sans $e auteu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  <a:ea typeface="Arial"/>
              </a:rPr>
              <a:t>Une seule zone 700 pour Garié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  <a:ea typeface="Arial"/>
              </a:rPr>
              <a:t>Aucune zone 7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  <a:ea typeface="Arial"/>
              </a:rPr>
              <a:t>L’indicateur de relation «auteur», saisi en $e dans quatre zones 700 pour Gariépy, Gauthier, Paulhiac Scherrer et Scherr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indefinite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1" dur="indefinite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2" dur="indefinite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indefinite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5" dur="indefinite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6" dur="indefinite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indefinite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9" dur="indefinite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0" dur="indefinite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indefinite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3" dur="indefinite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4" dur="indefinite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7:14:56Z</dcterms:created>
  <dc:creator>Tiburon</dc:creator>
  <dc:description/>
  <dc:language>en-US</dc:language>
  <cp:lastModifiedBy>Daniel Paradis</cp:lastModifiedBy>
  <dcterms:modified xsi:type="dcterms:W3CDTF">2013-12-20T19:09:57Z</dcterms:modified>
  <cp:revision>120</cp:revision>
  <dc:subject/>
  <dc:title>Quiz Module 8: les relations RDA</dc:title>
</cp:coreProperties>
</file>