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B208361-9E9B-4A11-BBBD-02ADF276A1CD}"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58A7CD4-C725-4915-839E-3FC691DDF4E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6D27372-56DF-4E85-98C9-FA00DC63B5C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7B7B155-5A2E-4B27-96D4-B399B9EBC4D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CCF4F37-B0CC-4D85-A799-4BF75F6E0C8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DA89FB1-176F-4308-8E59-63FAEC85766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380E95E-5BFD-4972-9CB8-45CF5A01EE9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58CF616-0778-43D8-A8F3-ABF821E0C7A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5AA122D-4BE2-4671-ACA3-AB24F770066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FB043D6-A5B5-4BCF-B765-25C6EC88733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10A314F-3C0C-45C5-A676-86FD187D7F1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03B5CE6-5BE9-42DF-8B57-1B441B62425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A8891A7-5D8C-4EEE-BD0A-EBB285C73CC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1B3A2CB-49F4-4B34-8E00-835279E3A78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818CEFE-8AE0-4781-A3E5-85DCAAD60ED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BEF2F60-E8DD-4C4B-8423-F90E53626FA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51CA8C-7F28-4235-BC4C-94CABB0C9B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BCF95A-BBB3-4293-81D4-E8DD26BE4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396680-3199-42C5-B44B-DED9017F6D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D4CCE8-F572-4A84-A1AA-6BE0C25986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01EEE2-46AF-4F8F-A499-EA61AE102B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259E63-E804-4B53-8F0C-72F2F5D996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B31F30-4A3F-4A93-A219-E58162D495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25F9F7-ECD3-494F-A8A8-7BBB58586C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F3D7D2-0981-45E0-AC7B-A0F4A18397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C1473D-ECE0-4896-BCC1-AEB07FE7F6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CC8421-5473-480A-894E-795544ED91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64DC80-A93F-4BE0-A914-2580209F09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269F40-16B2-469D-9FF2-0AF7BBB47D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E5892A-71B9-4C59-B434-939AF7FE97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00 $w r $i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optionnelles peuvent être ajoutées dans la zone 5XX $w r $i </a:t>
            </a:r>
            <a:br>
              <a:rPr sz="2800"/>
            </a:br>
            <a:r>
              <a:rPr b="0" lang="fr-CA"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991EC0-4002-4177-B650-B3849A01F3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3D630C-A21E-422F-90B4-385340AC45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priétaires, annotateurs, signataires autographes, etc. associés aux items </a:t>
            </a:r>
            <a:br>
              <a:rPr sz="2800"/>
            </a:br>
            <a:r>
              <a:rPr b="0" lang="fr-CA"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788B40-2BF3-447D-8FBE-FE68C6EFCC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247AFD-3560-449D-9B52-09FF0A16FF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a:t>
            </a:r>
            <a:r>
              <a:rPr b="0" lang="fr-CA"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7B5B40-C21A-406D-AA05-97D3709EF1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1XX</a:t>
            </a:r>
            <a:r>
              <a:rPr b="0" lang="fr-CA" sz="2800" spc="-1" strike="noStrike">
                <a:solidFill>
                  <a:srgbClr val="ff0000"/>
                </a:solidFill>
                <a:latin typeface="Arial"/>
              </a:rPr>
              <a:t> </a:t>
            </a:r>
            <a:r>
              <a:rPr b="0" lang="fr-CA"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2</a:t>
            </a:r>
            <a:r>
              <a:rPr b="0" lang="fr-CA"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3E1B3F-4A8D-46AA-A4B8-146E04061F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a:t>
            </a:r>
            <a:r>
              <a:rPr b="1" lang="fr-CA" sz="2400" spc="-1" strike="noStrike">
                <a:solidFill>
                  <a:srgbClr val="008093"/>
                </a:solidFill>
                <a:latin typeface="Arial Unicode MS"/>
                <a:ea typeface="Arial Unicode MS"/>
              </a:rPr>
              <a:t> </a:t>
            </a:r>
            <a:r>
              <a:rPr b="1" lang="fr-CA" sz="2400" spc="-1" strike="noStrike">
                <a:solidFill>
                  <a:srgbClr val="008093"/>
                </a:solidFill>
                <a:latin typeface="Courier New"/>
                <a:ea typeface="Courier New"/>
              </a:rPr>
              <a:t>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10 $a Nouvelle-Écosse, </a:t>
            </a:r>
            <a:r>
              <a:rPr b="1" lang="fr-CA" sz="2400" spc="-1" strike="noStrike">
                <a:solidFill>
                  <a:srgbClr val="008093"/>
                </a:solidFill>
                <a:latin typeface="Courier New"/>
                <a:ea typeface="Courier New"/>
              </a:rPr>
              <a:t>$e juridiction </a:t>
            </a:r>
            <a:r>
              <a:rPr b="1" lang="fr-CA" sz="2400" spc="-1" strike="noStrike">
                <a:solidFill>
                  <a:srgbClr val="008093"/>
                </a:solidFill>
                <a:latin typeface="Courier New"/>
                <a:ea typeface="Courier New"/>
              </a:rPr>
              <a:t>	</a:t>
            </a:r>
            <a:r>
              <a:rPr b="1" lang="fr-CA" sz="2400" spc="-1" strike="noStrike">
                <a:solidFill>
                  <a:srgbClr val="008093"/>
                </a:solidFill>
                <a:latin typeface="Courier New"/>
                <a:ea typeface="Courier New"/>
              </a:rPr>
              <a:t>promulgatrice</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469515-1F2A-4273-B283-74EA905E03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Institut Aspen France, </a:t>
            </a:r>
            <a:r>
              <a:rPr b="1" lang="fr-CA" sz="2400" spc="-1" strike="noStrike">
                <a:solidFill>
                  <a:srgbClr val="008093"/>
                </a:solidFill>
                <a:latin typeface="Courier New"/>
              </a:rPr>
              <a:t>$e commanditaire</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8A13B9-8094-451A-B9FA-198F95419C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EB5BAD-2358-4AFC-9E11-38445B5DD3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LC :</a:t>
            </a:r>
            <a:r>
              <a:rPr b="0" lang="fr-CA"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A74F3B-2EDE-435D-A5C2-D9F66AF0CB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3A1562-6891-4568-A27C-4DBD029B3A3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6653D2-824E-464A-8FF1-1FBB69DDDF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7XX</a:t>
            </a:r>
            <a:r>
              <a:rPr b="0" lang="fr-CA"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3</a:t>
            </a:r>
            <a:r>
              <a:rPr b="0" lang="fr-CA"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D61030-7766-4D7C-8AE7-4C3278EA8A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A1B5F5-8991-4D8F-8F56-41A18A9F1C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1197A6-E4FB-4DA2-A33B-1BCE6B3601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2994B4-84DC-499C-B309-E6C071F2B9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3E6833-97AD-467F-9E3A-67FC122F37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fr-CA" sz="2400" spc="-1" strike="noStrike">
                <a:solidFill>
                  <a:srgbClr val="008093"/>
                </a:solidFill>
                <a:latin typeface="Arial"/>
              </a:rPr>
              <a:t>*</a:t>
            </a:r>
            <a:r>
              <a:rPr b="0" lang="fr-CA"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E312DD-6B90-4A55-900B-B0C6C7125F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E481B9-3CA1-4011-BD1A-C1B97B4855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57825C-B920-4264-B004-0DB2D46F92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tributeur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B187DD-7569-4F1A-9038-C6BC13AA17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ou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BF8703-AE64-4F16-A3D9-3E4280F05C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a:t>
            </a:r>
            <a:r>
              <a:rPr b="0" lang="fr-CA" sz="2800" spc="-1" strike="noStrike">
                <a:solidFill>
                  <a:srgbClr val="008093"/>
                </a:solidFill>
                <a:latin typeface="Arial"/>
              </a:rPr>
              <a:t>qu’est-ce que c’est</a:t>
            </a:r>
            <a:r>
              <a:rPr b="0" lang="fr-CA"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urquoi</a:t>
            </a:r>
            <a:r>
              <a:rPr b="0" lang="fr-CA"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C58D5C-5638-4171-B445-BCEBE446B9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D99D8C-EAF8-4C1E-A4D8-1C942CCAD4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s types de ressources, </a:t>
            </a:r>
            <a:r>
              <a:rPr b="0" lang="fr-CA" sz="2400" spc="-1" strike="noStrike">
                <a:solidFill>
                  <a:srgbClr val="008093"/>
                </a:solidFill>
                <a:latin typeface="Arial"/>
              </a:rPr>
              <a:t>ne pas créer</a:t>
            </a:r>
            <a:r>
              <a:rPr b="0" lang="fr-CA"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44534D-BCA5-46B6-A303-6D4F48A771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t>
            </a:r>
            <a:r>
              <a:rPr b="1" lang="fr-CA" sz="2400" spc="-1" strike="noStrike">
                <a:solidFill>
                  <a:srgbClr val="000000"/>
                </a:solidFill>
                <a:latin typeface="Courier New"/>
              </a:rPr>
              <a:t>	</a:t>
            </a:r>
            <a:r>
              <a:rPr b="1" lang="fr-CA"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a:t>
            </a:r>
            <a:r>
              <a:rPr b="1" lang="fr-CA" sz="2400" spc="-1" strike="noStrike">
                <a:solidFill>
                  <a:srgbClr val="000000"/>
                </a:solidFill>
                <a:latin typeface="Courier New"/>
              </a:rPr>
              <a:t>	</a:t>
            </a:r>
            <a:r>
              <a:rPr b="1" lang="fr-CA"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t>
            </a:r>
            <a:r>
              <a:rPr b="1" lang="fr-CA" sz="2400" spc="-1" strike="noStrike">
                <a:solidFill>
                  <a:srgbClr val="000000"/>
                </a:solidFill>
                <a:latin typeface="Courier New"/>
              </a:rPr>
              <a:t>	</a:t>
            </a:r>
            <a:r>
              <a:rPr b="1" lang="fr-CA"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A98BCB-C65E-4DCC-BC01-921EA3F56F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085841-959C-4E25-8C3C-C74DD2117A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15E824-D675-4ECD-AFDF-AEA63FE9FC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000000"/>
                </a:solidFill>
                <a:latin typeface="Arial Unicode MS"/>
                <a:ea typeface="Arial Unicode MS"/>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E1BDE1-730D-4CDB-A0C5-5291D0E579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B9090D-F7A3-43B2-B708-629B6866A8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4CE49B-94AA-4662-9150-68CF8C25A8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r>
              <a:rPr b="0" lang="fr-CA"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972F7E-0873-4626-BD46-CD396A54C4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a:t>
            </a:r>
            <a:r>
              <a:rPr b="0" lang="fr-CA"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 :</a:t>
            </a:r>
            <a:r>
              <a:rPr b="0" lang="fr-CA" sz="2800" spc="-1" strike="noStrike">
                <a:solidFill>
                  <a:srgbClr val="000000"/>
                </a:solidFill>
                <a:latin typeface="Arial"/>
              </a:rPr>
              <a:t> 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4</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75AEDB-0678-446C-B650-B6B563CC33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ntités</a:t>
            </a:r>
            <a:r>
              <a:rPr b="0" lang="fr-CA"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Types</a:t>
            </a:r>
            <a:r>
              <a:rPr b="0" lang="fr-CA"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759892-9CE8-4594-B5A7-4287DFEC4D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69C434-885D-4219-B9BC-812502E033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77F4A4-DE0A-44C4-9D2C-F94052ABF5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qui s’appliquent à une </a:t>
            </a:r>
            <a:r>
              <a:rPr b="0" lang="fr-CA" sz="2800" spc="-1" strike="noStrike">
                <a:solidFill>
                  <a:srgbClr val="008093"/>
                </a:solidFill>
                <a:latin typeface="Arial"/>
              </a:rPr>
              <a:t>copie unique</a:t>
            </a:r>
            <a:r>
              <a:rPr b="0" lang="fr-CA" sz="2800" spc="-1" strike="noStrike">
                <a:solidFill>
                  <a:srgbClr val="000000"/>
                </a:solidFill>
                <a:latin typeface="Arial"/>
              </a:rPr>
              <a:t> de la manifestation – habituellement, information </a:t>
            </a:r>
            <a:r>
              <a:rPr b="0" lang="fr-CA"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228F05-3755-4639-92D9-FB3AA406C9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 pas</a:t>
            </a:r>
            <a:r>
              <a:rPr b="0" lang="fr-CA"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5</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9A2225-DD35-4304-AC36-82F5EFD189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1 ## </a:t>
            </a:r>
            <a:r>
              <a:rPr b="1" lang="fr-CA" sz="2400" spc="-1" strike="noStrike">
                <a:solidFill>
                  <a:srgbClr val="008093"/>
                </a:solidFill>
                <a:latin typeface="Courier New"/>
              </a:rPr>
              <a:t>$a Relié avec :</a:t>
            </a:r>
            <a:r>
              <a:rPr b="1" lang="fr-CA"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3B4EBA-5AAA-4EC5-873F-AFBF8A0694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504E59-BFDE-4180-B85B-8C07C97467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établies dans les notices d’</a:t>
            </a:r>
            <a:r>
              <a:rPr b="0" lang="fr-CA" sz="2800" spc="-1" strike="noStrike">
                <a:solidFill>
                  <a:srgbClr val="008093"/>
                </a:solidFill>
                <a:latin typeface="Arial"/>
              </a:rPr>
              <a:t>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845615-8A99-4ACE-A815-B72738F45B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416746-590A-4145-9D11-D174C2E8E8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enregistrées dans la zone MARC </a:t>
            </a:r>
            <a:r>
              <a:rPr b="0" lang="fr-CA" sz="2800" spc="-1" strike="noStrike">
                <a:solidFill>
                  <a:srgbClr val="008093"/>
                </a:solidFill>
                <a:latin typeface="Arial"/>
              </a:rPr>
              <a:t>5XX</a:t>
            </a:r>
            <a:r>
              <a:rPr b="0" lang="fr-CA" sz="2800" spc="-1" strike="noStrike">
                <a:solidFill>
                  <a:srgbClr val="000000"/>
                </a:solidFill>
                <a:latin typeface="Arial"/>
              </a:rPr>
              <a:t> de la </a:t>
            </a:r>
            <a:r>
              <a:rPr b="0" lang="fr-CA" sz="2800" spc="-1" strike="noStrike">
                <a:solidFill>
                  <a:srgbClr val="008093"/>
                </a:solidFill>
                <a:latin typeface="Arial"/>
              </a:rPr>
              <a:t>notice d’autorité</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relations sont indiquées, dans le format MARC, par une valeur saisie dans la </a:t>
            </a:r>
            <a:r>
              <a:rPr b="0" lang="fr-CA"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utilise la sous-zone $w pour</a:t>
            </a:r>
            <a:r>
              <a:rPr b="0" lang="fr-CA" sz="2800" spc="-1" strike="noStrike">
                <a:solidFill>
                  <a:srgbClr val="008093"/>
                </a:solidFill>
                <a:latin typeface="Arial"/>
              </a:rPr>
              <a:t> </a:t>
            </a:r>
            <a:r>
              <a:rPr b="0" lang="fr-CA"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9AA9AA-C4D5-4100-9C75-61D1DCDA3E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réelle :</a:t>
            </a:r>
            <a:r>
              <a:rPr b="1" lang="fr-CA" sz="2400" spc="-1" strike="noStrike">
                <a:solidFill>
                  <a:srgbClr val="000000"/>
                </a:solidFill>
                <a:latin typeface="Courier New"/>
              </a:rPr>
              <a:t>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alternativ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A1F3EF-0E41-4A5D-915E-B7CCCF72C4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943687-842D-43F7-A5E3-C2E33DBCEF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3B4604-E000-4675-81D7-65EB5FE3A1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8265DC-72C9-4607-A640-0BC0F089A7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a</a:t>
            </a:r>
            <a:r>
              <a:rPr b="1" lang="fr-CA"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b</a:t>
            </a:r>
            <a:r>
              <a:rPr b="1" lang="fr-CA"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DA7728-D2C5-41F8-89ED-061375B9D8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a:t>
            </a:r>
            <a:r>
              <a:rPr b="0" lang="fr-CA"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catalogueur juge s’il est pertinent de saisir dans la </a:t>
            </a:r>
            <a:r>
              <a:rPr b="0" lang="fr-CA" sz="2400" spc="-1" strike="noStrike">
                <a:solidFill>
                  <a:srgbClr val="008093"/>
                </a:solidFill>
                <a:latin typeface="Arial"/>
              </a:rPr>
              <a:t>sous-zone $i</a:t>
            </a:r>
            <a:r>
              <a:rPr b="0" lang="fr-CA" sz="2400" spc="-1" strike="noStrike">
                <a:solidFill>
                  <a:srgbClr val="000000"/>
                </a:solidFill>
                <a:latin typeface="Arial"/>
              </a:rPr>
              <a:t> un </a:t>
            </a:r>
            <a:r>
              <a:rPr b="0" lang="fr-CA" sz="2400" spc="-1" strike="noStrike">
                <a:solidFill>
                  <a:srgbClr val="008093"/>
                </a:solidFill>
                <a:latin typeface="Arial"/>
              </a:rPr>
              <a:t>indicateur de relation issu de l’annexe K</a:t>
            </a:r>
            <a:r>
              <a:rPr b="0" lang="fr-CA"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 faut utiliser la valeur </a:t>
            </a:r>
            <a:r>
              <a:rPr b="0" lang="fr-CA" sz="2400" spc="-1" strike="noStrike">
                <a:solidFill>
                  <a:srgbClr val="008093"/>
                </a:solidFill>
                <a:latin typeface="Arial"/>
              </a:rPr>
              <a:t>« r » dans la sous-zone $w</a:t>
            </a:r>
            <a:r>
              <a:rPr b="0" lang="fr-CA"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169A88-5C6B-44D1-88F9-2206E80020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Exemple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Lacombe, Aurèle</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 (Famille : $d 1869-1999 : $c</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Toronto, 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BA527F-D3AE-4E02-9346-A1FB3AE6B9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litique LC </a:t>
            </a:r>
            <a:r>
              <a:rPr b="0" lang="fr-CA"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685800" y="776160"/>
            <a:ext cx="7764480" cy="441972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DB7A5A-C704-45D0-9A13-1272E85FC5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423720" y="1600200"/>
            <a:ext cx="8460000" cy="4525920"/>
          </a:xfrm>
          <a:prstGeom prst="rect">
            <a:avLst/>
          </a:prstGeom>
          <a:noFill/>
          <a:ln w="0">
            <a:noFill/>
          </a:ln>
        </p:spPr>
        <p:txBody>
          <a:bodyPr anchor="t">
            <a:normAutofit/>
          </a:bodyPr>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oints d’accès autorisés</a:t>
            </a:r>
            <a:br>
              <a:rPr sz="2200"/>
            </a:br>
            <a:r>
              <a:rPr b="1" lang="fr-CA" sz="2200" spc="-1" strike="noStrike">
                <a:solidFill>
                  <a:srgbClr val="000000"/>
                </a:solidFill>
                <a:latin typeface="Courier New"/>
              </a:rPr>
              <a:t>110 2# </a:t>
            </a:r>
            <a:r>
              <a:rPr b="1" lang="fr-CA" sz="2200" spc="-1" strike="noStrike">
                <a:solidFill>
                  <a:srgbClr val="000000"/>
                </a:solidFill>
                <a:latin typeface="Courier New"/>
              </a:rPr>
              <a:t>	</a:t>
            </a:r>
            <a:r>
              <a:rPr b="1" lang="fr-CA" sz="2200" spc="-1" strike="noStrike">
                <a:solidFill>
                  <a:srgbClr val="000000"/>
                </a:solidFill>
                <a:latin typeface="Courier New"/>
              </a:rPr>
              <a:t>$a Société canadienne d'anthropologie, </a:t>
            </a:r>
            <a:r>
              <a:rPr b="1" lang="fr-CA" sz="2200" spc="-1" strike="noStrike">
                <a:solidFill>
                  <a:srgbClr val="ff0000"/>
                </a:solidFill>
                <a:latin typeface="Courier New"/>
              </a:rPr>
              <a:t>	</a:t>
            </a:r>
            <a:r>
              <a:rPr b="1" lang="fr-CA" sz="2200" spc="-1" strike="noStrike">
                <a:solidFill>
                  <a:srgbClr val="008093"/>
                </a:solidFill>
                <a:latin typeface="Courier New"/>
              </a:rPr>
              <a:t>$e auteur</a:t>
            </a:r>
            <a:r>
              <a:rPr b="1" lang="fr-CA" sz="2200" spc="-1" strike="noStrike">
                <a:solidFill>
                  <a:srgbClr val="000000"/>
                </a:solidFill>
                <a:latin typeface="Courier New"/>
              </a:rPr>
              <a:t>.</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structurée</a:t>
            </a:r>
            <a:br>
              <a:rPr sz="2200"/>
            </a:br>
            <a:r>
              <a:rPr b="1" lang="fr-CA" sz="2200" spc="-1" strike="noStrike">
                <a:solidFill>
                  <a:srgbClr val="008093"/>
                </a:solidFill>
                <a:latin typeface="Courier New"/>
              </a:rPr>
              <a:t>776 08 $i Reproduction de (manifestation): </a:t>
            </a:r>
            <a:r>
              <a:rPr b="1" lang="fr-CA" sz="2200" spc="-1" strike="noStrike">
                <a:solidFill>
                  <a:srgbClr val="000000"/>
                </a:solidFill>
                <a:latin typeface="Courier New"/>
              </a:rPr>
              <a:t>$a</a:t>
            </a:r>
            <a:r>
              <a:rPr b="1" lang="fr-CA" sz="2200" spc="-1" strike="noStrike">
                <a:solidFill>
                  <a:srgbClr val="000000"/>
                </a:solidFill>
                <a:latin typeface="Arial Unicode MS"/>
                <a:ea typeface="Arial Unicode MS"/>
              </a:rPr>
              <a:t> </a:t>
            </a:r>
            <a:r>
              <a:rPr b="1" lang="fr-CA" sz="2200" spc="-1" strike="noStrike">
                <a:solidFill>
                  <a:srgbClr val="000000"/>
                </a:solidFill>
                <a:latin typeface="Courier New"/>
              </a:rPr>
              <a:t> Lemoine, Wilfrid, 1927-2003 $t Les anges dans la ville ; suivi de L'ange gardien ; L'ange de solitude $d Montréal : Éditions d’Orphée, 1959</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non structurée</a:t>
            </a:r>
            <a:br>
              <a:rPr sz="2200"/>
            </a:br>
            <a:r>
              <a:rPr b="1" lang="fr-CA" sz="2200" spc="-1" strike="noStrike">
                <a:solidFill>
                  <a:srgbClr val="008093"/>
                </a:solidFill>
                <a:latin typeface="Courier New"/>
              </a:rPr>
              <a:t>500</a:t>
            </a:r>
            <a:r>
              <a:rPr b="1" lang="fr-CA" sz="2200" spc="-1" strike="noStrike">
                <a:solidFill>
                  <a:srgbClr val="000000"/>
                </a:solidFill>
                <a:latin typeface="Courier New"/>
              </a:rPr>
              <a:t> ## $a Compilation d’essais, entretiens et discussions précédemment publiés dans le webzine Library juice entre 1998 et 20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EE4459-29DC-4127-8147-6E4557816D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BANQ</cp:lastModifiedBy>
  <cp:lastPrinted>2014-03-31T19:11:59Z</cp:lastPrinted>
  <dcterms:modified xsi:type="dcterms:W3CDTF">2014-07-03T19:43:59Z</dcterms:modified>
  <cp:revision>352</cp:revision>
  <dc:subject/>
  <dc:title>Diapositive 1</dc:title>
</cp:coreProperties>
</file>