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B62DC9-B6AD-4F06-AC8A-6C6E5FD35F36}"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8788399-97EC-4CFC-9F72-082E1137935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EA0B7B-8EF3-46A3-BA7E-77C49E48BCC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91FD9A7-77F2-4EBE-BE6F-6904C57BB3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3971F3D-CDB5-4BC1-8FE6-268C333BDCA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C247E29-7694-42EE-893B-6A59E133C02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B1DE312-300C-42EA-92C0-1C4CDE87051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4D4E225-9016-4B8F-BD18-AD2DD65DC43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7D950A4-BB35-401E-AAEB-13711919770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DE09F22-48D9-432B-88A8-53FA8E50372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42B6935-6C3D-4F26-A964-0383CB3B839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657EB30-AA24-492F-83C8-B7F3D0D91E2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982A858-2DDC-4C2C-9BE9-0F5F514F19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8093163-419B-4D3B-B382-CC47B6840D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1876E2E-3DA7-4F74-926D-8924C03FD3A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895F5DC-B4C8-48A0-A739-75E03854C9E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E4F40B-CF7C-428C-A25F-6210903871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093715-24CC-456B-BBAF-86A632BFB3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402368-C21C-43D6-B2F4-8DEB96CF77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30F2DD-4763-401C-8FCF-4D7CF6D63D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8BC668-1C52-4839-87D0-33D76F1E13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32DC2E-5CD1-46C5-9A86-FB12A579C4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475569-FC8F-42FB-8564-5F6BA764B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B1A802-4EF0-42C0-B0C0-BBC7AC6BC9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E27AAC-E003-42A7-9E84-42018F689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A0EA6-5367-46EB-B49C-DE70F46680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C1770-8D37-4C40-B022-6D5CE57987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031BD2-3300-4D34-A3FB-B2083D8BEB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9A3E44-C506-4DAA-98FA-1CE8E230F3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67B1AB-CB40-446D-ABB5-8D50103727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00 $w r $i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optionnelles peuvent être ajoutées dans la zone 5XX $w r $i </a:t>
            </a:r>
            <a:br>
              <a:rPr sz="2800"/>
            </a:br>
            <a:r>
              <a:rPr b="0" lang="fr-CA"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AE720C-4E87-4844-BFD4-69B67FF3DA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2CA382-6B25-4504-AE30-0DB718B0BD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priétaires, annotateurs, signataires autographes, etc. associés aux items </a:t>
            </a:r>
            <a:br>
              <a:rPr sz="2800"/>
            </a:br>
            <a:r>
              <a:rPr b="0" lang="fr-CA"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D6AF61-042D-4362-AB9B-860E6D4EE2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F2C463-DFEC-4D4D-BF0F-DFCC8AB938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a:t>
            </a:r>
            <a:r>
              <a:rPr b="0" lang="fr-CA"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5B7A5C-5306-4A2E-AD42-21B0D5921F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1XX</a:t>
            </a:r>
            <a:r>
              <a:rPr b="0" lang="fr-CA" sz="2800" spc="-1" strike="noStrike">
                <a:solidFill>
                  <a:srgbClr val="ff0000"/>
                </a:solidFill>
                <a:latin typeface="Arial"/>
              </a:rPr>
              <a:t> </a:t>
            </a:r>
            <a:r>
              <a:rPr b="0" lang="fr-CA"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2</a:t>
            </a:r>
            <a:r>
              <a:rPr b="0" lang="fr-CA"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5B2F13-2BF9-4004-B38B-D9DEEE084C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a:t>
            </a:r>
            <a:r>
              <a:rPr b="1" lang="fr-CA" sz="2400" spc="-1" strike="noStrike">
                <a:solidFill>
                  <a:srgbClr val="008093"/>
                </a:solidFill>
                <a:latin typeface="Arial Unicode MS"/>
                <a:ea typeface="Arial Unicode MS"/>
              </a:rPr>
              <a:t> </a:t>
            </a:r>
            <a:r>
              <a:rPr b="1" lang="fr-CA" sz="2400" spc="-1" strike="noStrike">
                <a:solidFill>
                  <a:srgbClr val="008093"/>
                </a:solidFill>
                <a:latin typeface="Courier New"/>
                <a:ea typeface="Courier New"/>
              </a:rPr>
              <a:t>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10 $a Nouvelle-Écosse, </a:t>
            </a:r>
            <a:r>
              <a:rPr b="1" lang="fr-CA" sz="2400" spc="-1" strike="noStrike">
                <a:solidFill>
                  <a:srgbClr val="008093"/>
                </a:solidFill>
                <a:latin typeface="Courier New"/>
                <a:ea typeface="Courier New"/>
              </a:rPr>
              <a:t>$e juridiction </a:t>
            </a:r>
            <a:r>
              <a:rPr b="1" lang="fr-CA" sz="2400" spc="-1" strike="noStrike">
                <a:solidFill>
                  <a:srgbClr val="008093"/>
                </a:solidFill>
                <a:latin typeface="Courier New"/>
                <a:ea typeface="Courier New"/>
              </a:rPr>
              <a:t>	</a:t>
            </a:r>
            <a:r>
              <a:rPr b="1" lang="fr-CA" sz="2400" spc="-1" strike="noStrike">
                <a:solidFill>
                  <a:srgbClr val="008093"/>
                </a:solidFill>
                <a:latin typeface="Courier New"/>
                <a:ea typeface="Courier New"/>
              </a:rPr>
              <a:t>promulgatrice</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6315F0-AF7A-47CA-8A11-E0F63D6A48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Institut Aspen France, </a:t>
            </a:r>
            <a:r>
              <a:rPr b="1" lang="fr-CA" sz="2400" spc="-1" strike="noStrike">
                <a:solidFill>
                  <a:srgbClr val="008093"/>
                </a:solidFill>
                <a:latin typeface="Courier New"/>
              </a:rPr>
              <a:t>$e commanditaire</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81451C-0827-45B8-B70F-C1A04C43DE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6A2A88A-3DBF-41CD-9B6B-2127B2DD67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LC :</a:t>
            </a:r>
            <a:r>
              <a:rPr b="0" lang="fr-CA"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D7596D-F00B-42E5-BA15-C1BB1D6BAE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16A98C-85BD-4EFD-8B6C-8F67F3EDD8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875952-D62D-465C-A6DB-4BE4B119F7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7XX</a:t>
            </a:r>
            <a:r>
              <a:rPr b="0" lang="fr-CA"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3</a:t>
            </a:r>
            <a:r>
              <a:rPr b="0" lang="fr-CA"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C12E81-C471-4884-8757-E84E6C5430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0065AD-D196-48E7-8968-801F8F0E68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B976C1-C508-4982-AF1B-9692667450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E61C34-81CE-4448-82C0-7206BDD148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644510-8437-4562-9595-AF5A5D61B5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fr-CA" sz="2400" spc="-1" strike="noStrike">
                <a:solidFill>
                  <a:srgbClr val="008093"/>
                </a:solidFill>
                <a:latin typeface="Arial"/>
              </a:rPr>
              <a:t>*</a:t>
            </a:r>
            <a:r>
              <a:rPr b="0" lang="fr-CA"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81B3C8-5E7B-41D6-BC42-E5FC401645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99C58F-F93D-40CC-A204-AC57E25DF1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9C3139-4FC6-4E57-97DB-74450A5232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tributeur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95B853-49CB-4BDE-A19D-5D750C774F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ou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FFAA11-F9FE-464D-9565-ECDA204E72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a:t>
            </a:r>
            <a:r>
              <a:rPr b="0" lang="fr-CA" sz="2800" spc="-1" strike="noStrike">
                <a:solidFill>
                  <a:srgbClr val="008093"/>
                </a:solidFill>
                <a:latin typeface="Arial"/>
              </a:rPr>
              <a:t>qu’est-ce que c’est</a:t>
            </a:r>
            <a:r>
              <a:rPr b="0" lang="fr-CA"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urquoi</a:t>
            </a:r>
            <a:r>
              <a:rPr b="0" lang="fr-CA"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6EB8DB-A24F-42FE-B4FD-90B0D62C0F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871C1F-1DB9-4849-BA7C-307CF47844E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s types de ressources, </a:t>
            </a:r>
            <a:r>
              <a:rPr b="0" lang="fr-CA" sz="2400" spc="-1" strike="noStrike">
                <a:solidFill>
                  <a:srgbClr val="008093"/>
                </a:solidFill>
                <a:latin typeface="Arial"/>
              </a:rPr>
              <a:t>ne pas créer</a:t>
            </a:r>
            <a:r>
              <a:rPr b="0" lang="fr-CA"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B0CCB0-ACAE-40C0-987D-62ACFF3CE1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t>
            </a:r>
            <a:r>
              <a:rPr b="1" lang="fr-CA" sz="2400" spc="-1" strike="noStrike">
                <a:solidFill>
                  <a:srgbClr val="000000"/>
                </a:solidFill>
                <a:latin typeface="Courier New"/>
              </a:rPr>
              <a:t>	</a:t>
            </a:r>
            <a:r>
              <a:rPr b="1" lang="fr-CA"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a:t>
            </a:r>
            <a:r>
              <a:rPr b="1" lang="fr-CA" sz="2400" spc="-1" strike="noStrike">
                <a:solidFill>
                  <a:srgbClr val="000000"/>
                </a:solidFill>
                <a:latin typeface="Courier New"/>
              </a:rPr>
              <a:t>	</a:t>
            </a:r>
            <a:r>
              <a:rPr b="1" lang="fr-CA"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t>
            </a:r>
            <a:r>
              <a:rPr b="1" lang="fr-CA" sz="2400" spc="-1" strike="noStrike">
                <a:solidFill>
                  <a:srgbClr val="000000"/>
                </a:solidFill>
                <a:latin typeface="Courier New"/>
              </a:rPr>
              <a:t>	</a:t>
            </a:r>
            <a:r>
              <a:rPr b="1" lang="fr-CA"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70F333-4F6D-4D76-B286-D6D6F1EB91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312782-BFF3-4227-8F2A-81933F3663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8FE8DD-03CE-42DF-B91C-DD59E45932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000000"/>
                </a:solidFill>
                <a:latin typeface="Arial Unicode MS"/>
                <a:ea typeface="Arial Unicode MS"/>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4D88A6-5D91-4F5E-AA70-F8F5BEC521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C2048A-D5EA-4CD7-9484-F7491B60BB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6DF045-1ECE-4ABB-815D-B08BF0DB3C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r>
              <a:rPr b="0" lang="fr-CA"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DD781F-6CF1-4671-B24F-28B49A75DA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a:t>
            </a:r>
            <a:r>
              <a:rPr b="0" lang="fr-CA"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 :</a:t>
            </a:r>
            <a:r>
              <a:rPr b="0" lang="fr-CA" sz="2800" spc="-1" strike="noStrike">
                <a:solidFill>
                  <a:srgbClr val="000000"/>
                </a:solidFill>
                <a:latin typeface="Arial"/>
              </a:rPr>
              <a:t> 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4</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D5E147-81CA-41F5-8070-75BFAEBEE1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ntités</a:t>
            </a:r>
            <a:r>
              <a:rPr b="0" lang="fr-CA"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Types</a:t>
            </a:r>
            <a:r>
              <a:rPr b="0" lang="fr-CA"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CC8D07-F5D5-4EB2-99C2-8360FE3C93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B8812F-9E70-41F9-B06C-C7ED8D8A09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811CA7-6142-42FB-9033-2A70982AB9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qui s’appliquent à une </a:t>
            </a:r>
            <a:r>
              <a:rPr b="0" lang="fr-CA" sz="2800" spc="-1" strike="noStrike">
                <a:solidFill>
                  <a:srgbClr val="008093"/>
                </a:solidFill>
                <a:latin typeface="Arial"/>
              </a:rPr>
              <a:t>copie unique</a:t>
            </a:r>
            <a:r>
              <a:rPr b="0" lang="fr-CA" sz="2800" spc="-1" strike="noStrike">
                <a:solidFill>
                  <a:srgbClr val="000000"/>
                </a:solidFill>
                <a:latin typeface="Arial"/>
              </a:rPr>
              <a:t> de la manifestation – habituellement, information </a:t>
            </a:r>
            <a:r>
              <a:rPr b="0" lang="fr-CA"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2E85DB-2AAE-4882-9067-6EE19F2A4A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 pas</a:t>
            </a:r>
            <a:r>
              <a:rPr b="0" lang="fr-CA"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5</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3A7914-A3E3-4DF4-AE33-C13DE1409E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1 ## </a:t>
            </a:r>
            <a:r>
              <a:rPr b="1" lang="fr-CA" sz="2400" spc="-1" strike="noStrike">
                <a:solidFill>
                  <a:srgbClr val="008093"/>
                </a:solidFill>
                <a:latin typeface="Courier New"/>
              </a:rPr>
              <a:t>$a Relié avec :</a:t>
            </a:r>
            <a:r>
              <a:rPr b="1" lang="fr-CA"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3B5B1C-B141-44E6-B78F-0DB0390F52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B20FA1-FB01-4A8E-8539-4AF82C71BD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établies dans les notices d’</a:t>
            </a:r>
            <a:r>
              <a:rPr b="0" lang="fr-CA" sz="2800" spc="-1" strike="noStrike">
                <a:solidFill>
                  <a:srgbClr val="008093"/>
                </a:solidFill>
                <a:latin typeface="Arial"/>
              </a:rPr>
              <a:t>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F7C8D7-5813-4E12-83AD-61144D79A7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B96C50-CED0-45C9-9B6F-63443B0CCE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enregistrées dans la zone MARC </a:t>
            </a:r>
            <a:r>
              <a:rPr b="0" lang="fr-CA" sz="2800" spc="-1" strike="noStrike">
                <a:solidFill>
                  <a:srgbClr val="008093"/>
                </a:solidFill>
                <a:latin typeface="Arial"/>
              </a:rPr>
              <a:t>5XX</a:t>
            </a:r>
            <a:r>
              <a:rPr b="0" lang="fr-CA" sz="2800" spc="-1" strike="noStrike">
                <a:solidFill>
                  <a:srgbClr val="000000"/>
                </a:solidFill>
                <a:latin typeface="Arial"/>
              </a:rPr>
              <a:t> de la </a:t>
            </a:r>
            <a:r>
              <a:rPr b="0" lang="fr-CA" sz="2800" spc="-1" strike="noStrike">
                <a:solidFill>
                  <a:srgbClr val="008093"/>
                </a:solidFill>
                <a:latin typeface="Arial"/>
              </a:rPr>
              <a:t>notice d’autorité</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relations sont indiquées, dans le format MARC, par une valeur saisie dans la </a:t>
            </a:r>
            <a:r>
              <a:rPr b="0" lang="fr-CA"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utilise la sous-zone $w pour</a:t>
            </a:r>
            <a:r>
              <a:rPr b="0" lang="fr-CA" sz="2800" spc="-1" strike="noStrike">
                <a:solidFill>
                  <a:srgbClr val="008093"/>
                </a:solidFill>
                <a:latin typeface="Arial"/>
              </a:rPr>
              <a:t> </a:t>
            </a:r>
            <a:r>
              <a:rPr b="0" lang="fr-CA"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6025A7-B019-4FB2-AAFB-D0969948E7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réelle :</a:t>
            </a:r>
            <a:r>
              <a:rPr b="1" lang="fr-CA" sz="2400" spc="-1" strike="noStrike">
                <a:solidFill>
                  <a:srgbClr val="000000"/>
                </a:solidFill>
                <a:latin typeface="Courier New"/>
              </a:rPr>
              <a:t>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alternativ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3922B9-4E2A-4138-91E4-0C312D1D3F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98A941-B452-4EE7-8BF0-DDF077C978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8CEFCA-5BA9-4E69-B8DC-F4BE273EFD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DED0FE-24C8-43CB-8DD1-DBD43B95A9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a</a:t>
            </a:r>
            <a:r>
              <a:rPr b="1" lang="fr-CA"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b</a:t>
            </a:r>
            <a:r>
              <a:rPr b="1" lang="fr-CA"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32CDCF-7B05-4AB6-B1E5-1B916D6E41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a:t>
            </a:r>
            <a:r>
              <a:rPr b="0" lang="fr-CA"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catalogueur juge s’il est pertinent de saisir dans la </a:t>
            </a:r>
            <a:r>
              <a:rPr b="0" lang="fr-CA" sz="2400" spc="-1" strike="noStrike">
                <a:solidFill>
                  <a:srgbClr val="008093"/>
                </a:solidFill>
                <a:latin typeface="Arial"/>
              </a:rPr>
              <a:t>sous-zone $i</a:t>
            </a:r>
            <a:r>
              <a:rPr b="0" lang="fr-CA" sz="2400" spc="-1" strike="noStrike">
                <a:solidFill>
                  <a:srgbClr val="000000"/>
                </a:solidFill>
                <a:latin typeface="Arial"/>
              </a:rPr>
              <a:t> un </a:t>
            </a:r>
            <a:r>
              <a:rPr b="0" lang="fr-CA" sz="2400" spc="-1" strike="noStrike">
                <a:solidFill>
                  <a:srgbClr val="008093"/>
                </a:solidFill>
                <a:latin typeface="Arial"/>
              </a:rPr>
              <a:t>indicateur de relation issu de l’annexe K</a:t>
            </a:r>
            <a:r>
              <a:rPr b="0" lang="fr-CA"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 faut utiliser la valeur </a:t>
            </a:r>
            <a:r>
              <a:rPr b="0" lang="fr-CA" sz="2400" spc="-1" strike="noStrike">
                <a:solidFill>
                  <a:srgbClr val="008093"/>
                </a:solidFill>
                <a:latin typeface="Arial"/>
              </a:rPr>
              <a:t>« r » dans la sous-zone $w</a:t>
            </a:r>
            <a:r>
              <a:rPr b="0" lang="fr-CA"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66A684-B441-48BB-ABDD-A6938F7FFCA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Exemple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Lacombe, Aurèle</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 (Famille : $d 1869-1999 : $c</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Toronto, 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6A2B443-52C8-4F35-BA92-350F1D0BB0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litique LC </a:t>
            </a:r>
            <a:r>
              <a:rPr b="0" lang="fr-CA"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685800" y="776160"/>
            <a:ext cx="7764480" cy="441972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C4F919-A9A7-40DE-90A8-1CD62BDD58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423720" y="1600200"/>
            <a:ext cx="8460000" cy="4525920"/>
          </a:xfrm>
          <a:prstGeom prst="rect">
            <a:avLst/>
          </a:prstGeom>
          <a:noFill/>
          <a:ln w="0">
            <a:noFill/>
          </a:ln>
        </p:spPr>
        <p:txBody>
          <a:bodyPr anchor="t">
            <a:normAutofit/>
          </a:bodyPr>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oints d’accès autorisés</a:t>
            </a:r>
            <a:br>
              <a:rPr sz="2200"/>
            </a:br>
            <a:r>
              <a:rPr b="1" lang="fr-CA" sz="2200" spc="-1" strike="noStrike">
                <a:solidFill>
                  <a:srgbClr val="000000"/>
                </a:solidFill>
                <a:latin typeface="Courier New"/>
              </a:rPr>
              <a:t>110 2# </a:t>
            </a:r>
            <a:r>
              <a:rPr b="1" lang="fr-CA" sz="2200" spc="-1" strike="noStrike">
                <a:solidFill>
                  <a:srgbClr val="000000"/>
                </a:solidFill>
                <a:latin typeface="Courier New"/>
              </a:rPr>
              <a:t>	</a:t>
            </a:r>
            <a:r>
              <a:rPr b="1" lang="fr-CA" sz="2200" spc="-1" strike="noStrike">
                <a:solidFill>
                  <a:srgbClr val="000000"/>
                </a:solidFill>
                <a:latin typeface="Courier New"/>
              </a:rPr>
              <a:t>$a Société canadienne d'anthropologie, </a:t>
            </a:r>
            <a:r>
              <a:rPr b="1" lang="fr-CA" sz="2200" spc="-1" strike="noStrike">
                <a:solidFill>
                  <a:srgbClr val="ff0000"/>
                </a:solidFill>
                <a:latin typeface="Courier New"/>
              </a:rPr>
              <a:t>	</a:t>
            </a:r>
            <a:r>
              <a:rPr b="1" lang="fr-CA" sz="2200" spc="-1" strike="noStrike">
                <a:solidFill>
                  <a:srgbClr val="008093"/>
                </a:solidFill>
                <a:latin typeface="Courier New"/>
              </a:rPr>
              <a:t>$e auteur</a:t>
            </a:r>
            <a:r>
              <a:rPr b="1" lang="fr-CA" sz="2200" spc="-1" strike="noStrike">
                <a:solidFill>
                  <a:srgbClr val="000000"/>
                </a:solidFill>
                <a:latin typeface="Courier New"/>
              </a:rPr>
              <a:t>.</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structurée</a:t>
            </a:r>
            <a:br>
              <a:rPr sz="2200"/>
            </a:br>
            <a:r>
              <a:rPr b="1" lang="fr-CA" sz="2200" spc="-1" strike="noStrike">
                <a:solidFill>
                  <a:srgbClr val="008093"/>
                </a:solidFill>
                <a:latin typeface="Courier New"/>
              </a:rPr>
              <a:t>776 08 $i Reproduction de (manifestation): </a:t>
            </a:r>
            <a:r>
              <a:rPr b="1" lang="fr-CA" sz="2200" spc="-1" strike="noStrike">
                <a:solidFill>
                  <a:srgbClr val="000000"/>
                </a:solidFill>
                <a:latin typeface="Courier New"/>
              </a:rPr>
              <a:t>$a</a:t>
            </a:r>
            <a:r>
              <a:rPr b="1" lang="fr-CA" sz="2200" spc="-1" strike="noStrike">
                <a:solidFill>
                  <a:srgbClr val="000000"/>
                </a:solidFill>
                <a:latin typeface="Arial Unicode MS"/>
                <a:ea typeface="Arial Unicode MS"/>
              </a:rPr>
              <a:t> </a:t>
            </a:r>
            <a:r>
              <a:rPr b="1" lang="fr-CA" sz="2200" spc="-1" strike="noStrike">
                <a:solidFill>
                  <a:srgbClr val="000000"/>
                </a:solidFill>
                <a:latin typeface="Courier New"/>
              </a:rPr>
              <a:t> Lemoine, Wilfrid, 1927-2003 $t Les anges dans la ville ; suivi de L'ange gardien ; L'ange de solitude $d Montréal : Éditions d’Orphée, 1959</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non structurée</a:t>
            </a:r>
            <a:br>
              <a:rPr sz="2200"/>
            </a:br>
            <a:r>
              <a:rPr b="1" lang="fr-CA" sz="2200" spc="-1" strike="noStrike">
                <a:solidFill>
                  <a:srgbClr val="008093"/>
                </a:solidFill>
                <a:latin typeface="Courier New"/>
              </a:rPr>
              <a:t>500</a:t>
            </a:r>
            <a:r>
              <a:rPr b="1" lang="fr-CA" sz="2200" spc="-1" strike="noStrike">
                <a:solidFill>
                  <a:srgbClr val="000000"/>
                </a:solidFill>
                <a:latin typeface="Courier New"/>
              </a:rPr>
              <a:t> ## $a Compilation d’essais, entretiens et discussions précédemment publiés dans le webzine Library juice entre 1998 et 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E7701B-FD24-4C21-9034-902804502F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BANQ</cp:lastModifiedBy>
  <cp:lastPrinted>2014-03-31T19:11:59Z</cp:lastPrinted>
  <dcterms:modified xsi:type="dcterms:W3CDTF">2014-07-03T19:43:59Z</dcterms:modified>
  <cp:revision>352</cp:revision>
  <dc:subject/>
  <dc:title>Diapositive 1</dc:title>
</cp:coreProperties>
</file>