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1CB163EE-8E6F-4901-B86A-EA2A60C71B42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30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7 - Identification des expression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F9FDC773-73F4-47E6-9AC2-B2EE2F34192D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7 - Identification des expression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7DD27AC9-FAD7-4492-89F7-661362987E2E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37D16-2023-4344-A77F-A9BE52511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5FD33-A235-4B29-99CA-279F265C3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50A0C-416C-4E1A-8A17-15CB6723D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CED4E-2174-41B4-8C0F-6AE8945172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A1CE0-09F1-4D54-8835-F3EB06125C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8D0AA-996C-4B95-A0A3-1542B0540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E9C81-407E-41DD-80CC-5A6E62170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4D3BB-81E5-479B-9CEE-BE6D5D749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FB934-6359-4783-8C6D-A4E290481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76585-EC9B-41B2-91C4-77BF34BF8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19C24-F88D-495B-9530-DF110D385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5B066-4F8A-483F-96D2-C1791983E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5027BD6-DC4D-48ED-BAC5-096D3DFCAAA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E849A56-4C00-45D6-BDF4-A2107EF5AD8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Dat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as un 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ulement pour musique, écritures sacrées, tra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e plus ajouter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$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« 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 » et « 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rai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plus ancienne associée à une expression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n peut utiliser la date de la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07200" y="5634000"/>
            <a:ext cx="738936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100 1# $a Bernstein, Leonard, $d 1918-1990.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240 10 $a Œuvr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E9049AD-3930-4CAC-A553-B4BC857FC68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caractéristique autre que le type de contenu, la langue de l’expression ou la date de l’expression, servant à distinguer une expression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int d’accès :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à la fin de la dernière sous-zo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auf si une sous-zone particulière est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$o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expressions musicales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par exemple, « arrangé 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$s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versions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de la Bible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2E9DEA7-EA88-4E03-8A01-3EB901A02ED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–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54120" y="24066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30 #0 $a Casse-noisette (Œuvr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horégraphique :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Baryšnikov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54120" y="37782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30 #0 $a Bible. $l Français.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$s Duma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f 199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B883310-AFE1-4588-B161-519CCBC510D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Langu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nécessaire pour différenc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ans laquelle une œuvre est exprimé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Utiliser un ou des termes provenant du R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ous-zone $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non répé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tinguer ent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une express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ans plus d’une lan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01FA339-C6C9-4991-822F-F216F3F51DB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Si une expression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Une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nner $l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eulement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pas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nner $l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sauf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54120" y="3124080"/>
            <a:ext cx="8109000" cy="119124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Brunhoff, Jean de, $d 1899-1937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Babar en famille.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245 10 $a Babar and his childr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62120" y="5791320"/>
            <a:ext cx="8076960" cy="45972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ctionnaire bilingue illustr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B26F262-6006-4884-911E-CC3C1E1459C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manifestation est une compilation de la ver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’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un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a mêm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pour l’expression originale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séparé pour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7B65B7C-D8DB-4036-8F6F-9D887349551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 Deux expressions --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Mail carrier.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l Espagnol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64CB7EF-EB4B-4504-94D1-06277DB6196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(suite) : Deux expressions --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. $l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7A0C983-00B0-4800-AE38-D8AAF95C088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plusieurs tradu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compilation contient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plusieurs tra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un point d’accès autorisé pour l’expression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a lang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un point d’accès autorisé pour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au moins une traduc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des points d’accès analytiques additionnels selon le 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7A07078-CE82-4768-AE56-F8B203DC9CF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s de langues multi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l’expression originale n’est pas pré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u moins un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expressions dans un p.a.a. analytiqu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3777CF3-37DE-4115-B2F2-46C05F2B990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Variantes de point d’accè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s MARC autorité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A5CDD39-476F-41C9-84EC-6893627591F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s de langues multiples (sui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on ne peut déterminer la langue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Choisir le titre propre nommé en premier sur la source d’information privilégiée comme titre privilégié de l’œuvre (i.e. traiter le premier comme étant celui de l’édition origina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Points d’accès autorisés analytiques: Traiter la manifestation comme une compilation comprenant la version originale et une ou plusieurs traductions (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voir diapo 16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Donner un p.a.a. analytique pour l’expression </a:t>
            </a:r>
            <a:r>
              <a:rPr b="0" i="1" lang="fr-CA" sz="2200" spc="-1" strike="noStrike">
                <a:solidFill>
                  <a:srgbClr val="000000"/>
                </a:solidFill>
                <a:latin typeface="Arial"/>
              </a:rPr>
              <a:t>désignée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comme étant l’originale,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sans sous-zone $l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Donner un p.a.a. analytique pour au moins une autre expression,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8111532-1FC0-4753-AC5C-D250BABA866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 langues multiples sans indication de langue origin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5520" y="1346040"/>
            <a:ext cx="845820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 $b International diploma of the OIV 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of the vine and wine sector =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tionales Diplom der OIV im Fachberich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im Weinbausektor = Diplom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zionale dell'OIV in gestione del settor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la vigna e del vino = Diploma internacional de la OIV de management del sector la viña y el vin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.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  <a:ea typeface="Courier New"/>
              </a:rPr>
              <a:t>$l Anglais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36F0434-CF13-4723-9D73-CA23724C969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hangements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 Polyglotte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 une seule sous-zone ave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a langue est ajoutée aprè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« Extraits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orsque ce titre conventionnel collectif est pré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7B5DACE-8015-4F6C-BE49-2AF01D4864B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ariantes de points d’accès pour les expressions -- RDA 6.27.4.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olitique LC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 jugement du catalogueur – considér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 important pour que l’usager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uisse trouver ou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atalogueur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ont aussi des us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eut ê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sée sur une variante de titre de l’œuvre associée avec une expression particul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e forme avec une variante de l’ajout dans le point d’accè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DF0BF4D-7DD6-42B9-ACD9-2E2B075C3A7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-- Variantes de points d’accès pour les expression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48000" y="1981080"/>
            <a:ext cx="731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 Pippi Långstrump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Franç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fi Brindacier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7200" y="388620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Hartmann, $c von Aue, $d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Œuvre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rtmann, $c von Aue, $d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Arthurian romances, tales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nd lyric poetr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A422F37-3ACE-4C83-8942-1BD74BAF51D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Zones MARC autorité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Politique LC : jugement du catalogueu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inclure ces zones dans les notices d’aut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046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s spéciales cod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Type de contenu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77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Langue associ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8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res caractéristiques d’une œuvre ou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8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Médium d’exécution d’une 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84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on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LC-PCC : enregistrer un 336 seulement dans les notices bibliograph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940FF73-FE00-4106-85D0-B6C74808CF9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6D63ED4-C4F7-41D5-A7FB-B08000B8138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951F329-EFB9-4FD4-8CE5-8135C742E26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F85B0FE-BB88-4C49-BA36-2DB86F5EABF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ajouter une autre caractéristiq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différencier une expression d’une au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ne pas différencier une traduction de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Hamle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 français d’une autre traduction franç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ne pas différencier un arrangement du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Corsai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e Berlioz d’un autre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5276252-CF18-40B0-BF94-510BA80A2D7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3038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DC79491-CEB1-4BBC-A18F-D45440661B5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CA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3ED005A-89F2-4165-83A4-0F47E8B85D0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ar lequel il doit être perçu ..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Vocabulaire contrôl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à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ous-zone $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219320" y="5638680"/>
            <a:ext cx="662940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30 $a ____________ $h </a:t>
            </a:r>
            <a:r>
              <a:rPr b="1" lang="fr-CA" sz="2200" spc="-1" strike="noStrike">
                <a:solidFill>
                  <a:srgbClr val="006666"/>
                </a:solidFill>
                <a:latin typeface="Courier New"/>
                <a:ea typeface="Courier New"/>
              </a:rPr>
              <a:t>Parole énoncé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[Pour le livre audio d’un texte imprimé]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Riva Pat</cp:lastModifiedBy>
  <cp:lastPrinted>2010-10-18T15:40:26Z</cp:lastPrinted>
  <dcterms:modified xsi:type="dcterms:W3CDTF">2014-11-05T19:52:31Z</dcterms:modified>
  <cp:revision>296</cp:revision>
  <dc:subject/>
  <dc:title>Diapositive 1</dc:title>
</cp:coreProperties>
</file>