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1E604846-5D4D-4459-B26A-3916D50E5D7C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7 - Identification des expression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6D175827-8535-49D8-85F6-29EA1DD11F7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7 - Identification des expression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582A7244-B143-484D-AC43-D613B602F8C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1C4C4-D805-4CB6-ACF9-4A678C03B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98F6-13E7-4B4F-B837-4642E7ACA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08867-7DC2-4255-BB8B-0A61E0500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6A0A3-4B77-4632-A05F-4C9D249422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1069-8A56-4588-97EB-416168B84B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A8F3-1561-46D2-8EE3-DAA28A860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38991-860D-417B-8ABF-151B83E11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F4333-B296-4B9B-9B0A-806B32EA0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5023-1D63-41C4-86BA-1C7B17F32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D87E-3EFC-4238-88C0-45452B2DB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AF86E-0442-4E5A-83FD-C03E10960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817E-8719-4BDE-83F3-79198297C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B107384-F974-4099-8154-3BF6B6C17F9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C3F6DF5-A0C7-4DDA-B410-0920A2BD000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Dat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as un 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ulement pour musique, écritures sacrées, tra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 plus ajouter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$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 » et 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rai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plus ancienne associée à une expression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n peut utiliser la date de la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07200" y="5634000"/>
            <a:ext cx="738936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100 1# $a Bernstein, Leonard, $d 1918-1990.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240 10 $a Œuvr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D1D06D1-2A1C-419E-AEDB-E26EAD66238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aractéristique autre que le type de contenu, la langue de l’expression ou la date de l’expression, servant à distinguer une express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 d’accès :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à la fin de la dernière sous-zo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auf si une sous-zone particulière est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$o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expressions musicale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par exemple, « arrangé 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$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version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de la Bibl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0E41F53-773E-4D24-8DF1-DAD7E490503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–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54120" y="24066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Casse-noisette (Œuvr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horégraphique :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Baryšnikov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54120" y="37782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Bible. $l Français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s Duma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f 199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81BE1B0-0C2E-4311-8FD9-E36923FC27E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Langu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ans laquelle une œuvre est exprimé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Utiliser un ou des termes provenant du R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ous-zone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non répé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inguer ent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e express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ans plus d’une la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516AE1D-9603-4B55-A1D1-523E0DF60CC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une expression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e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nner $l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ulement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pas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nner $l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sauf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54120" y="3124080"/>
            <a:ext cx="8109000" cy="119124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Brunhoff, Jean de, $d 1899-1937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Babar en famille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245 10 $a Babar and his childr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62120" y="5791320"/>
            <a:ext cx="8076960" cy="45972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ctionnaire bilingue illustr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4B5FF78-C9A0-4F7A-8954-B7FDC161C10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manifestation est une compilation de la ver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’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un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a mêm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pour l’expression original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séparé pour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F25D269-26EB-46CD-A18D-B77C526C165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 Deux expressions --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Mail carrier.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l Espagnol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992B1AA-1220-49BE-8B26-FD9FB6319F2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(suite) : Deux expressions --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. $l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5B31141-6EED-4B60-A0D2-2C8322B2237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plusieurs tradu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compilation contient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plusieurs tra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un point d’accès autorisé pour l’expression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un point d’accès autorisé pour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au moins une traduc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des points d’accès analytiques additionnels selon le 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703EAC2-22B1-4C84-9524-276F55F4B4A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s de langues mult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l’expression originale n’est pas 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 moins un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expressions dans un p.a.a. analytiqu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38964A2-8C9D-498E-B0B2-59575F1A255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ariantes de point d’accè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s MARC autorité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437A3AA-E46C-4E1E-B7F7-2DFFD42CA34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s de langues multiples (sui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on ne peut déterminer la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Choisir le titre propre nommé en premier sur la source d’information privilégiée comme titre privilégié de l’œuvre (i.e. traiter le premier comme étant celui de l’édition origin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Points d’accès autorisés analytiques: Traiter la manifestation comme une compilation comprenant la version originale et une ou plusieurs traductions (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voir diapo 16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Donner un p.a.a. analytique pour l’expression </a:t>
            </a:r>
            <a:r>
              <a:rPr b="0" i="1" lang="fr-CA" sz="2200" spc="-1" strike="noStrike">
                <a:solidFill>
                  <a:srgbClr val="000000"/>
                </a:solidFill>
                <a:latin typeface="Arial"/>
              </a:rPr>
              <a:t>désignée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comme étant l’originale,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sans sous-zone $l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Donner un p.a.a. analytique pour au moins une autre expression,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D268338-9483-44C0-84E7-6CF2675BB90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 langues multiples sans indication de langue origin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5520" y="1346040"/>
            <a:ext cx="84582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 $b International diploma of the OIV 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of the vine and wine sector =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es Diplom der OIV im Fachberich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im Weinbausektor = Diplom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zionale dell'OIV in gestione del settor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la vigna e del vino = Diploma internacional de la OIV de management del sector la viña y el vin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.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  <a:ea typeface="Courier New"/>
              </a:rPr>
              <a:t>$l Anglais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C5A876A-C73E-4FBD-A437-3B2422793FE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 Polyglotte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 une seule sous-zone ave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langue est ajoutée aprè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« Extraits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orsque ce titre conventionnel collectif est pré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FAD109E-E834-469D-9ED9-CCE8EBEC5B8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ariantes de points d’accès pour les expressions -- RDA 6.27.4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oli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 jugement du catalogueur – considér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 important pour que l’usager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uisse trouver ou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atalogueur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nt aussi des us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eut ê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sée sur une variante de titre de l’œuvre associée avec une expression particu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e forme avec une variante de l’ajout dans le point d’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B00F5F6-3DE3-4955-A462-0570885E564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-- Variantes de points d’accès pour les express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48000" y="1981080"/>
            <a:ext cx="73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 Pippi Långstrump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Franç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fi Brindacier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7200" y="38862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Hartmann, $c von Aue, $d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Œuvre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rtmann, $c von Aue, $d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Arthurian romances, tales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nd lyric poetr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229905D-5922-4E50-A0D9-40C3266F7CD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autorité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Politique LC : jugement du catalogue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inclure ces zones dans les notices d’aut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046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s spéciales cod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Type de contenu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77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Langue associ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res caractéristiques d’une œuvre ou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Médium d’exécution d’une 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4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n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LC-PCC : enregistrer un 336 seulement dans les notices bibliograph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445F576-BF4C-4C89-9CC3-A631CDC01F9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88807B3-B86C-400F-A0D4-83D8FED143E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ED90AF9-AA39-4057-98FF-0F500C8EA45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82418FA-452B-4A06-B1B4-614311086E4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ajouter une autre caractéristiq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ifférencier une expression d’une au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ne pas différencier une traduction de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Hamle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français d’une autre traduction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ne pas différencier un arrangement du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Corsai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e Berlioz d’un autre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28C43C0-BC51-4276-8E6F-DF1D2E9A9C0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3038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40B547E-5449-4D20-BA97-E15E5AAC420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CA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0EA4819-2243-41A5-B5B6-BC4121795F3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ar lequel il doit être perçu ..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Vocabulaire contrôl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à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zone $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219320" y="5638680"/>
            <a:ext cx="662940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0 $a ____________ $h </a:t>
            </a:r>
            <a:r>
              <a:rPr b="1" lang="fr-CA" sz="2200" spc="-1" strike="noStrike">
                <a:solidFill>
                  <a:srgbClr val="006666"/>
                </a:solidFill>
                <a:latin typeface="Courier New"/>
                <a:ea typeface="Courier New"/>
              </a:rPr>
              <a:t>Parole énoncé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[Pour le livre audio d’un texte imprimé]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Riva Pat</cp:lastModifiedBy>
  <cp:lastPrinted>2010-10-18T15:40:26Z</cp:lastPrinted>
  <dcterms:modified xsi:type="dcterms:W3CDTF">2014-11-05T19:52:31Z</dcterms:modified>
  <cp:revision>296</cp:revision>
  <dc:subject/>
  <dc:title>Diapositive 1</dc:title>
</cp:coreProperties>
</file>