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29D141BC-592D-48D8-BB30-1E9750BD82E1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30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7 - Identification des expression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1389E935-333B-41A2-A654-D1617A746D3A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7 - Identification des expression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D81D2181-9BFF-494E-972D-1030741CCA7E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F4066-1DE5-4739-8840-78887F46F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4A6E6-CEBF-44AC-8D62-0E8014699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A2D87-52C7-4229-BE3E-775EE5C35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C52CA-3566-48E4-90B3-C1859C3612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33DF6-2651-4441-AEFD-90EF44F02C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7C975-B152-46EE-8EF5-BCCA12BDD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13C6F-446D-42BB-9B75-ADA1CF82C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251E9-FEEE-4B32-9686-E623D87B5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D9BF1-D193-479A-97F6-104BD2833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6AC6C-D5D2-4335-80CF-2393517451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F28F7-6253-43B5-AA5E-ADF5E3395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E7F7A-BCDC-4F8F-BD46-E40DF6437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A2CA537-B767-4462-A3F0-EC9048D1167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Identification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B45E2B3-5129-460F-B1BE-E9902F3356D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-- Date de l’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as un 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eulement pour musique, écritures sacrées, tra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e plus ajouter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$f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« 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 » et « 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rai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plus ancienne associée à une expression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n peut utiliser la date de la 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907200" y="5634000"/>
            <a:ext cx="7389360" cy="7642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100 1# $a Bernstein, Leonard, $d 1918-1990.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240 10 $a Œuvr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BD9E76B-342A-4BE6-BA72-5E46D9CC531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– Autre caractéristique distin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caractéristique autre que le type de contenu, la langue de l’expression ou la date de l’expression, servant à distinguer une expression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int d’accès :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à la fin de la dernière sous-zon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auf si une sous-zone particulière est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sous-zone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$o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pour les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expressions musicales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(par exemple, « arrangé 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sous-zone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$s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pour les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versions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de la Bible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1821F9C-9E9A-4F01-ABFA-25E2BF84915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–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 caractéristique distin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54120" y="2406600"/>
            <a:ext cx="8076960" cy="8254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30 #0 $a Casse-noisette (Œuvr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horégraphique :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Baryšnikov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54120" y="3778200"/>
            <a:ext cx="8076960" cy="8254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30 #0 $a Bible. $l Français.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$s Duma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f 1991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BFA6AD9-C508-40A4-9709-D8857277D7F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-- Langue de l’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nécessaire pour différenc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ans laquelle une œuvre est exprimé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nQ : Utiliser un ou des termes provenant du R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int d’accès: dans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ous-zone $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non répé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tinguer ent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une express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ans plus d’une lan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C63755D-4F7B-40B9-A57E-E186CAC80A1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Si une expression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Une l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nner $l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eulement si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pas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nner $l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sauf si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54120" y="3124080"/>
            <a:ext cx="8109000" cy="119124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Brunhoff, Jean de, $d 1899-1937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0 10 $a Babar en famille.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$l Angl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245 10 $a Babar and his childre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62120" y="5791320"/>
            <a:ext cx="8076960" cy="45972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45 00 $a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ctionnaire bilingue illustré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E6E112D-0079-4FAE-871D-CE6C029F918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Si deux ou plusieurs expressions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la manifestation est une compilation de la ver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’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un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traducti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a même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un point d’accès autorisé analytique pour l’expression originale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ans $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un point d’accès autorisé analytique séparé pour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raduc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avec $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3422F2E-DB86-41AF-AE3F-8FC8A570ADC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 Deux expressions --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8093"/>
                </a:solidFill>
                <a:latin typeface="Arial"/>
              </a:rPr>
              <a:t>Version originale + traduction espagnole de la mêm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041 1# $a eng $a spa $h e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Macken, JoAnn Early, $d 195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0 10 $a Mail carrier.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l Espagnol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ng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5 10 $a Mail carrier = $b El cartero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 JoAnn Early Ma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6 31 $a Car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546 ## $a En anglais et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9F8476C-ED4D-49C2-9EFA-BFD67EA27E7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(suite) : Deux expressions --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8093"/>
                </a:solidFill>
                <a:latin typeface="Arial"/>
              </a:rPr>
              <a:t>Version originale + traduction espagnole de la mêm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041 1# $a eng $a spa $h e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Macken, JoAnn Early, $d 195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5 10 $a Mail carrier = $b El cartero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 JoAnn Early Ma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6 31 $a Car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546 ## $a En anglais et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700 12 $a Macken, JoAnn Early, $d 1953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t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ail carrier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700 12 $a Macken, JoAnn Early, $d 1953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t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ail carrier. $l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E26EE5B-E637-4676-8425-01F72FD2C17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Si deux ou plusieurs expressions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ersion originale et plusieurs tradu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la compilation contient l’expres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plusieurs tra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un point d’accès autorisé pour l’expression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ans $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la lang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un point d’accès autorisé pour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au moins une traducti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vec $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des points d’accès analytiques additionnels selon le 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CB347F1-E126-4667-910B-9CE7EFD1A32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s de langues multi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n différentes langues, et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l’expression originale n’est pas prés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u moins un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expressions dans un p.a.a. analytiqu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vec sous-zone $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88A65FF-B9F2-4CD7-AB26-5C348731722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dentifier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écision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onstruction du point d’accès autorisé représentant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jouts aux points d’accès autorisé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Variantes de point d’accè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s MARC autorité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1540571-E47E-423B-A28B-7052A9709D3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s de langues multiples (sui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 différentes langues, et </a:t>
            </a: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on ne peut déterminer la langue orig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Choisir le titre propre nommé en premier sur la source d’information privilégiée comme titre privilégié de l’œuvre (i.e. traiter le premier comme étant celui de l’édition origina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Points d’accès autorisés analytiques: Traiter la manifestation comme une compilation comprenant la version originale et une ou plusieurs traductions (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voir diapo 16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55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Donner un p.a.a. analytique pour l’expression </a:t>
            </a:r>
            <a:r>
              <a:rPr b="0" i="1" lang="fr-CA" sz="2200" spc="-1" strike="noStrike">
                <a:solidFill>
                  <a:srgbClr val="000000"/>
                </a:solidFill>
                <a:latin typeface="Arial"/>
              </a:rPr>
              <a:t>désignée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comme étant l’originale,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sans sous-zone $l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55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Donner un p.a.a. analytique pour au moins une autre expression,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avec sous-zone $l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0335B3E-3EE3-4D5B-AE53-801A53AC58D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 langues multiples sans indication de langue origin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5520" y="1346040"/>
            <a:ext cx="845820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 00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 $b International diploma of the OIV i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of the vine and wine sector =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tionales Diplom der OIV im Fachberich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im Weinbausektor = Diploma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zionale dell'OIV in gestione del settore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la vigna e del vino = Diploma internacional de la OIV de management del sector la viña y el vin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30 02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30 02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.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  <a:ea typeface="Courier New"/>
              </a:rPr>
              <a:t>$l Anglais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93212F1-BB4F-48C2-A639-2284686CD72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hangements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e plus utiliser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« Polyglotte 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« Multilingue 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ans $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e plus utiliser une seule sous-zone ave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« Anglais &amp; françai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expression doit être identifiée séparément (si cela est jugé utile pour l’accè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a langue est ajoutée aprè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« Extraits 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orsque ce titre conventionnel collectif est pré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7F60B30-169A-4816-93DF-8A7D1B91BB4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ariantes de points d’accès pour les expressions -- RDA 6.27.4.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olitique LC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 jugement du catalogueur – considér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 important pour que l’usager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uisse trouver ou iden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atalogueur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ont aussi des us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eut ê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sée sur une variante de titre de l’œuvre associée avec une expression particul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e forme avec une variante de l’ajout dans le point d’accè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B38803C-F1DD-4707-9B83-1E809569620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-- Variantes de points d’accès pour les expression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48000" y="1981080"/>
            <a:ext cx="731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$a Lindgren, Astrid, $d 1907-2002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t Pippi Långstrump.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  <a:ea typeface="Courier New"/>
              </a:rPr>
              <a:t> $l Franç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$a Lindgren, Astrid, $d 1907-2002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t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fi Brindacier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57200" y="388620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$a Hartmann, $c von Aue, $d 12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iècle. $t Œuvre.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  <a:ea typeface="Courier New"/>
              </a:rPr>
              <a:t> $l Angl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$a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rtmann, $c von Aue, $d 12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iècle. $t Arthurian romances, tales,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and lyric poetry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014830E-AD08-4EA1-A564-33CC3E3F3B2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Zones MARC autorité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Politique LC : jugement du catalogueu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inclure ces zones dans les notices d’aut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046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s spéciales cod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Type de contenu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77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Langue associ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8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utres caractéristiques d’une œuvre ou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8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Médium d’exécution d’une 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84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on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LC-PCC : enregistrer un 336 seulement dans les notices bibliograph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53FBB3C-FCE2-4E3B-AAA1-387D6CDB591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dentifier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points d’accès autorisés sont utilisés dans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tices bibliographiqu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identifier l’expression qui est cataloguée; aussi dans les 6XX et 7XX pour représenter les relations à d’autr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Formés selon l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pit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ux étapes (similaires à l’identification de l’œuv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mmer </a:t>
            </a: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er l’information qui identifie </a:t>
            </a: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l’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537B987-EB58-4DB4-8235-E910A9FC2E5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écision LC sur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Bibliographique ou autor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identifier l’expression en l’enregistrant dans la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notice bibli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selon politiques LC) aussi en faisant un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notice autorité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titre ou nom/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39C9E63-ABD3-4B3C-987B-67C50D310F8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LC-PCC PS 0.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xpressions en ajoutant un attribut au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ritur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acré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30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raduction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t éditions en d’autres langue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27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cument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musicaux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28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B04C3F6-84C2-4067-81F1-8E37149A348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ajouter une autre caractéristiq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différencier une expression d’une au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exemple, ne pas différencier une traduction de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Hamle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 français d’une autre traduction frança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exemple, ne pas différencier un arrangement du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Corsai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e Berlioz d’un autre arra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E376CD4-FBD4-4908-AAD6-EA0776230FC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nstruction du point d’accès autorisé représentant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’élément de base est le point d’accès autorisé pour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tels que présentés dans 6.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961920" y="39625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6666"/>
                </a:solidFill>
                <a:latin typeface="Courier New"/>
                <a:ea typeface="Courier New"/>
              </a:rPr>
              <a:t>Goncourt, Edmond de, 1822–1896. Frères Zemganno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303800" y="4359240"/>
            <a:ext cx="18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33cccc"/>
                </a:solidFill>
                <a:latin typeface="Courier New"/>
                <a:ea typeface="Courier New"/>
              </a:rPr>
              <a:t>Anglais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F2C2586-8301-4F17-A2F3-7E2B725B5C6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autorisés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Type de contenu *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10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1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1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362320" y="5334120"/>
            <a:ext cx="487656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146240" y="464832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CA" sz="3000" spc="-1" strike="noStrike">
                <a:solidFill>
                  <a:srgbClr val="006666"/>
                </a:solidFill>
                <a:latin typeface="Arial"/>
              </a:rPr>
              <a:t>« et/ou »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5F76882-5316-4593-AE5F-2CEFCF6EE57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– 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ar lequel il doit être perçu ..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Vocabulaire contrôl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à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oint d’accès: dans l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ous-zone $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219320" y="5638680"/>
            <a:ext cx="6629400" cy="7642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30 $a ____________ $h </a:t>
            </a:r>
            <a:r>
              <a:rPr b="1" lang="fr-CA" sz="2200" spc="-1" strike="noStrike">
                <a:solidFill>
                  <a:srgbClr val="006666"/>
                </a:solidFill>
                <a:latin typeface="Courier New"/>
                <a:ea typeface="Courier New"/>
              </a:rPr>
              <a:t>Parole énoncé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[Pour le livre audio d’un texte imprimé]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Riva Pat</cp:lastModifiedBy>
  <cp:lastPrinted>2010-10-18T15:40:26Z</cp:lastPrinted>
  <dcterms:modified xsi:type="dcterms:W3CDTF">2014-11-05T19:52:31Z</dcterms:modified>
  <cp:revision>296</cp:revision>
  <dc:subject/>
  <dc:title>Diapositive 1</dc:title>
</cp:coreProperties>
</file>