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  <a:def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fld id="{C0DC9636-1139-4EEE-99C0-CE9239381E3D}" type="datetime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6-07-29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  <a:defRPr b="1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7 - Identification des expressions</a:t>
            </a:r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  <a:def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fld id="{DF895C1E-CDBD-45FE-BC6B-E39F20541FBB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7 - Identification des expressions</a:t>
            </a:r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fld id="{3E323E09-E546-412E-B8DF-1091A63FBEF9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1D47A-07A7-40F2-B3BA-C52C57EF8B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664E8-8713-4CF0-9597-E5B998E0F2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CFECD-528D-49C5-84C5-944D81DBD1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30F0D-5B75-4183-8BFB-78B202D68C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E8E0F-987C-4FEE-8458-7873E5A3E2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5E588-F862-4194-A5B3-9B621B5E19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94AAC-3A43-4234-B4D8-B56CECD632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45E21-CEF1-46EF-89A9-79554F97FE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8AA9B-330E-4876-A81D-6936686CD5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BAEF3-F031-457D-BE92-DCB95D205B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98C1E-3A2E-4960-A9A2-B589AA8761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3DD1D-5C2B-4A4C-9B1F-17029DE174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2FC239FE-42E8-4351-99A0-3523C825AABB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Arial"/>
              </a:rPr>
              <a:t>Identification d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7BDB0396-3332-4CA8-B963-397CE75239C0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jouts aux points d’accès pour les expressions -- Date de l’expres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6.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Pas un élément fondamental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pour 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Seulement pour musique, écritures sacrées, trad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Ne plus ajouter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$f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pour « 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Œuvr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 » et « 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Œuvr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Extrait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Prendre d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n’importe quelle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« 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dat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la plus ancienne associée à une expression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On peut utiliser la date de la manife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907200" y="5634000"/>
            <a:ext cx="7389360" cy="764280"/>
          </a:xfrm>
          <a:prstGeom prst="rect">
            <a:avLst/>
          </a:pr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100 1# $a Bernstein, Leonard, $d 1918-1990.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240 10 $a Œuvre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A2409ED1-A69A-48E3-97A8-CAF617E0330D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jouts aux points d’accès pour les expressions – Autre caractéristique distinctiv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6.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si nécessaire pour différenc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« caractéristique autre que le type de contenu, la langue de l’expression ou la date de l’expression, servant à distinguer une expression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endre d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n’importe quelle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oint d’accès :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à la fin de la dernière sous-zon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sauf si une sous-zone particulière est dispon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sous-zone </a:t>
            </a:r>
            <a:r>
              <a:rPr b="0" lang="fr-CA" sz="2200" spc="-1" strike="noStrike">
                <a:solidFill>
                  <a:srgbClr val="008093"/>
                </a:solidFill>
                <a:latin typeface="Arial"/>
              </a:rPr>
              <a:t>$o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 pour les </a:t>
            </a:r>
            <a:r>
              <a:rPr b="0" lang="fr-CA" sz="2200" spc="-1" strike="noStrike">
                <a:solidFill>
                  <a:srgbClr val="008093"/>
                </a:solidFill>
                <a:latin typeface="Arial"/>
              </a:rPr>
              <a:t>expressions musicales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 (par exemple, « arrangé »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sous-zone </a:t>
            </a:r>
            <a:r>
              <a:rPr b="0" lang="fr-CA" sz="2200" spc="-1" strike="noStrike">
                <a:solidFill>
                  <a:srgbClr val="008093"/>
                </a:solidFill>
                <a:latin typeface="Arial"/>
              </a:rPr>
              <a:t>$s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 pour les </a:t>
            </a:r>
            <a:r>
              <a:rPr b="0" lang="fr-CA" sz="2200" spc="-1" strike="noStrike">
                <a:solidFill>
                  <a:srgbClr val="008093"/>
                </a:solidFill>
                <a:latin typeface="Arial"/>
              </a:rPr>
              <a:t>versions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 de la Bible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58719E67-8F6D-4F76-836A-646888AEFCF4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s –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utre caractéristique distinctiv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654120" y="2406600"/>
            <a:ext cx="8076960" cy="825480"/>
          </a:xfrm>
          <a:prstGeom prst="rect">
            <a:avLst/>
          </a:pr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130 #0 $a Casse-noisette (Œuvre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chorégraphique :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Baryšnikov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654120" y="3778200"/>
            <a:ext cx="8076960" cy="825480"/>
          </a:xfrm>
          <a:prstGeom prst="rect">
            <a:avLst/>
          </a:pr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130 #0 $a Bible. $l Français. 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$s Dumas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f 1991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B38849B9-11A9-4668-9055-96CE508038D0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jouts aux points d’accès pour les expressions -- Langue de l’expres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6.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si nécessaire pour différenci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« 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langu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dans laquelle une œuvre est exprimé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endre d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n’importe quelle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BAnQ : Utiliser un ou des termes provenant du R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oint d’accès: dans l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sous-zone $l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(non répét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istinguer entr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une express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dans plus d’une lan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deux ou plusieurs ex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64651051-EDA3-44E2-9B1C-45A0D346C259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Si une expression …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Une lan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onner $l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seulement si tra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Plusieurs lang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ne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 pas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onner $l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 sauf si tra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654120" y="3124080"/>
            <a:ext cx="8109000" cy="1191240"/>
          </a:xfrm>
          <a:prstGeom prst="rect">
            <a:avLst/>
          </a:pr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100 1# $a Brunhoff, Jean de, $d 1899-1937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240 10 $a Babar en famille. 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$l Anglai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245 10 $a Babar and his children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762120" y="5791320"/>
            <a:ext cx="8076960" cy="459720"/>
          </a:xfrm>
          <a:prstGeom prst="rect">
            <a:avLst/>
          </a:pr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45 00 $a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Dictionnaire bilingue illustré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5D8CAF09-6979-4049-B595-532A84BF1273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Si deux ou plusieurs expressions …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Version originale et une tradu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i la manifestation est une compilation de la version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original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et d’</a:t>
            </a:r>
            <a:r>
              <a:rPr b="0" i="1" lang="fr-CA" sz="2800" spc="-1" strike="noStrike">
                <a:solidFill>
                  <a:srgbClr val="008093"/>
                </a:solidFill>
                <a:latin typeface="Arial"/>
              </a:rPr>
              <a:t>un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traduction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e la même œuv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nregistrer un point d’accès autorisé analytique pour l’expression originale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sans $l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pour la lang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nregistrer un point d’accès autorisé analytique séparé pour l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traduct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avec $l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pour la lang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2207F9B8-DBF1-49BE-BEC9-D703F277CD6A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 : Deux expressions --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Version originale et une tradu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8093"/>
                </a:solidFill>
                <a:latin typeface="Arial"/>
              </a:rPr>
              <a:t>Version originale + traduction espagnole de la même res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 u="sng">
                <a:solidFill>
                  <a:srgbClr val="008093"/>
                </a:solidFill>
                <a:uFillTx/>
                <a:latin typeface="Arial"/>
              </a:rPr>
              <a:t>RCAA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041 1# $a eng $a spa $h eng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100 1# $a Macken, JoAnn Early, $d 1953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240 10 $a Mail carrier.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$l Espagnol 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angl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245 10 $a Mail carrier = $b El cartero 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c JoAnn Early Mack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246 31 $a Cart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546 ## $a En anglais et espagn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6809F1F5-F300-4B82-9C00-4076E6E039E7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 (suite) : Deux expressions --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Version originale et une tradu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8093"/>
                </a:solidFill>
                <a:latin typeface="Arial"/>
              </a:rPr>
              <a:t>Version originale + traduction espagnole de la même res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 u="sng">
                <a:solidFill>
                  <a:srgbClr val="008093"/>
                </a:solidFill>
                <a:uFillTx/>
                <a:latin typeface="Arial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041 1# $a eng $a spa $h e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100 1# $a Macken, JoAnn Early, $d 1953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245 10 $a Mail carrier = $b El cartero 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c JoAnn Early Mack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246 31 $a Cart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546 ## $a En anglais et espagn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700 12 $a Macken, JoAnn Early, $d 1953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t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Mail carrier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700 12 $a Macken, JoAnn Early, $d 1953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t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Mail carrier. $l Espagn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85C80EFD-EBD9-4D99-B7D4-A856BB15CD66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Si deux ou plusieurs expressions …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Version originale et plusieurs traduc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i la compilation contient l’expression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original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0" i="1" lang="fr-CA" sz="2800" spc="-1" strike="noStrike">
                <a:solidFill>
                  <a:srgbClr val="008093"/>
                </a:solidFill>
                <a:latin typeface="Arial"/>
              </a:rPr>
              <a:t>plusieurs trad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enregistrer un point d’accès autorisé pour l’expression </a:t>
            </a:r>
            <a:r>
              <a:rPr b="0" i="1" lang="fr-CA" sz="2800" spc="-1" strike="noStrike">
                <a:solidFill>
                  <a:srgbClr val="008093"/>
                </a:solidFill>
                <a:latin typeface="Arial"/>
              </a:rPr>
              <a:t>original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sans $l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pour la langu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enregistrer un point d’accès autorisé pour </a:t>
            </a:r>
            <a:r>
              <a:rPr b="0" i="1" lang="fr-CA" sz="2800" spc="-1" strike="noStrike">
                <a:solidFill>
                  <a:srgbClr val="008093"/>
                </a:solidFill>
                <a:latin typeface="Arial"/>
              </a:rPr>
              <a:t>au moins une traduction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avec $l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pour la langu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Donner des points d’accès analytiques additionnels selon le jugement du catalogu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400E766F-0D05-415F-BD6C-C6770F2A97B6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utres cas de langues multip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Deux ou plusieurs expression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en différentes langues, et </a:t>
            </a:r>
            <a:r>
              <a:rPr b="0" i="1" lang="fr-CA" sz="2800" spc="-1" strike="noStrike">
                <a:solidFill>
                  <a:srgbClr val="008093"/>
                </a:solidFill>
                <a:latin typeface="Arial"/>
              </a:rPr>
              <a:t>l’expression originale n’est pas prés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Enregistrer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au moins un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es expressions dans un p.a.a. analytiqu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avec sous-zone $l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pour la lan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98DA53C1-A0EA-4E25-9FF2-329456C576EA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Pla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Identifier une 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Décisions 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Construction du point d’accès autorisé représentant une 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jouts aux points d’accès autorisés pour les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Variantes de point d’accès pour les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Zones MARC autorité pour les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422D0439-7776-4FA1-88EC-BBE8BFB4FE45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utres cas de langues multiples (suit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Deux ou plusieurs expression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en différentes langues, et </a:t>
            </a:r>
            <a:r>
              <a:rPr b="0" i="1" lang="fr-CA" sz="2400" spc="-1" strike="noStrike">
                <a:solidFill>
                  <a:srgbClr val="008093"/>
                </a:solidFill>
                <a:latin typeface="Arial"/>
              </a:rPr>
              <a:t>on ne peut déterminer la langue origi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Choisir le titre propre nommé en premier sur la source d’information privilégiée comme titre privilégié de l’œuvre (i.e. traiter le premier comme étant celui de l’édition original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Points d’accès autorisés analytiques: Traiter la manifestation comme une compilation comprenant la version originale et une ou plusieurs traductions (</a:t>
            </a:r>
            <a:r>
              <a:rPr b="0" lang="fr-CA" sz="2200" spc="-1" strike="noStrike">
                <a:solidFill>
                  <a:srgbClr val="008093"/>
                </a:solidFill>
                <a:latin typeface="Arial"/>
              </a:rPr>
              <a:t>voir diapo 16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)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55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Donner un p.a.a. analytique pour l’expression </a:t>
            </a:r>
            <a:r>
              <a:rPr b="0" i="1" lang="fr-CA" sz="2200" spc="-1" strike="noStrike">
                <a:solidFill>
                  <a:srgbClr val="000000"/>
                </a:solidFill>
                <a:latin typeface="Arial"/>
              </a:rPr>
              <a:t>désignée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 comme étant l’originale, </a:t>
            </a:r>
            <a:r>
              <a:rPr b="0" lang="fr-CA" sz="2200" spc="-1" strike="noStrike">
                <a:solidFill>
                  <a:srgbClr val="008093"/>
                </a:solidFill>
                <a:latin typeface="Arial"/>
              </a:rPr>
              <a:t>sans sous-zone $l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 pour la lang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55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Donner un p.a.a. analytique pour au moins une autre expression, </a:t>
            </a:r>
            <a:r>
              <a:rPr b="0" lang="fr-CA" sz="2200" spc="-1" strike="noStrike">
                <a:solidFill>
                  <a:srgbClr val="008093"/>
                </a:solidFill>
                <a:latin typeface="Arial"/>
              </a:rPr>
              <a:t>avec sous-zone $l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 pour la lang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A3204AED-0092-438A-B198-633B56005C7E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 : langues multiples sans indication de langue origina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425520" y="1346040"/>
            <a:ext cx="8458200" cy="46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245 00 $a Diplôme international de l'OIV en 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nagement du secteur de la vigne et du vin 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= $b International diploma of the OIV in 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nagement of the vine and wine sector = 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nationales Diplom der OIV im Fachberich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nagement im Weinbausektor = Diploma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nazionale dell'OIV in gestione del settore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lla vigna e del vino = Diploma internacional de la OIV de management del sector la viña y el vino.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730 02 $a Diplôme international de l'OIV en 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nagement du secteur de la vigne et du vin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730 02 $a Diplôme international de l'OIV en 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nagement du secteur de la vigne et du vin.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  <a:ea typeface="Courier New"/>
              </a:rPr>
              <a:t>$l Anglais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D2F22783-131A-41CA-BD25-72F66F2FAD35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Changements par rapport aux RCAA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Ne plus utiliser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 « Polyglotte »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 « Multilingue »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dans $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Ne plus utiliser une seule sous-zone avec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plusieurs lang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ar exemple,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« Anglais &amp; français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haque expression doit être identifiée séparément (si cela est jugé utile pour l’accè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a langue est ajoutée après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« Extraits »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orsque ce titre conventionnel collectif est pré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BBACD949-D47C-43E4-AC87-AAB686A5FA82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Variantes de points d’accès pour les expressions -- RDA 6.27.4.5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Politique LC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: jugement du catalogueur – considérer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si important pour que l’usager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puisse trouver ou identif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Catalogueur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sont aussi des us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Peut ê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basée sur une variante de titre de l’œuvre associée avec une expression particuliè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une forme avec une variante de l’ajout dans le point d’accès autoris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E95E809B-B9C9-4890-B9D5-764241CF2215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s -- Variantes de points d’accès pour les expression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648000" y="1981080"/>
            <a:ext cx="731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00 $a Lindgren, Astrid, $d 1907-2002.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t Pippi Långstrump.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  <a:ea typeface="Courier New"/>
              </a:rPr>
              <a:t> $l Françai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00 $a Lindgren, Astrid, $d 1907-2002.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t</a:t>
            </a:r>
            <a:r>
              <a:rPr b="1" lang="fr-CA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ifi Brindacier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457200" y="3886200"/>
            <a:ext cx="8458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00 $a Hartmann, $c von Aue, $d 12e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siècle. $t Œuvre.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  <a:ea typeface="Courier New"/>
              </a:rPr>
              <a:t> $l Anglai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00 $a</a:t>
            </a:r>
            <a:r>
              <a:rPr b="1" lang="fr-CA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artmann, $c von Aue, $d 12e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siècle. $t Arthurian romances, tales,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and lyric poetry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8F93985D-3A46-4E49-9ABC-79154D3CDA49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Zones MARC autorité pour l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400" spc="-1" strike="noStrike">
                <a:solidFill>
                  <a:srgbClr val="008093"/>
                </a:solidFill>
                <a:latin typeface="Arial"/>
              </a:rPr>
              <a:t>Politique LC : jugement du catalogueur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pour inclure ces zones dans les notices d’autor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046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ates spéciales cod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336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Type de contenu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377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Langue associ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381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Autres caractéristiques d’une œuvre ou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382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Médium d’exécution d’une œuv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384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ona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0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 LC-PCC : enregistrer un 336 seulement dans les notices bibliographiq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30C196A9-75D7-49B3-BE2E-ED7C6E98AD48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Identifier une expres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es points d’accès autorisés sont utilisés dans les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notices bibliographique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pour identifier l’expression qui est cataloguée; aussi dans les 6XX et 7XX pour représenter les relations à d’autres expres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Formés selon l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hapitre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Deux étapes (similaires à l’identification de l’œuv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Nommer </a:t>
            </a:r>
            <a:r>
              <a:rPr b="0" i="1" lang="fr-CA" sz="2400" spc="-1" strike="noStrike">
                <a:solidFill>
                  <a:srgbClr val="008093"/>
                </a:solidFill>
                <a:latin typeface="Arial"/>
              </a:rPr>
              <a:t>l’œuv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jouter l’information qui identifie </a:t>
            </a:r>
            <a:r>
              <a:rPr b="0" i="1" lang="fr-CA" sz="2400" spc="-1" strike="noStrike">
                <a:solidFill>
                  <a:srgbClr val="008093"/>
                </a:solidFill>
                <a:latin typeface="Arial"/>
              </a:rPr>
              <a:t>l’ex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24A45D06-B5A5-480A-A784-F014DD9EAEEC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Décision LC sur …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Bibliographique ou autorité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800" spc="-1" strike="noStrike">
                <a:solidFill>
                  <a:srgbClr val="008093"/>
                </a:solidFill>
                <a:latin typeface="Arial"/>
              </a:rPr>
              <a:t>Toujour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identifier l’expression en l’enregistrant dans la </a:t>
            </a:r>
            <a:r>
              <a:rPr b="0" i="1" lang="fr-CA" sz="2800" spc="-1" strike="noStrike">
                <a:solidFill>
                  <a:srgbClr val="008093"/>
                </a:solidFill>
                <a:latin typeface="Arial"/>
              </a:rPr>
              <a:t>notice bibliograph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400" spc="-1" strike="noStrike">
                <a:solidFill>
                  <a:srgbClr val="008093"/>
                </a:solidFill>
                <a:latin typeface="Arial"/>
              </a:rPr>
              <a:t>parfoi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(selon politiques LC) aussi en faisant un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notice autorité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titre ou nom/ti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FEF16FFD-99ED-418E-9A36-E40F2171B930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Décisions LC sur …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Comment identifier l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LC-PCC PS 0.6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Identifier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e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expressions en ajoutant un attribut au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point d’accès autori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Écritures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sacrée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6.30.3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Traduction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et éditions en d’autres langues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6.27.3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ocuments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musicaux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6.28.3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C5E14462-C9BB-4781-BA86-148A00B672FB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Décisions LC sur …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Comment identifier l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Ne pas ajouter une autre caractéristiqu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pour différencier une expression d’une au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ar exemple, ne pas différencier une traduction de </a:t>
            </a: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Hamlet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en français d’une autre traduction frança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ar exemple, ne pas différencier un arrangement du </a:t>
            </a: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Corsair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de Berlioz d’un autre arran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2C2EA9A3-289C-4628-B875-20D29CBE38A7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Construction du point d’accès autorisé représentant une expres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6.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’élément de base est le point d’accès autorisé pour </a:t>
            </a:r>
            <a:r>
              <a:rPr b="0" i="1" lang="fr-CA" sz="2800" spc="-1" strike="noStrike">
                <a:solidFill>
                  <a:srgbClr val="008093"/>
                </a:solidFill>
                <a:latin typeface="Arial"/>
              </a:rPr>
              <a:t>l’œuv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800" spc="-1" strike="noStrike">
                <a:solidFill>
                  <a:srgbClr val="008093"/>
                </a:solidFill>
                <a:latin typeface="Arial"/>
              </a:rPr>
              <a:t>Ajout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tels que présentés dans 6.27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961920" y="3962520"/>
            <a:ext cx="6705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600" spc="-1" strike="noStrike">
                <a:solidFill>
                  <a:srgbClr val="006666"/>
                </a:solidFill>
                <a:latin typeface="Courier New"/>
                <a:ea typeface="Courier New"/>
              </a:rPr>
              <a:t>Goncourt, Edmond de, 1822–1896. Frères Zemganno.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4303800" y="4359240"/>
            <a:ext cx="1844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600" spc="-1" strike="noStrike">
                <a:solidFill>
                  <a:srgbClr val="33cccc"/>
                </a:solidFill>
                <a:latin typeface="Courier New"/>
                <a:ea typeface="Courier New"/>
              </a:rPr>
              <a:t>Anglais.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7B5857F0-9B3C-415D-AD8C-2D13E2052924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jouts aux points d’accès autorisés pour l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Type de contenu *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6.9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Dat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e l’expression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*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6.10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Langu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e l’expression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*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6.11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utr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aractéristique distinctiv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e l’expression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*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6.12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2362320" y="5334120"/>
            <a:ext cx="4876560" cy="459720"/>
          </a:xfrm>
          <a:prstGeom prst="rect">
            <a:avLst/>
          </a:prstGeom>
          <a:noFill/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A" sz="2400" spc="-1" strike="noStrike">
                <a:solidFill>
                  <a:srgbClr val="006666"/>
                </a:solidFill>
                <a:latin typeface="Arial"/>
              </a:rPr>
              <a:t>*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si nécessaire pour différencier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1146240" y="4648320"/>
            <a:ext cx="21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fr-CA" sz="3000" spc="-1" strike="noStrike">
                <a:solidFill>
                  <a:srgbClr val="006666"/>
                </a:solidFill>
                <a:latin typeface="Arial"/>
              </a:rPr>
              <a:t>« et/ou »</a:t>
            </a:r>
            <a:endParaRPr b="1" lang="en-US" sz="3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56E2890D-F1B3-47DC-963F-938773384A90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jouts aux points d’accès pour les expressions – Type de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6.9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si nécessaire pour différenc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« 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forme fondamentale de communication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sous laquelle le contenu est exprimé et l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sens humain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par lequel il doit être perçu ...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Prendre d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n’importe quelle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Vocabulaire contrôlé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à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6.9.1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Point d’accès: dans l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sous-zone $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1219320" y="5638680"/>
            <a:ext cx="6629400" cy="764280"/>
          </a:xfrm>
          <a:prstGeom prst="rect">
            <a:avLst/>
          </a:pr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130 $a ____________ $h </a:t>
            </a:r>
            <a:r>
              <a:rPr b="1" lang="fr-CA" sz="2200" spc="-1" strike="noStrike">
                <a:solidFill>
                  <a:srgbClr val="006666"/>
                </a:solidFill>
                <a:latin typeface="Courier New"/>
                <a:ea typeface="Courier New"/>
              </a:rPr>
              <a:t>Parole énoncée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[Pour le livre audio d’un texte imprimé]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Riva Pat</cp:lastModifiedBy>
  <cp:lastPrinted>2010-10-18T15:40:26Z</cp:lastPrinted>
  <dcterms:modified xsi:type="dcterms:W3CDTF">2014-11-05T19:52:31Z</dcterms:modified>
  <cp:revision>296</cp:revision>
  <dc:subject/>
  <dc:title>Diapositive 1</dc:title>
</cp:coreProperties>
</file>