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8F343-1F90-49DD-A595-D1AC8D3F7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B470-F64F-4C1E-A908-2F643A6CE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5663-D08D-4A0D-8A1F-AB2746A65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9D92-306E-460E-A9DF-FE6EA25AF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D366-3A34-46D1-8B8F-21CAD014C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CBF8-DBA4-4D17-9308-887EECD8A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D603-70F1-4BE4-95C0-DF05FFEB7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F67E-5C56-45EF-82B2-F90954345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EB43-2C1F-4903-BF2B-FA118E77C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F5F4-0C3E-4C55-9C36-869753C19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E702-67F4-4B01-9333-F86A36443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DEFA-6ADA-423C-B180-6A6CF3519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E25E1C7-E595-4FB7-A256-6A9E541758E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D76A-C58C-4718-8F1B-E676FC3B1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A550-5156-4665-8875-C242DC808B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E0D7-873F-4F81-8DD4-6F5F91668A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5AE9-FF37-4C9B-A21D-C0B467CAA0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EE55-91EC-4CE9-957E-B5E933D767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6CEA-6298-469F-9391-151A7238D5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6D87-F78A-4A07-ABD6-0CE1F0ECEE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CE50-D284-4420-8B9A-21D5612C99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CC87-82A4-4BB1-80D8-F6A380BBB2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3DC8-9E89-4CDF-A65C-F32C42D583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66FC-AE3B-4EEC-9558-F999BC3569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25BD-A5E0-46D4-8276-81977F4D4E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 la OIV de management del sector la viña y e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in.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A5BA-EB95-4350-AB44-53D6F709AC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751D-B311-4590-9867-B0CDD4EFCD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E9F9-5A94-43F1-B821-48766F92C7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BA460-FC75-4CF7-A8D0-33FAB52F61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qu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écider d’inclure ces zones dans les notices d’autorité créée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0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ype d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DBE2-050C-42E9-939D-81B11CE1B0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76BC-01ED-4D4A-AA88-4B09E0B6C1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B8C4-6A7D-4AFE-889F-55BCBEA5B3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763F-802E-4DD6-A957-9745C1CB2A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8E76-406C-4A04-9A28-86FD76A7BC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112D-EF57-4AB9-9D4D-1120E74197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3C8D-D611-4DA4-BD14-4782A02545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en-US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8582-5ADB-46AE-AFE7-A8A6DE7ED6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0:20Z</dcterms:modified>
  <cp:revision>289</cp:revision>
  <dc:subject/>
  <dc:title>Diapositive 1</dc:title>
</cp:coreProperties>
</file>