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F26B-0F16-4143-987D-9D4CA8477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BD0E-20A4-4B4B-B719-0CA6F2787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5BB0-A24B-488C-8019-2D70EE453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6CBE-4D85-46AA-96D0-8D06530AC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6070-0571-45C1-9729-AE8742475E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C0A2-927E-4230-B494-463A7F346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7F78-9D37-4ED7-B389-3F7ED0D6B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387B-D047-4840-9F72-5AFE6DD75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0F5E-FAFF-4850-A06A-F881BB23A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6A92-A52A-448B-B877-66DC99BE2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3E60-6C0A-4EF2-AB36-25E5F363E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DCC7-6F8C-4AE4-A1BD-30E493D3F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0EF88EC-DB59-40BB-B0F5-5AAE5ADCD40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CE31-A66A-4C3F-8C06-8E877C809B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5953-7DFD-4181-8025-E42FA93E8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3576-A883-4246-8AAA-50360FBE9F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CA0A-18B5-441F-812A-0F0447D871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84F3-0146-4B3C-A7ED-0BBF77ECDC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FC09-8D51-45D0-B180-A84F2F12F2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5B130-82D4-4BC8-9933-D9094E6259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E101-F9D3-4088-92AB-B0D8D00133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1218-23D8-4BDA-BE98-AC636DF1B4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D5AB-0DA3-4FC2-A933-7C187B39DA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9532-A324-4844-A1B4-86C5CCD988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8AC0-36EE-499D-821B-E8144C9B02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la OIV de management del sector la viña y e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in.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6F10-63F4-4213-BC03-78F90853CD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A540-83D9-493E-8253-5899B41094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58CE-4F87-4E65-8319-8179FE57F5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2405-AACF-4AB9-BAA2-92ED55938F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qu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écider d’inclure ces zones dans les notices d’autorité créée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0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ype d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3882-E764-4056-A69A-93126AD8A5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5351-A054-4E9B-AF1D-A72E6A46A2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F4F4-13E7-4505-ADA4-5A05AFA845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2F50-C931-4901-90A6-8F5D04B09F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652F-95FF-4E65-817B-F5B9323E7F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4EA3-84AC-47B0-ADC5-6D987C624C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CB528-4C71-4BCD-BB17-B4A4B878F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en-US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F2D7-7553-4C33-825A-EB8595B333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0:20Z</dcterms:modified>
  <cp:revision>289</cp:revision>
  <dc:subject/>
  <dc:title>Diapositive 1</dc:title>
</cp:coreProperties>
</file>