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557D7CED-EE6B-4D94-AEC8-9AF2175002B4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29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7 - Identification des expression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D2075F32-AA6D-4FC9-9D26-F8AA6486F362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7 - Identification des expression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A4F244B8-7C09-42D1-9F8F-9DA7737CDED2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4D090-8FDD-4A62-8B4B-AFDCF43C3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C725D-4BBD-4981-942F-CB1FF02A5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C97D2-5561-4798-8E66-99B52F918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076E6-114F-416F-8139-E98848EAAC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F584C-CB68-4A2D-AE0D-9C954EEECF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5FF32-7A32-47B9-820F-D976E38E0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984DE-1E1E-4F4C-907C-DA8F75DFD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CBF8E-C778-4AA7-89B2-CB6F63607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663E4-8A39-4858-9C93-0480013F0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FD0F3-3845-4FE3-9D29-1986D21AE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0F17C-5748-4420-BCE4-FA3872625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86D83-E08F-43D1-AE63-20891AEFD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36975C5-257D-4E3A-8C5E-728BFE0F519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Identification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9E1B617-6D60-4DCA-A36C-61BBED581C0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Dat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as un 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ulement pour musique, écritures sacrées, tra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e plus ajouter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$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« 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 » et « 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Œuv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rai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plus ancienne associée à une expression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n peut utiliser la date de la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07200" y="5634000"/>
            <a:ext cx="738936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100 1# $a Bernstein, Leonard, $d 1918-1990.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240 10 $a Œuvr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D1CB786-1BDB-432A-A833-12F5D0794B2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aractéristique autre que le type de contenu, la langue de l’expression ou la date de l’expression, servant à distinguer une expression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int d’accès :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à la fin de la dernière sous-zo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auf si une sous-zone particulière est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$o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expressions musicales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par exemple, « arrangé 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sous-zone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$s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es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versions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de la Bible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A5AFC50-F0BB-4E02-B310-5BE9C3C8E53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–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 caractéristique distin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54120" y="24066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30 #0 $a Casse-noisette (Œuvr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horégraphique :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Baryšnikov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54120" y="3778200"/>
            <a:ext cx="8076960" cy="8254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30 #0 $a Bible. $l Français.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$s Dumas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f 1991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3E22570-4ED2-4727-8400-47A753731F3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-- Langue de l’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nécessaire pour différenc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ans laquelle une œuvre est exprimé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Utiliser un ou des termes provenant du R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ous-zone $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non répé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tinguer ent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une express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ans plus d’une lan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C3BDF1A-C076-4344-8781-9624C6A392F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Si une expression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Une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nner $l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eulement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pas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nner $l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 sauf si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54120" y="3124080"/>
            <a:ext cx="8109000" cy="119124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Brunhoff, Jean de, $d 1899-1937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Babar en famille.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245 10 $a Babar and his children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62120" y="5791320"/>
            <a:ext cx="8076960" cy="45972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ctionnaire bilingue illustré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1B49E0D-428C-4107-B7DE-0664E2979AA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manifestation est une compilation de la ver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’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un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a même 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pour l’expression originale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un point d’accès autorisé analytique séparé pour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raduc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C4F6708-4448-497D-840E-AF7380A38DD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 Deux expressions --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8093"/>
                </a:solidFill>
                <a:uFillTx/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0 10 $a Mail carrier.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l Espagnol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2C4360C-18C6-4BCA-90F5-C1547D579EC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(suite) : Deux expressions --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une tra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8093"/>
                </a:solidFill>
                <a:latin typeface="Arial"/>
              </a:rPr>
              <a:t>Version originale + traduction espagnole de la même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8093"/>
                </a:solidFill>
                <a:uFillTx/>
                <a:latin typeface="Arial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041 1# $a eng $a spa $h 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100 1# $a Macken, JoAnn Early, $d 195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5 10 $a Mail carrier = $b El cartero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 JoAnn Early Ma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246 31 $a Car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546 ## $a En anglais et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700 12 $a Macken, JoAnn Early, $d 1953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t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ail carrier. $l Espagn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809F78E-E7F3-4AB5-964A-DAD3A29E46D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Si deux ou plusieurs expressions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ersion originale et plusieurs tradu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compilation contient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plusieurs tra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un point d’accès autorisé pour l’expression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origina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ans $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a lang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un point d’accès autorisé pour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au moins une traduc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c $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a lang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des points d’accès analytiques additionnels selon le jugement du catalogu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105A85F-DD51-4592-8ED4-C1456F740CB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s de langues multi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l’expression originale n’est pas 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u moins un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expressions dans un p.a.a. analytiqu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293FD2D-500E-40A3-95F7-18234F47947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dentifier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écision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nstruction du point d’accès autorisé représentant u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jouts aux points d’accès autorisé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Variantes de point d’accès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s MARC autorité pour l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316C4FB-6C60-441E-8352-5D3DD71C4F7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s de langues multiples (sui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ux ou plusieurs expression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 différentes langues, et </a:t>
            </a: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on ne peut déterminer la langue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Choisir le titre propre nommé en premier sur la source d’information privilégiée comme titre privilégié de l’œuvre (i.e. traiter le premier comme étant celui de l’édition origina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Points d’accès autorisés analytiques: Traiter la manifestation comme une compilation comprenant la version originale et une ou plusieurs traductions (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voir diapo 16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Donner un p.a.a. analytique pour l’expression </a:t>
            </a:r>
            <a:r>
              <a:rPr b="0" i="1" lang="fr-CA" sz="2200" spc="-1" strike="noStrike">
                <a:solidFill>
                  <a:srgbClr val="000000"/>
                </a:solidFill>
                <a:latin typeface="Arial"/>
              </a:rPr>
              <a:t>désignée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comme étant l’originale,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sans sous-zone $l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55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Donner un p.a.a. analytique pour au moins une autre expression, </a:t>
            </a:r>
            <a:r>
              <a:rPr b="0" lang="fr-CA" sz="2200" spc="-1" strike="noStrike">
                <a:solidFill>
                  <a:srgbClr val="008093"/>
                </a:solidFill>
                <a:latin typeface="Arial"/>
              </a:rPr>
              <a:t>avec sous-zone $l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pour la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BAB35F6-28F6-4367-9BB4-F3A925478CA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 langues multiples sans indication de langue origin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5520" y="1346040"/>
            <a:ext cx="845820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 00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 $b International diploma of the OIV i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of the vine and wine sector =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tionales Diplom der OIV im Fachberich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im Weinbausektor = Diplom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azionale dell'OIV in gestione del settor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la vigna e del vino = Diploma internacional de la OIV de management del sector la viña y el vin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30 02 $a Diplôme international de l'OIV en 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agement du secteur de la vigne et du vin.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  <a:ea typeface="Courier New"/>
              </a:rPr>
              <a:t>$l Anglais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27E7617-8A3B-4013-8407-89CE424814C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hangements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 Polyglotte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« Multilingue 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ans $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Ne plus utiliser une seule sous-zone ave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lusieurs lan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« Anglais &amp; françai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expression doit être identifiée séparément (si cela est jugé utile pour l’accè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a langue est ajoutée aprè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« Extraits »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orsque ce titre conventionnel collectif est pré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BDB9128-F7D7-4892-B8C0-1EDD429FF1A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ariantes de points d’accès pour les expressions -- RDA 6.27.4.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olitique LC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 jugement du catalogueur – considér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 important pour que l’usager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uisse trouver ou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atalogueur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ont aussi des us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eut ê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sée sur une variante de titre de l’œuvre associée avec une expression particul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e forme avec une variante de l’ajout dans le point d’accè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1352659-95FB-418C-A54E-8CA487D232C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-- Variantes de points d’accès pour les expression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48000" y="1981080"/>
            <a:ext cx="731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 Pippi Långstrump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Franç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 Lindgren, Astrid, $d 1907-2002.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t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fi Brindacier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7200" y="38862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$a Hartmann, $c von Aue, $d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Œuvre.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  <a:ea typeface="Courier New"/>
              </a:rPr>
              <a:t> $l Anglai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$a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rtmann, $c von Aue, $d 12e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iècle. $t Arthurian romances, tales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nd lyric poetry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3488ED1-CEA6-44E2-AA7F-576F7262C01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Zones MARC autorité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Politique LC : jugement du catalogueu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inclure ces zones dans les notices d’aut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046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s spéciales cod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Type de contenu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77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Langue associ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8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res caractéristiques d’une œuvre ou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8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Médium d’exécution d’une 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384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  <a:ea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on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LC-PCC : enregistrer un 336 seulement dans les notices bibliograph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F0C73BB-0F6E-4E18-85C4-FC2B07BE5F5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dentifier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points d’accès autorisés sont utilisés dans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tices bibliographiqu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identifier l’expression qui est cataloguée; aussi dans les 6XX et 7XX pour représenter les relations à d’autres expr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Formés selon l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pit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ux étapes (similaires à l’identification de l’œuv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mmer </a:t>
            </a: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er l’information qui identifie </a:t>
            </a: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l’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E7855E0-9272-4FAC-8DFF-5E1EE7827B9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écision LC sur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Bibliographique ou autor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Toujour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identifier l’expression en l’enregistrant dans la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notice bibliograp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8093"/>
                </a:solidFill>
                <a:latin typeface="Arial"/>
              </a:rPr>
              <a:t>parfoi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selon politiques LC) aussi en faisant un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notice autorit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titre ou nom/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6FCE0DD-8289-465B-8E34-82FDF3084B8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C-PCC PS 0.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xpressions en ajoutant un attribut au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ritur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acré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30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raduction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t éditions en d’autres langue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27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cument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musicaux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28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7A17ABC-428C-4543-8EC3-1EEF45D1748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écisions LC sur …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mment identifie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ajouter une autre caractéristiq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différencier une expression d’une au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ne pas différencier une traduction de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Hamle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 français d’une autre traduction franç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exemple, ne pas différencier un arrangement du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Corsai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e Berlioz d’un autre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1D4CCE5-6FB8-4D03-9816-AE823DBB00B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nstruction du point d’accès autorisé représentant u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’élément de base est le point d’accès autorisé pour </a:t>
            </a:r>
            <a:r>
              <a:rPr b="0" i="1" lang="fr-CA" sz="2800" spc="-1" strike="noStrike">
                <a:solidFill>
                  <a:srgbClr val="008093"/>
                </a:solidFill>
                <a:latin typeface="Arial"/>
              </a:rPr>
              <a:t>l’œ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8093"/>
                </a:solidFill>
                <a:latin typeface="Arial"/>
              </a:rPr>
              <a:t>Ajout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tels que présentés dans 6.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961920" y="39625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6666"/>
                </a:solidFill>
                <a:latin typeface="Courier New"/>
                <a:ea typeface="Courier New"/>
              </a:rPr>
              <a:t>Goncourt, Edmond de, 1822–1896. Frères Zemganno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303800" y="4359240"/>
            <a:ext cx="18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33cccc"/>
                </a:solidFill>
                <a:latin typeface="Courier New"/>
                <a:ea typeface="Courier New"/>
              </a:rPr>
              <a:t>Anglais.</a:t>
            </a:r>
            <a:endParaRPr b="1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0D3801F-6F6A-4B86-8B0A-0DFF0CE67C2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autorisés pour l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Type de contenu 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a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0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ang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aractéristique distinctiv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 l’expression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*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1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362320" y="5334120"/>
            <a:ext cx="4876560" cy="4597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146240" y="464832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CA" sz="3000" spc="-1" strike="noStrike">
                <a:solidFill>
                  <a:srgbClr val="006666"/>
                </a:solidFill>
                <a:latin typeface="Arial"/>
              </a:rPr>
              <a:t>« et/ou »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1186A4B-AF4A-48BB-A0D6-C92C745566D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jouts aux points d’accès pour les expressions – 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si nécessaire pour différenc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ar lequel il doit être perçu ..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endre d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’importe quell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Vocabulaire contrôl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à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oint d’accès: dans l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ous-zone $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219320" y="5638680"/>
            <a:ext cx="6629400" cy="764280"/>
          </a:xfrm>
          <a:prstGeom prst="rect">
            <a:avLst/>
          </a:pr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0 $a ____________ $h </a:t>
            </a:r>
            <a:r>
              <a:rPr b="1" lang="fr-CA" sz="2200" spc="-1" strike="noStrike">
                <a:solidFill>
                  <a:srgbClr val="006666"/>
                </a:solidFill>
                <a:latin typeface="Courier New"/>
                <a:ea typeface="Courier New"/>
              </a:rPr>
              <a:t>Parole énoncé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[Pour le livre audio d’un texte imprimé]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Riva Pat</cp:lastModifiedBy>
  <cp:lastPrinted>2010-10-18T15:40:26Z</cp:lastPrinted>
  <dcterms:modified xsi:type="dcterms:W3CDTF">2014-11-05T19:52:31Z</dcterms:modified>
  <cp:revision>296</cp:revision>
  <dc:subject/>
  <dc:title>Diapositive 1</dc:title>
</cp:coreProperties>
</file>