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BAEA7-8B1B-4354-9CFC-24DE7A573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EB0F-A65C-49C7-AB0D-2BBA51188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1AAD-77D4-42D9-B25E-C1AE18B00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46A4-4D5D-430F-83D1-F3025FF07F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42BD-991B-4649-9FCA-47FC17E747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AF82-F9E4-4F5E-80F5-678312E6B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801BB-40FC-48C2-AC69-F670285FC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08F0-9FB8-409E-942D-B05DD49E9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567A-04FE-4F59-9DC8-E72F28782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B754-D74C-4FD6-B346-D50050FDE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A5C6-9DAE-470D-AA12-B511251B9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725D-08D0-4417-9F64-9D9A694EF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A75C91C-598E-4FDA-A298-FBCCD0A37FD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9867-333B-4568-8E05-6607EF04E4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A7C5-65C4-45AA-9749-7CFAB54FBF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091D-677A-4F63-9125-68CF10CF08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DDD5-C086-46D2-9486-659ABF4704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8558-54C3-4A31-ACE7-D8632F93D3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9530-1530-4886-9E7B-4F267988EA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D7E8-C711-40FC-9A75-DF52148CA4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77A8-EBA7-4FA5-9B80-310AC08915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9F5D-FE03-46FB-AED5-FD0659ADF4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F5B2-CC56-4554-9CEE-CD6823C41A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7FC33-59E1-4FC4-9B51-7F3F8D8107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en-US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C20D-8586-4A03-9256-4E212B418D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 la OIV de management del sector la viña y el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in.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E9EF-6E50-43AC-848E-8D9DB9EE34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ADC0-8893-4116-B3DA-51935963CE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6B95-1E26-4FD2-8117-8A7FE2395C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activité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DD7B-DC9F-404C-A75C-39AE6FFD60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quer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écider d’inclure ces zones dans les notices d’autorité créée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0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ype d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D94B-B20F-426D-822C-AB5821D8C6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D724-A9EF-43E7-B178-15F6D44A62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es points d’accès autoris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t utilisés dans d’autres notices d’autorité dans des zon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5X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lations à d’autres expressions) pour les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rai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dans les cas laissés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63E0-255C-41A5-B25F-B41BA12B76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B0F5-D0F7-4A1C-8300-EB1426A7AA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874A-98D7-4CD9-BB41-06FCF1B7A3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409E-2186-4177-8DBE-3C0D3EDDFA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F0ADC-C8C3-427D-9C06-FA99DC09AB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en-US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4E9B-E54C-4F31-A735-4E4E51D2BA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0:20Z</dcterms:modified>
  <cp:revision>289</cp:revision>
  <dc:subject/>
  <dc:title>Diapositive 1</dc:title>
</cp:coreProperties>
</file>