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2A02A6-F79A-4FC8-ACED-5F18CCC8AED0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C4602B-B5F9-4F11-8F5E-E8B95BCB8095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90B15E-D6A5-4FA7-BE09-B104349A688A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F557B2-50DB-4ECA-968D-1169A6B8D906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11924F-051F-4C87-96F6-6B322D162DE9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E525F1-0FE4-4288-9F8E-00AC47DF53E7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5EE0-0F5F-4EDE-A814-EB795ED7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725-BB6B-448C-A5C4-5C87E4CA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9DC-61FD-4859-9DA6-2620D147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984-7FD7-418F-9922-5D269715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439-859F-4F61-9F47-B08F7FF9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0C5-4F96-417E-B544-30C20896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48A-E283-47F7-9BB9-6FE2419C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FD4-5BF6-4AFC-A4BE-3DD554A9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7FB-5548-45C3-8C3A-F70BD147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C77-5327-41B9-B398-2738D689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A96-4181-412A-8A5D-ED213C15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E1C-176A-4977-8ACA-6060125C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09FC-2029-42D9-801A-379B1756036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9128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Arial"/>
                <a:ea typeface="Arial"/>
              </a:rPr>
              <a:t>Exercices sur les œuvres</a:t>
            </a:r>
            <a:br>
              <a:rPr sz="4000"/>
            </a:br>
            <a:br>
              <a:rPr sz="1400"/>
            </a:br>
            <a:r>
              <a:rPr b="0" lang="fr-CA" sz="3200" spc="-1" strike="noStrike">
                <a:solidFill>
                  <a:srgbClr val="333399"/>
                </a:solidFill>
                <a:latin typeface="Arial"/>
                <a:ea typeface="Arial"/>
              </a:rPr>
              <a:t>Donner le point d’accès autorisé pour chacune des œuvres suivantes en utilisant le codage approprié dans une notice bibliographique </a:t>
            </a:r>
            <a:br>
              <a:rPr sz="3200"/>
            </a:br>
            <a:r>
              <a:rPr b="0" lang="fr-CA" sz="3200" spc="-1" strike="noStrike">
                <a:solidFill>
                  <a:srgbClr val="333399"/>
                </a:solidFill>
                <a:latin typeface="Arial"/>
                <a:ea typeface="Arial"/>
              </a:rPr>
              <a:t>(1XX + 240, 1XX + 245, 130 ou 245)</a:t>
            </a:r>
            <a:br>
              <a:rPr sz="3200"/>
            </a:br>
            <a:br>
              <a:rPr sz="1400"/>
            </a:br>
            <a:r>
              <a:rPr b="0" lang="fr-CA" sz="2800" spc="-1" strike="noStrike">
                <a:solidFill>
                  <a:srgbClr val="333399"/>
                </a:solidFill>
                <a:latin typeface="Arial"/>
                <a:ea typeface="Arial"/>
              </a:rPr>
              <a:t>(* Suivant la pratique LC qui consiste à ne pas enregistrer le titre privilégié d’une œuvre dans la zone 130 ou 240 s’il est identique au titre propre de la manifes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Rev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Espace réservé du contenu 2"/>
          <p:cNvSpPr/>
          <p:nvPr/>
        </p:nvSpPr>
        <p:spPr>
          <a:xfrm>
            <a:off x="457200" y="119700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revue intitulée « Progrès en médecin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revue intitulée « Progrès en médecine » qui a commencé de paraître en 2009 et qui est publiée à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97640" y="1844640"/>
            <a:ext cx="543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00 $a Progrès en méde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95480" y="4035600"/>
            <a:ext cx="80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Progrès en médecine (Paris, France)                 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3200" spc="-1" strike="noStrike">
                <a:solidFill>
                  <a:srgbClr val="000000"/>
                </a:solidFill>
                <a:latin typeface="Calibri"/>
              </a:rPr>
              <a:t>ou</a:t>
            </a:r>
            <a:br>
              <a:rPr sz="3200"/>
            </a:b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Progrès en médecine (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Liv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contenu 2"/>
          <p:cNvSpPr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livre de Marcel Brouillard intitulé « Espagne et Portuga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97280" y="3219480"/>
            <a:ext cx="659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00 1# $a Brouillard, Marcel, $d 1930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10 $a Espagne et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1471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alibri"/>
              </a:rPr>
              <a:t>Livres (suite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57200" y="1341360"/>
            <a:ext cx="822960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livre sans auteurs connus intitulé « Espagne et Portugal » et publié en 2008 par les Éditions 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24200" y="2886120"/>
            <a:ext cx="52509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00 $a Espagne et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3414600"/>
            <a:ext cx="837252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4520" indent="-614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Calibri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livre sans auteurs connus intitulé « Espagne et Portugal » et publié en 2011 par les Éditions 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497052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Espagne et Portugal (Éditions DEF)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3200" spc="-1" strike="noStrike">
                <a:solidFill>
                  <a:srgbClr val="000000"/>
                </a:solidFill>
                <a:latin typeface="Calibri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Espagne et Portugal (20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mpil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ce réservé du contenu 2"/>
          <p:cNvSpPr/>
          <p:nvPr/>
        </p:nvSpPr>
        <p:spPr>
          <a:xfrm>
            <a:off x="457200" y="177336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compilation des œuvres d’Anne Hébert intitulée « Œuvres complètes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1960" y="2932200"/>
            <a:ext cx="662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00 1# $a Hébert, Anne, $d 1916-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0 10 $a Œ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10 $a Œuvres complè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mpilations (sui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contenu 2"/>
          <p:cNvSpPr/>
          <p:nvPr/>
        </p:nvSpPr>
        <p:spPr>
          <a:xfrm>
            <a:off x="457200" y="152388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compilation d’œuvres par différents auteurs intitulée « Anthologie de la poésie québécoise » publiée à Montréal e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7360" y="3043080"/>
            <a:ext cx="68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245 00 $a Anthologie de la poésie québéc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7840" y="3429000"/>
            <a:ext cx="830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buClr>
                <a:srgbClr val="000000"/>
              </a:buClr>
              <a:buFont typeface="Calibri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compilation d’œuvres par différents auteurs intitulée « Anthologie de la poésie québécoise » publiée à Québec e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92240" y="5300640"/>
            <a:ext cx="805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130 00 $a Anthologie de la poésie québécoise (Québec, Québec) </a:t>
            </a: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Calibri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130 00 $a Anthologie de la poésie québécoise (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21:00:41Z</dcterms:modified>
  <cp:revision>136</cp:revision>
  <dc:subject/>
  <dc:title>Quiz Module 8: les relations RDA</dc:title>
</cp:coreProperties>
</file>