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0E9729-B0AC-4DE7-94C6-8BE17C90A5C4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127281-CA72-4741-A8E8-CD43AEA1F63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537041-0928-410F-B0E7-E72CA9F1112F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27EA46-188E-4401-9886-0125987CCD1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620F37-EC5F-4C8F-ABA8-D0A03DA3B67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C15676-6F50-4CBD-A89B-D63394774F5D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DF1-06A7-479C-B55F-A1130409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4C9-BF59-4676-A1B5-435D0F25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C31-B29B-43D7-8F4F-4F8A4DAF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D3B-DD51-4A96-8CA3-9122BDE8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73E-482F-48D4-B51D-1A5767FC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29E-7FBA-4EA7-AA73-CE112A76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42E-4320-423B-93FE-C6486C3F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4F0-91D1-4545-902F-0D1C893F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790-F49A-4629-A032-58A30179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28E-6373-4B23-8814-B2B6F6A7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DB9-2E84-4D1B-8456-EC907F16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DD7-8DDC-4592-A3D1-26BDD692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3428-4F8B-442D-9F35-F3E2C558BAD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  <a:ea typeface="Arial"/>
              </a:rPr>
              <a:t>Exercices sur les œuvres</a:t>
            </a:r>
            <a:br>
              <a:rPr sz="4000"/>
            </a:br>
            <a:br>
              <a:rPr sz="14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Donner le point d’accès autorisé pour chacune des œuvres suivantes en utilisant le codage approprié dans une notice bibliographique </a:t>
            </a:r>
            <a:br>
              <a:rPr sz="32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(1XX + 240, 1XX + 245, 130 ou 245)</a:t>
            </a:r>
            <a:br>
              <a:rPr sz="3200"/>
            </a:br>
            <a:br>
              <a:rPr sz="1400"/>
            </a:br>
            <a:r>
              <a:rPr b="0" lang="fr-CA" sz="2800" spc="-1" strike="noStrike">
                <a:solidFill>
                  <a:srgbClr val="333399"/>
                </a:solidFill>
                <a:latin typeface="Arial"/>
                <a:ea typeface="Arial"/>
              </a:rPr>
              <a:t>(* Suivant la pratique LC qui consiste à ne pas enregistrer le titre privilégié d’une œuvre dans la zone 130 ou 240 s’il est identique au titre propre de la manif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Rev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45720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revue intitulée « Progrès en médecin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revue intitulée « Progrès en médecine » qui a commencé de paraître en 2009 et qui est publiée à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7640" y="1844640"/>
            <a:ext cx="54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Progrès en méde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5480" y="4035600"/>
            <a:ext cx="80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Paris, France)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br>
              <a:rPr sz="3200"/>
            </a:b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Liv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de Marcel Brouillard intitulé « Espagne et Portuga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97280" y="3219480"/>
            <a:ext cx="659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Brouillard, Marcel, $d 1930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471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</a:rPr>
              <a:t>Livres (suit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57200" y="1341360"/>
            <a:ext cx="822960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sans auteurs connus intitulé « Espagne et Portugal » et publié en 2008 par les Éditions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24200" y="2886120"/>
            <a:ext cx="52509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414600"/>
            <a:ext cx="83725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4520" indent="-614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Calibri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livre sans auteurs connus intitulé « Espagne et Portugal » et publié en 2011 par les Éditions 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497052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Éditions DEF)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2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es œuvres d’Anne Hébert intitulée « Œuvres complète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1960" y="2932200"/>
            <a:ext cx="662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Hébert, Anne, $d 1916-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0 10 $a Œ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Œuvres complè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 (sui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contenu 2"/>
          <p:cNvSpPr/>
          <p:nvPr/>
        </p:nvSpPr>
        <p:spPr>
          <a:xfrm>
            <a:off x="457200" y="152388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’œuvres par différents auteurs intitulée « Anthologie de la poésie québécoise » publiée à Montréal e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7360" y="3043080"/>
            <a:ext cx="68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245 00 $a Anthologie de la poésie québéc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7840" y="3429000"/>
            <a:ext cx="83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mpilation d’œuvres par différents auteurs intitulée « Anthologie de la poésie québécoise » publiée à Québec e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92240" y="5300640"/>
            <a:ext cx="805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Québec, Québec) </a:t>
            </a: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21:00:41Z</dcterms:modified>
  <cp:revision>136</cp:revision>
  <dc:subject/>
  <dc:title>Quiz Module 8: les relations RDA</dc:title>
</cp:coreProperties>
</file>