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DFE-EBBA-4A96-8292-59225905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574-55E9-4210-81F8-C6C7AAE0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574-4C87-4266-9964-17BDC202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EB9-AC4C-4C0C-80C4-53F4C724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BE4-A05A-4ED5-9B74-A6021A50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B01-63D1-48A5-A4A3-DE1B3A2E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E64-F52C-42F6-A70D-45204BED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C3E-BDAA-4E9E-AD26-06F00BF1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C8E-0C24-4AA3-9768-686725FD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E12-CB02-4EB9-9476-6CA4573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CFB-26A0-4BCB-AA2E-98967FD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6B0-0848-4FA7-BA95-40FFD1F2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5EA59-DAB1-4AA3-BABC-6BCEA6184109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dentification des cré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00 1_ $a Dessaint, Marie-P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100 (aucun, les éditeurs intellectuels ne sont pas des créate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04Z</dcterms:modified>
  <cp:revision>2</cp:revision>
  <dc:subject/>
  <dc:title>Diapositive 1</dc:title>
</cp:coreProperties>
</file>