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743-9ADF-44E5-A0F1-156B0CDD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A1F-7849-4756-85A6-A29DDB88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5EE1-D37C-4F34-924E-F33F5862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A10-9135-4711-B051-B2227ABD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D05-F5D7-47A0-AD6A-DCAB4A2C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426-B447-4A08-ABCA-3E48B8A3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C06-BCB7-4B3E-8396-FA6C8EC7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FED-2473-4011-A8E6-F9E25D82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C88-8038-41E2-A004-962B2ABE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56F-2105-4C68-938A-12AD5594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F0C-A544-4213-BB95-AB8CC0F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4D6-A822-4D55-8A60-E20D675E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535F7-0867-4257-B151-BC36F9D64ED6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dentification des cré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100 1_ $a Dessaint, Marie-P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100 (aucun, les éditeurs intellectuels ne sont pas des créate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dcterms:modified xsi:type="dcterms:W3CDTF">2013-04-12T20:58:04Z</dcterms:modified>
  <cp:revision>2</cp:revision>
  <dc:subject/>
  <dc:title>Diapositive 1</dc:title>
</cp:coreProperties>
</file>