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E35-7206-48DF-BEDB-970EB961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49E-2332-4193-8F8D-4FD5B601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4B4-893F-47BB-AB3A-62ADC6D4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46B-E425-47BA-91B2-FA9F4E63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094-94ED-4D32-B59F-6E2A105F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C59-203A-4B4D-8F24-B375C303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04F-9BCB-4EE7-9870-89D24EF8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98E-8442-41F8-8B61-2603F8A5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B90-85B2-45DD-B52B-5F7C0368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D8A-5B50-4457-9CEC-62A5C82E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9BA-391A-46B7-B9A3-BC22FD3E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93B-B044-4DD2-98F7-B5F2CC82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1FB3B-DC52-45F0-9E90-7A5F5ED6D5CE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dentification des cré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100 1_ $a Dessaint, Marie-P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100 (aucun, les éditeurs intellectuels ne sont pas des créate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dcterms:modified xsi:type="dcterms:W3CDTF">2013-04-12T20:58:04Z</dcterms:modified>
  <cp:revision>2</cp:revision>
  <dc:subject/>
  <dc:title>Diapositive 1</dc:title>
</cp:coreProperties>
</file>