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24C-8515-40A1-BB50-8EFE3FDF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A50-9792-49E4-8151-2093BE14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261-AA8E-4AEF-B34D-628768DA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CA4-1D64-4606-AF3D-6A37862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643-6F0E-43B2-994D-A2E3DE4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9FA-F2F0-4A51-AFB1-35C9DDC2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043-025A-4C9C-A722-440DCCA9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628-5BDB-4E34-B3B4-749E495E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23A-AA9C-4FCA-BDFC-A963BFD4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7CA-38F4-428C-9D22-7E57EC1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DE5-9342-4322-91CC-5940B3F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095-332C-4F16-A6C6-EC349B2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5BE9B-1EF7-435F-BE52-6398764DD50B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dentification des cré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1_ $a Dessaint, Marie-P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(aucun, les éditeurs intellectuels ne sont pas des créate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04Z</dcterms:modified>
  <cp:revision>2</cp:revision>
  <dc:subject/>
  <dc:title>Diapositive 1</dc:title>
</cp:coreProperties>
</file>