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19FB58-AE1C-4215-87A9-757A0110EE91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E11CD1-3E2E-4FC4-B588-BF14B703D035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C88C943-B904-492D-854D-FAF821232477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71823F-A5B9-441E-A01B-959DE9FE62FA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9A2A217-A254-4E91-B7ED-49DD49E1E90F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16D9EB-2AE0-4A70-802F-9E3D177C9C1F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DE4A-11DC-4794-B81B-4EDBED07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995C-48D8-4763-8B6A-27D3F3E6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713-53D8-4843-99A2-6F435B75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8B03-799E-4B29-89DE-9B161052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258E-AA77-48EA-8DEF-7596C760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FCC5-9A86-4ADE-8643-31F932CB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D99C-FEE3-46AB-A3D6-73C751EA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007D-634E-448C-B47E-1B65E7FE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59F0-614E-4047-BBA6-1EAE3D74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2907-4714-45BF-9F09-7D5DF9D2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938-A0A9-4D3C-B5C3-3680E0BF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95B0-9B69-4351-9876-7A1D965E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535D-2AA8-4209-BD68-91694734DEA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99128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333399"/>
                </a:solidFill>
                <a:latin typeface="Arial"/>
                <a:ea typeface="Arial"/>
              </a:rPr>
              <a:t>Exercices sur les œuvres</a:t>
            </a:r>
            <a:br>
              <a:rPr sz="4000"/>
            </a:br>
            <a:br>
              <a:rPr sz="1400"/>
            </a:br>
            <a:r>
              <a:rPr b="0" lang="fr-CA" sz="3200" spc="-1" strike="noStrike">
                <a:solidFill>
                  <a:srgbClr val="333399"/>
                </a:solidFill>
                <a:latin typeface="Arial"/>
                <a:ea typeface="Arial"/>
              </a:rPr>
              <a:t>Donner le point d’accès autorisé pour chacune des œuvres suivantes en utilisant le codage approprié dans une notice bibliographique </a:t>
            </a:r>
            <a:br>
              <a:rPr sz="3200"/>
            </a:br>
            <a:r>
              <a:rPr b="0" lang="fr-CA" sz="3200" spc="-1" strike="noStrike">
                <a:solidFill>
                  <a:srgbClr val="333399"/>
                </a:solidFill>
                <a:latin typeface="Arial"/>
                <a:ea typeface="Arial"/>
              </a:rPr>
              <a:t>(1XX + 240, 1XX + 245, 130 ou 245)</a:t>
            </a:r>
            <a:br>
              <a:rPr sz="3200"/>
            </a:br>
            <a:br>
              <a:rPr sz="1400"/>
            </a:br>
            <a:r>
              <a:rPr b="0" lang="fr-CA" sz="2800" spc="-1" strike="noStrike">
                <a:solidFill>
                  <a:srgbClr val="333399"/>
                </a:solidFill>
                <a:latin typeface="Arial"/>
                <a:ea typeface="Arial"/>
              </a:rPr>
              <a:t>(* Suivant la pratique LC qui consiste à ne pas enregistrer le titre privilégié d’une œuvre dans la zone 130 ou 240 s’il est identique au titre propre de la manifes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Revu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Espace réservé du contenu 2"/>
          <p:cNvSpPr/>
          <p:nvPr/>
        </p:nvSpPr>
        <p:spPr>
          <a:xfrm>
            <a:off x="457200" y="119700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revue intitulée « Progrès en médecin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</a:t>
            </a:r>
            <a:r>
              <a:rPr b="0" i="1" lang="fr-CA" sz="3200" spc="-1" strike="noStrike">
                <a:solidFill>
                  <a:srgbClr val="000000"/>
                </a:solidFill>
                <a:latin typeface="Calibri"/>
              </a:rPr>
              <a:t>autre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revue intitulée « Progrès en médecine » qui a commencé de paraître en 2009 et qui est publiée à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97640" y="1844640"/>
            <a:ext cx="543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5 00 $a Progrès en méde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95480" y="4035600"/>
            <a:ext cx="80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30 00 $a Progrès en médecine (Paris, France)                  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CA" sz="3200" spc="-1" strike="noStrike">
                <a:solidFill>
                  <a:srgbClr val="000000"/>
                </a:solidFill>
                <a:latin typeface="Calibri"/>
              </a:rPr>
              <a:t>ou</a:t>
            </a:r>
            <a:br>
              <a:rPr sz="3200"/>
            </a:b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30 00 $a Progrès en médecine (20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Liv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space réservé du contenu 2"/>
          <p:cNvSpPr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 livre de Marcel Brouillard intitulé « Espagne et Portugal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97280" y="3219480"/>
            <a:ext cx="659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00 1# $a Brouillard, Marcel, $d 1930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5 10 $a Espagne et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14716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Calibri"/>
              </a:rPr>
              <a:t>Livres (suite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2"/>
          <p:cNvSpPr/>
          <p:nvPr/>
        </p:nvSpPr>
        <p:spPr>
          <a:xfrm>
            <a:off x="457200" y="1341360"/>
            <a:ext cx="822960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 livre sans auteurs connus intitulé « Espagne et Portugal » et publié en 2008 par les Éditions 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24200" y="2886120"/>
            <a:ext cx="52509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5 00 $a Espagne et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3414600"/>
            <a:ext cx="837252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4520" indent="-614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Calibri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0" i="1" lang="fr-CA" sz="3200" spc="-1" strike="noStrike">
                <a:solidFill>
                  <a:srgbClr val="000000"/>
                </a:solidFill>
                <a:latin typeface="Calibri"/>
              </a:rPr>
              <a:t>autre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livre sans auteurs connus intitulé « Espagne et Portugal » et publié en 2011 par les Éditions 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4970520"/>
            <a:ext cx="826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30 00 $a Espagne et Portugal (Éditions DEF)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CA" sz="3200" spc="-1" strike="noStrike">
                <a:solidFill>
                  <a:srgbClr val="000000"/>
                </a:solidFill>
                <a:latin typeface="Calibri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30 00 $a Espagne et Portugal (20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ompil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Espace réservé du contenu 2"/>
          <p:cNvSpPr/>
          <p:nvPr/>
        </p:nvSpPr>
        <p:spPr>
          <a:xfrm>
            <a:off x="457200" y="1773360"/>
            <a:ext cx="82296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compilation des œuvres d’Anne Hébert intitulée « Œuvres complètes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1960" y="2932200"/>
            <a:ext cx="662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100 1# $a Hébert, Anne, $d 1916-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0 10 $a Œ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245 10 $a Œuvres complè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ompilations (suit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contenu 2"/>
          <p:cNvSpPr/>
          <p:nvPr/>
        </p:nvSpPr>
        <p:spPr>
          <a:xfrm>
            <a:off x="457200" y="152388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compilation d’œuvres par différents auteurs intitulée « Anthologie de la poésie québécoise » publiée à Montréal en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7360" y="3043080"/>
            <a:ext cx="68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245 00 $a Anthologie de la poésie québéc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7840" y="3429000"/>
            <a:ext cx="830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buClr>
                <a:srgbClr val="000000"/>
              </a:buClr>
              <a:buFont typeface="Calibri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</a:t>
            </a:r>
            <a:r>
              <a:rPr b="0" i="1" lang="fr-CA" sz="3200" spc="-1" strike="noStrike">
                <a:solidFill>
                  <a:srgbClr val="000000"/>
                </a:solidFill>
                <a:latin typeface="Calibri"/>
              </a:rPr>
              <a:t>autre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compilation d’œuvres par différents auteurs intitulée « Anthologie de la poésie québécoise » publiée à Québec en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92240" y="5300640"/>
            <a:ext cx="8051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130 00 $a Anthologie de la poésie québécoise (Québec, Québec) </a:t>
            </a: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CA" sz="2800" spc="-1" strike="noStrike">
                <a:solidFill>
                  <a:srgbClr val="000000"/>
                </a:solidFill>
                <a:latin typeface="Calibri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130 00 $a Anthologie de la poésie québécoise (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21:00:41Z</dcterms:modified>
  <cp:revision>136</cp:revision>
  <dc:subject/>
  <dc:title>Quiz Module 8: les relations RDA</dc:title>
</cp:coreProperties>
</file>