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F164E6E-A62B-4CEF-ACA7-001D7CE3A816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11236F4-EF0B-4602-A9B8-D3D4C463196D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075AFEF-BBF2-4D48-8385-5FD1C44C77D6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DB26F8-BDFF-41D2-9336-4ED9E07D748B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788D7BA-7F5A-4AC2-9BD1-4ADB5095E18B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8002039-5E0D-4F99-B565-9E191E0184FF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AB70-3B4C-42A9-A562-D5074784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03A9-5FF7-4F7F-8FE7-8A74CA3C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97E5-8974-4FBD-B337-2605B91A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7C9C-D723-4DC2-A06E-CE38BFA0F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B913-295A-4862-9D39-1A42BA1B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6637-4384-42DA-B5C9-00E8B337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E8E9-BA08-4646-83C2-B6E15677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6B82-778E-4CB8-9976-A4ECD08B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EE18-36D6-4145-AE1B-61BBF09A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7872-636E-41EE-883D-9FF612F5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0184-0D13-4225-BCDC-4C453695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60C0-DBA0-4772-82B0-FCFA81EF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EC95-A041-4A65-B5D4-23A95BE7BD20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99128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333399"/>
                </a:solidFill>
                <a:latin typeface="Arial"/>
                <a:ea typeface="Arial"/>
              </a:rPr>
              <a:t>Exercices sur les œuvres</a:t>
            </a:r>
            <a:br>
              <a:rPr sz="4000"/>
            </a:br>
            <a:br>
              <a:rPr sz="1400"/>
            </a:br>
            <a:r>
              <a:rPr b="0" lang="fr-CA" sz="3200" spc="-1" strike="noStrike">
                <a:solidFill>
                  <a:srgbClr val="333399"/>
                </a:solidFill>
                <a:latin typeface="Arial"/>
                <a:ea typeface="Arial"/>
              </a:rPr>
              <a:t>Donner le point d’accès autorisé pour chacune des œuvres suivantes en utilisant le codage approprié dans une notice bibliographique </a:t>
            </a:r>
            <a:br>
              <a:rPr sz="3200"/>
            </a:br>
            <a:r>
              <a:rPr b="0" lang="fr-CA" sz="3200" spc="-1" strike="noStrike">
                <a:solidFill>
                  <a:srgbClr val="333399"/>
                </a:solidFill>
                <a:latin typeface="Arial"/>
                <a:ea typeface="Arial"/>
              </a:rPr>
              <a:t>(1XX + 240, 1XX + 245, 130 ou 245)</a:t>
            </a:r>
            <a:br>
              <a:rPr sz="3200"/>
            </a:br>
            <a:br>
              <a:rPr sz="1400"/>
            </a:br>
            <a:r>
              <a:rPr b="0" lang="fr-CA" sz="2800" spc="-1" strike="noStrike">
                <a:solidFill>
                  <a:srgbClr val="333399"/>
                </a:solidFill>
                <a:latin typeface="Arial"/>
                <a:ea typeface="Arial"/>
              </a:rPr>
              <a:t>(* Suivant la pratique LC qui consiste à ne pas enregistrer le titre privilégié d’une œuvre dans la zone 130 ou 240 s’il est identique au titre propre de la manifes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Revu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Espace réservé du contenu 2"/>
          <p:cNvSpPr/>
          <p:nvPr/>
        </p:nvSpPr>
        <p:spPr>
          <a:xfrm>
            <a:off x="457200" y="1197000"/>
            <a:ext cx="822960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e revue intitulée « Progrès en médecine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e </a:t>
            </a:r>
            <a:r>
              <a:rPr b="0" i="1" lang="fr-CA" sz="3200" spc="-1" strike="noStrike">
                <a:solidFill>
                  <a:srgbClr val="000000"/>
                </a:solidFill>
                <a:latin typeface="Calibri"/>
              </a:rPr>
              <a:t>autre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revue intitulée « Progrès en médecine » qui a commencé de paraître en 2009 et qui est publiée à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97640" y="1844640"/>
            <a:ext cx="543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245 00 $a Progrès en méde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95480" y="4035600"/>
            <a:ext cx="80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30 00 $a Progrès en médecine (Paris, France)                  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fr-CA" sz="3200" spc="-1" strike="noStrike">
                <a:solidFill>
                  <a:srgbClr val="000000"/>
                </a:solidFill>
                <a:latin typeface="Calibri"/>
              </a:rPr>
              <a:t>ou</a:t>
            </a:r>
            <a:br>
              <a:rPr sz="3200"/>
            </a:b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30 00 $a Progrès en médecine (20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Liv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Espace réservé du contenu 2"/>
          <p:cNvSpPr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 livre de Marcel Brouillard intitulé « Espagne et Portugal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97280" y="3219480"/>
            <a:ext cx="659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00 1# $a Brouillard, Marcel, $d 1930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245 10 $a Espagne et Portu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14716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Calibri"/>
              </a:rPr>
              <a:t>Livres (suite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contenu 2"/>
          <p:cNvSpPr/>
          <p:nvPr/>
        </p:nvSpPr>
        <p:spPr>
          <a:xfrm>
            <a:off x="457200" y="1341360"/>
            <a:ext cx="8229600" cy="19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 livre sans auteurs connus intitulé « Espagne et Portugal » et publié en 2008 par les Éditions A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24200" y="2886120"/>
            <a:ext cx="52509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245 00 $a Espagne et Portu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3414600"/>
            <a:ext cx="837252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4520" indent="-614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Calibri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0" i="1" lang="fr-CA" sz="3200" spc="-1" strike="noStrike">
                <a:solidFill>
                  <a:srgbClr val="000000"/>
                </a:solidFill>
                <a:latin typeface="Calibri"/>
              </a:rPr>
              <a:t>autre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livre sans auteurs connus intitulé « Espagne et Portugal » et publié en 2011 par les Éditions 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4970520"/>
            <a:ext cx="826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30 00 $a Espagne et Portugal (Éditions DEF)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fr-CA" sz="3200" spc="-1" strike="noStrike">
                <a:solidFill>
                  <a:srgbClr val="000000"/>
                </a:solidFill>
                <a:latin typeface="Calibri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30 00 $a Espagne et Portugal (20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Compil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Espace réservé du contenu 2"/>
          <p:cNvSpPr/>
          <p:nvPr/>
        </p:nvSpPr>
        <p:spPr>
          <a:xfrm>
            <a:off x="457200" y="1773360"/>
            <a:ext cx="822960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e compilation des œuvres d’Anne Hébert intitulée « Œuvres complètes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1960" y="2932200"/>
            <a:ext cx="662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00 1# $a Hébert, Anne, $d 1916-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240 10 $a Œ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245 10 $a Œuvres complè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Compilations (suit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contenu 2"/>
          <p:cNvSpPr/>
          <p:nvPr/>
        </p:nvSpPr>
        <p:spPr>
          <a:xfrm>
            <a:off x="457200" y="1523880"/>
            <a:ext cx="8229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e compilation d’œuvres par différents auteurs intitulée « Anthologie de la poésie québécoise » publiée à Montréal en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7360" y="3043080"/>
            <a:ext cx="68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245 00 $a Anthologie de la poésie québéc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7840" y="3429000"/>
            <a:ext cx="8300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00000"/>
              </a:lnSpc>
              <a:buClr>
                <a:srgbClr val="000000"/>
              </a:buClr>
              <a:buFont typeface="Calibri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e </a:t>
            </a:r>
            <a:r>
              <a:rPr b="0" i="1" lang="fr-CA" sz="3200" spc="-1" strike="noStrike">
                <a:solidFill>
                  <a:srgbClr val="000000"/>
                </a:solidFill>
                <a:latin typeface="Calibri"/>
              </a:rPr>
              <a:t>autre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compilation d’œuvres par différents auteurs intitulée « Anthologie de la poésie québécoise » publiée à Québec en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92240" y="5300640"/>
            <a:ext cx="8051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130 00 $a Anthologie de la poésie québécoise (Québec, Québec) </a:t>
            </a: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fr-CA" sz="2800" spc="-1" strike="noStrike">
                <a:solidFill>
                  <a:srgbClr val="000000"/>
                </a:solidFill>
                <a:latin typeface="Calibri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130 00 $a Anthologie de la poésie québécoise (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Pat Riva</cp:lastModifiedBy>
  <dcterms:modified xsi:type="dcterms:W3CDTF">2013-04-15T21:00:41Z</dcterms:modified>
  <cp:revision>136</cp:revision>
  <dc:subject/>
  <dc:title>Quiz Module 8: les relations RDA</dc:title>
</cp:coreProperties>
</file>