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44A-57BC-45D2-935B-0B17B9A4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B94-F98A-48BF-A872-298EDC0D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C1D-EB9C-4088-B8DE-78952133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AA1-6D81-4C4A-B8FF-BC3E6F95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FAE-CEA6-42BB-BB4A-FC8B1C9F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E53-FBC6-40AC-AF56-C011F9A5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870-30FB-4DDA-8B72-81F2DD9B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22B-E447-45F7-8579-FEDA1FB3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495-2C03-44AF-AC99-37998D07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D35-7E16-4A3F-B865-5C73852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4BB-362E-4013-B6F6-A0601E4C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3BD-93C3-4FF7-9981-8179520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BCA86-5C2A-458A-85B0-B2B854EE4E40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sur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ints d'accès auto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 les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1 :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80" y="1768320"/>
          <a:ext cx="9070920" cy="49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60360" y="1619280"/>
          <a:ext cx="9340920" cy="5421240"/>
        </p:xfrm>
        <a:graphic>
          <a:graphicData uri="http://schemas.openxmlformats.org/drawingml/2006/table">
            <a:tbl>
              <a:tblPr/>
              <a:tblGrid>
                <a:gridCol w="3692520"/>
                <a:gridCol w="3435480"/>
                <a:gridCol w="2212920"/>
              </a:tblGrid>
              <a:tr h="5554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A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 sept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septembre 8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1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70-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40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viron 1170-environ 1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ograp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rtogra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6, 9.19.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.2.18, 9.19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619280"/>
          <a:ext cx="9353520" cy="5249880"/>
        </p:xfrm>
        <a:graphic>
          <a:graphicData uri="http://schemas.openxmlformats.org/drawingml/2006/table">
            <a:tbl>
              <a:tblPr/>
              <a:tblGrid>
                <a:gridCol w="9353520"/>
              </a:tblGrid>
              <a:tr h="6048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 décembre 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-19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23-19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7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q (Charles-Eugèn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Dent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800360"/>
          <a:ext cx="8999640" cy="5219280"/>
        </p:xfrm>
        <a:graphic>
          <a:graphicData uri="http://schemas.openxmlformats.org/drawingml/2006/table">
            <a:tbl>
              <a:tblPr/>
              <a:tblGrid>
                <a:gridCol w="8999640"/>
              </a:tblGrid>
              <a:tr h="1751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16-1968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$q (Charles-Emmanue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66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Économ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12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, $c Ph. 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5:11Z</dcterms:created>
  <dc:creator>Pat Riva</dc:creator>
  <dc:description/>
  <dc:language>en-US</dc:language>
  <cp:lastModifiedBy/>
  <cp:revision>1</cp:revision>
  <dc:subject/>
  <dc:title/>
</cp:coreProperties>
</file>