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41D3-8CA2-4C0C-925A-DF66C87D6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D2BF-3A4F-46AB-A35A-E6B7793F7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7852-6889-4C4F-A614-79ABB0FE3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E6EB-6349-484A-9C07-68243AD46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E991-6989-46E8-960C-C17C75A14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4B9D-3136-45A4-B679-681473692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5CF6-E792-4E72-8BC0-31BF1148C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32F0-684F-46F0-8228-D565014F3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2F0D-0507-4BC7-AF68-78C2EF4F9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D820-FDE1-4162-943F-5B0AD6409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BD22-FE8B-424E-88E6-491A147F9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F829-1B4E-4852-B7EC-460ADD474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431BA6-E3A5-46A5-BB88-CB2FE95AD187}" type="slidenum">
              <a:rPr b="0" lang="fr-CA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3280" y="345960"/>
            <a:ext cx="9070920" cy="63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Exercices sur 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points d'accès autoris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pour les person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Question 1 : Transform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503280" y="1768320"/>
          <a:ext cx="9070920" cy="498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3280" y="1768320"/>
                    <a:ext cx="9070920" cy="49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60360" y="1619280"/>
          <a:ext cx="9340920" cy="5421240"/>
        </p:xfrm>
        <a:graphic>
          <a:graphicData uri="http://schemas.openxmlformats.org/drawingml/2006/table">
            <a:tbl>
              <a:tblPr/>
              <a:tblGrid>
                <a:gridCol w="3692520"/>
                <a:gridCol w="3435480"/>
                <a:gridCol w="2212920"/>
              </a:tblGrid>
              <a:tr h="555480">
                <a:tc>
                  <a:txBody>
                    <a:bodyPr lIns="90000" rIns="90000" tIns="71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CAA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D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ru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38240"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ôté, Gilles, </a:t>
                      </a:r>
                      <a:r>
                        <a:rPr b="1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d</a:t>
                      </a: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1951 </a:t>
                      </a:r>
                      <a:r>
                        <a:rPr b="0" lang="fr-CA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8 sept.</a:t>
                      </a: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ôté, Gilles, </a:t>
                      </a:r>
                      <a:r>
                        <a:rPr b="1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d</a:t>
                      </a: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1951 septembre 8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3.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41680"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bonacci, Leonardo, </a:t>
                      </a:r>
                      <a:r>
                        <a:rPr b="1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d</a:t>
                      </a: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fr-CA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ca</a:t>
                      </a: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1170-</a:t>
                      </a:r>
                      <a:r>
                        <a:rPr b="0" lang="fr-CA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ca</a:t>
                      </a: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1240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bonacci, Leonardo, </a:t>
                      </a:r>
                      <a:r>
                        <a:rPr b="1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d</a:t>
                      </a: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environ 1170-environ 12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3.1.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38240"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tin, Denis</a:t>
                      </a:r>
                      <a:r>
                        <a:rPr b="0" lang="fr-CA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,</a:t>
                      </a: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c</a:t>
                      </a: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fr-CA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c</a:t>
                      </a: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tograph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tin, Denis </a:t>
                      </a:r>
                      <a:r>
                        <a:rPr b="1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c</a:t>
                      </a: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Cartographe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16, 9.19.1.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47600"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an François, </a:t>
                      </a:r>
                      <a:r>
                        <a:rPr b="1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c</a:t>
                      </a: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de Reims, </a:t>
                      </a:r>
                      <a:r>
                        <a:rPr b="1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d</a:t>
                      </a: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fr-CA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m.</a:t>
                      </a: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1660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an François, </a:t>
                      </a:r>
                      <a:r>
                        <a:rPr b="1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c</a:t>
                      </a: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de Reims, </a:t>
                      </a:r>
                      <a:r>
                        <a:rPr b="1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d</a:t>
                      </a: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1660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2.2.18, 9.19.1.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Question 2 : Homony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60360" y="1619280"/>
          <a:ext cx="9353520" cy="5249880"/>
        </p:xfrm>
        <a:graphic>
          <a:graphicData uri="http://schemas.openxmlformats.org/drawingml/2006/table">
            <a:tbl>
              <a:tblPr/>
              <a:tblGrid>
                <a:gridCol w="9353520"/>
              </a:tblGrid>
              <a:tr h="604800">
                <a:tc>
                  <a:txBody>
                    <a:bodyPr lIns="90000" rIns="90000" tIns="7488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CA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ôté, Charl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8640">
                      <a:solidFill>
                        <a:srgbClr val="000000"/>
                      </a:solidFill>
                    </a:lnL>
                    <a:lnR w="8640">
                      <a:solidFill>
                        <a:srgbClr val="000000"/>
                      </a:solidFill>
                    </a:lnR>
                    <a:lnT w="86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98400">
                <a:tc>
                  <a:txBody>
                    <a:bodyPr lIns="90000" rIns="90000" tIns="7488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CA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ôté, Charles</a:t>
                      </a:r>
                      <a:r>
                        <a:rPr b="1" lang="fr-CA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$d 1945-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8640">
                      <a:solidFill>
                        <a:srgbClr val="000000"/>
                      </a:solidFill>
                    </a:lnL>
                    <a:lnR w="8640">
                      <a:solidFill>
                        <a:srgbClr val="000000"/>
                      </a:solidFill>
                    </a:lnR>
                    <a:lnT w="86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52760">
                <a:tc>
                  <a:txBody>
                    <a:bodyPr lIns="90000" rIns="90000" tIns="7488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CA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ôté, Charles</a:t>
                      </a:r>
                      <a:r>
                        <a:rPr b="1" lang="fr-CA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$d 1945 décembre 5-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8640">
                      <a:solidFill>
                        <a:srgbClr val="000000"/>
                      </a:solidFill>
                    </a:lnL>
                    <a:lnR w="8640">
                      <a:solidFill>
                        <a:srgbClr val="000000"/>
                      </a:solidFill>
                    </a:lnR>
                    <a:lnT w="86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19000">
                <a:tc>
                  <a:txBody>
                    <a:bodyPr lIns="90000" rIns="90000" tIns="7488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CA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ôté, Charles</a:t>
                      </a:r>
                      <a:r>
                        <a:rPr b="1" lang="fr-CA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$d -194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8640">
                      <a:solidFill>
                        <a:srgbClr val="000000"/>
                      </a:solidFill>
                    </a:lnL>
                    <a:lnR w="8640">
                      <a:solidFill>
                        <a:srgbClr val="000000"/>
                      </a:solidFill>
                    </a:lnR>
                    <a:lnT w="86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54200">
                <a:tc>
                  <a:txBody>
                    <a:bodyPr lIns="90000" rIns="90000" tIns="7488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CA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ôté, Charles</a:t>
                      </a:r>
                      <a:r>
                        <a:rPr b="1" lang="fr-CA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$d activité 1923-193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8640">
                      <a:solidFill>
                        <a:srgbClr val="000000"/>
                      </a:solidFill>
                    </a:lnL>
                    <a:lnR w="8640">
                      <a:solidFill>
                        <a:srgbClr val="000000"/>
                      </a:solidFill>
                    </a:lnR>
                    <a:lnT w="86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20720">
                <a:tc>
                  <a:txBody>
                    <a:bodyPr lIns="90000" rIns="90000" tIns="7488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CA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ôté, Charles </a:t>
                      </a:r>
                      <a:r>
                        <a:rPr b="1" lang="fr-CA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q (Charles-Eugène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fr-CA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</a:t>
                      </a:r>
                      <a:r>
                        <a:rPr b="0" lang="fr-CA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CA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ôté, Charles </a:t>
                      </a:r>
                      <a:r>
                        <a:rPr b="1" lang="fr-CA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c (Dentiste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8640">
                      <a:solidFill>
                        <a:srgbClr val="000000"/>
                      </a:solidFill>
                    </a:lnL>
                    <a:lnR w="8640">
                      <a:solidFill>
                        <a:srgbClr val="000000"/>
                      </a:solidFill>
                    </a:lnR>
                    <a:lnT w="86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Question 2 : Homonymes (suit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539640" y="1800360"/>
          <a:ext cx="8999640" cy="5219280"/>
        </p:xfrm>
        <a:graphic>
          <a:graphicData uri="http://schemas.openxmlformats.org/drawingml/2006/table">
            <a:tbl>
              <a:tblPr/>
              <a:tblGrid>
                <a:gridCol w="8999640"/>
              </a:tblGrid>
              <a:tr h="1751400">
                <a:tc>
                  <a:txBody>
                    <a:bodyPr lIns="90000" rIns="90000" tIns="7488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CA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ôté, Charles</a:t>
                      </a:r>
                      <a:r>
                        <a:rPr b="1" lang="fr-CA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$d 1916-1968</a:t>
                      </a:r>
                      <a:r>
                        <a:rPr b="0" lang="fr-CA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fr-CA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 pa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fr-CA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ôté, Charles $q (Charles-Emmanuel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8640">
                      <a:solidFill>
                        <a:srgbClr val="000000"/>
                      </a:solidFill>
                    </a:lnL>
                    <a:lnR w="8640">
                      <a:solidFill>
                        <a:srgbClr val="000000"/>
                      </a:solidFill>
                    </a:lnR>
                    <a:lnT w="86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86600">
                <a:tc>
                  <a:txBody>
                    <a:bodyPr lIns="90000" rIns="90000" tIns="7488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CA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ôté, Charles </a:t>
                      </a:r>
                      <a:r>
                        <a:rPr b="1" lang="fr-CA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c (Économiste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fr-CA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CA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ôté, Charles</a:t>
                      </a:r>
                      <a:r>
                        <a:rPr b="1" lang="fr-CA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$d activité 199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8640">
                      <a:solidFill>
                        <a:srgbClr val="000000"/>
                      </a:solidFill>
                    </a:lnL>
                    <a:lnR w="8640">
                      <a:solidFill>
                        <a:srgbClr val="000000"/>
                      </a:solidFill>
                    </a:lnR>
                    <a:lnT w="86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81280">
                <a:tc>
                  <a:txBody>
                    <a:bodyPr lIns="90000" rIns="90000" tIns="7488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CA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ôté, Charles</a:t>
                      </a:r>
                      <a:r>
                        <a:rPr b="1" lang="fr-CA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$d activité 197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fr-CA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 pa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fr-CA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ôté, Charles, $c Ph. D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8640">
                      <a:solidFill>
                        <a:srgbClr val="000000"/>
                      </a:solidFill>
                    </a:lnL>
                    <a:lnR w="8640">
                      <a:solidFill>
                        <a:srgbClr val="000000"/>
                      </a:solidFill>
                    </a:lnR>
                    <a:lnT w="86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6T02:05:11Z</dcterms:created>
  <dc:creator>Pat Riva</dc:creator>
  <dc:description/>
  <dc:language>en-US</dc:language>
  <cp:lastModifiedBy/>
  <cp:revision>1</cp:revision>
  <dc:subject/>
  <dc:title/>
</cp:coreProperties>
</file>