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6769-95CA-46CC-ABE0-2559BF08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42B-BE5C-4B22-A5E8-94EA1541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6B2D-ECEB-49AD-9DB1-636EEB24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290-3489-4399-BD6A-F3DBAA32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FFB-6627-452E-AFC5-06109C1B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8C0-B815-4F5F-A666-D1B8A2AF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D3B-061F-4CF7-A304-4E12B9CE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8C7C-FD0A-4B41-93BB-BE42A8AC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2979-3998-4142-86DD-005FC3BF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64BE-8B8D-45FC-9F63-A39E0E86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8F6-BB27-428D-ACDC-D0DFB9CF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321-E29C-4061-B868-D0EB1515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59590-28BC-4A3A-A7DD-3B40CC3571C5}" type="slidenum">
              <a:rPr b="0" lang="fr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xercices sur 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oints d'accès autor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pour les person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Question 1 : Transfo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3280" y="1768320"/>
          <a:ext cx="9070920" cy="498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768320"/>
                    <a:ext cx="907092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60360" y="1619280"/>
          <a:ext cx="9340920" cy="5421240"/>
        </p:xfrm>
        <a:graphic>
          <a:graphicData uri="http://schemas.openxmlformats.org/drawingml/2006/table">
            <a:tbl>
              <a:tblPr/>
              <a:tblGrid>
                <a:gridCol w="3692520"/>
                <a:gridCol w="3435480"/>
                <a:gridCol w="2212920"/>
              </a:tblGrid>
              <a:tr h="55548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A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8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Gille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951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 sept.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Gille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951 septembre 8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16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onacci, Leonardo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a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170-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a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40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onacci, Leonardo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viron 1170-environ 1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8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in, Denis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,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ograp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in, Denis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Cartograph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6, 9.19.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76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 Françoi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Reim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C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.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66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 Françoi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Reims, </a:t>
                      </a: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d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166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.2.18, 9.19.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Question 2 : Homon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60360" y="1619280"/>
          <a:ext cx="9353520" cy="5249880"/>
        </p:xfrm>
        <a:graphic>
          <a:graphicData uri="http://schemas.openxmlformats.org/drawingml/2006/table">
            <a:tbl>
              <a:tblPr/>
              <a:tblGrid>
                <a:gridCol w="9353520"/>
              </a:tblGrid>
              <a:tr h="6048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4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1945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76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1945 décembre 5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90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-19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activité 1923-19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2072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q (Charles-Eugèn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 (Dentist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Question 2 : Homonymes (sui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800360"/>
          <a:ext cx="8999640" cy="5219280"/>
        </p:xfrm>
        <a:graphic>
          <a:graphicData uri="http://schemas.openxmlformats.org/drawingml/2006/table">
            <a:tbl>
              <a:tblPr/>
              <a:tblGrid>
                <a:gridCol w="8999640"/>
              </a:tblGrid>
              <a:tr h="17514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1916-1968</a:t>
                      </a: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p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$q (Charles-Emmanue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66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 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c (Économist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activité 199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12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</a:t>
                      </a: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$d activité 19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p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té, Charles, $c Ph. D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86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05:11Z</dcterms:created>
  <dc:creator>Pat Riva</dc:creator>
  <dc:description/>
  <dc:language>en-US</dc:language>
  <cp:lastModifiedBy/>
  <cp:revision>1</cp:revision>
  <dc:subject/>
  <dc:title/>
</cp:coreProperties>
</file>