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22F4D6-168D-404F-833D-E9285FA3283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4BDDE6-E20D-4FE6-8CB8-22B024D83B8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315-C543-49B2-8329-A7363F46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FFE-337F-4C17-A341-2F39D33B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B73-BF9E-4BE4-8C0A-B188415E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6EC-5798-40B9-ACD4-420EFABB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728-0F80-4698-AA3B-37E4CE30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E41-B41C-4308-9AA6-C40703ED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E9A-2705-4566-A71C-CAFE6E4C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C9F-0155-45E6-B721-EC67233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D2E-6BD2-45C2-A6F7-EEAB84C6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B7A-8241-41CD-B10F-41AB0748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613-B0A3-47F6-A9E4-E54AD32C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731-3718-492F-A0FD-D458B9B7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9F92-1977-4220-91FE-75B66BB96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3CD8-E12F-4010-A29F-AFD84B6AF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50920" y="2060640"/>
            <a:ext cx="8569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3600"/>
            </a:br>
            <a:r>
              <a:rPr b="1" i="1" lang="fr-FR" sz="3600" spc="-1" strike="noStrike">
                <a:solidFill>
                  <a:srgbClr val="333399"/>
                </a:solidFill>
                <a:latin typeface="Arial"/>
              </a:rPr>
              <a:t>Identification des personnes, des familles et des collectivi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8902-357E-4E25-B996-F7EEBA3F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9480" y="256536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Pourquoi ce point d’accès autorisé RDA n’inclut pas une sous-zone $q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(John Town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Williams, John, $d 193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John T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E1BC-AEA2-4653-A377-7C3B73892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3112920"/>
            <a:ext cx="7581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964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111 2# $a Annual Conference on Development and Change $n (1re : $d 2005 : $c N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ī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mr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  <a:ea typeface="Arial"/>
              </a:rPr>
              <a:t>ā</a:t>
            </a:r>
            <a:r>
              <a:rPr b="0" lang="fr-CA" sz="2600" spc="-1" strike="noStrike">
                <a:solidFill>
                  <a:srgbClr val="404040"/>
                </a:solidFill>
                <a:latin typeface="Arial"/>
              </a:rPr>
              <a:t>na, In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990-E5D0-43DE-BDD0-45DC22D25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hoisir le nom privilégié RDA pour le congrès ci-dess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7D9-FC63-4979-A10F-9E7D9354E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rai ou faux? Le nom privilégié pour une collectivité est un élément fondamental. Les variantes du nom pour une collectivité sont optionnel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682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quel des points d’accès autorisés suivants est correctement formaté selon RDA et MARC 21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Daniel Paradis</cp:lastModifiedBy>
  <dcterms:modified xsi:type="dcterms:W3CDTF">2013-05-13T20:47:22Z</dcterms:modified>
  <cp:revision>62</cp:revision>
  <dc:subject/>
  <dc:title>Autorités RDA</dc:title>
</cp:coreProperties>
</file>