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B87DE3C-FF91-42B2-B733-FC433BA26D16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EE0E2AC-174D-469F-A668-87043AD416B8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1546-34BE-45FE-84E7-504EC8F10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8351-3E8D-4523-87A8-5C886517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237B-4E2F-454C-81D1-26EA370B7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879D-0B69-447E-AA02-EC7A0A408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4971-5242-415B-978B-531143C2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E503-CAA3-4150-8EE1-3D73295F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834E-EE41-4EC8-944B-0D2FD5C5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C9EF-0BB6-4BC8-9F96-D2E2F99B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50EC-C90E-4651-98AF-0612CA98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E455-56D4-44DE-821E-258F9FC3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473A-944F-4993-A393-0DAC46E9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5796-86DE-4B19-A2DA-A1708130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83E6-490F-4344-9C34-7CA7A29D4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756D-1B6C-49BB-BCC8-CBEE8CD30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re 1"/>
          <p:cNvSpPr/>
          <p:nvPr/>
        </p:nvSpPr>
        <p:spPr>
          <a:xfrm>
            <a:off x="250920" y="2060640"/>
            <a:ext cx="85690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62080"/>
                <a:tab algn="l" pos="2511360"/>
                <a:tab algn="l" pos="4572000"/>
                <a:tab algn="l" pos="4935600"/>
                <a:tab algn="l" pos="770724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Arial"/>
              </a:rPr>
              <a:t>Quiz</a:t>
            </a:r>
            <a:br>
              <a:rPr sz="3600"/>
            </a:br>
            <a:r>
              <a:rPr b="1" i="1" lang="fr-FR" sz="3600" spc="-1" strike="noStrike">
                <a:solidFill>
                  <a:srgbClr val="333399"/>
                </a:solidFill>
                <a:latin typeface="Arial"/>
              </a:rPr>
              <a:t>Identification des personnes, des familles et des collectivit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19FC-9B98-4987-A6F2-2322A70D1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Est-ce possible d’avoir un point d’accès autorisé RDA pour un nom personnel indifférenci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79480" y="2565360"/>
            <a:ext cx="7724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8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u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99"/>
                </a:solidFill>
                <a:latin typeface="Arial"/>
              </a:rPr>
              <a:t>Pourquoi ce point d’accès autorisé RDA n’inclut pas une sous-zone $q </a:t>
            </a:r>
            <a:br>
              <a:rPr sz="3200"/>
            </a:br>
            <a:r>
              <a:rPr b="1" lang="fr-CA" sz="3200" spc="-1" strike="noStrike">
                <a:solidFill>
                  <a:srgbClr val="333399"/>
                </a:solidFill>
                <a:latin typeface="Arial"/>
              </a:rPr>
              <a:t>(John Towner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100 1# $a Williams, John, $d 193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78      $q John Tow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ne forme développée n’est jamais enregistrée dans la zone 1XX d’un point d’accès autorisé d’un nom de personne 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Il n’y avait pas de conflit, donc la forme développée n’a pas été ajoutée au point d’accès autorisé 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 catalogueur a utilisé son ju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" dur="indefinite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" dur="indefinite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6FE7-08AD-442E-BB49-225E2864D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Quelle norme de catalogage a été utilisée pour créer l’autorité 1XX ci-dess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280" y="3112920"/>
            <a:ext cx="75819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539640" y="155736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404040"/>
                </a:solidFill>
                <a:latin typeface="Arial"/>
              </a:rPr>
              <a:t>111 2# $a Annual Conference on Development and Change $n (1re : $d 2005 : $c N</a:t>
            </a:r>
            <a:r>
              <a:rPr b="0" lang="fr-CA" sz="2600" spc="-1" strike="noStrike">
                <a:solidFill>
                  <a:srgbClr val="404040"/>
                </a:solidFill>
                <a:latin typeface="Arial"/>
                <a:ea typeface="Arial"/>
              </a:rPr>
              <a:t>ī</a:t>
            </a:r>
            <a:r>
              <a:rPr b="0" lang="fr-CA" sz="2600" spc="-1" strike="noStrike">
                <a:solidFill>
                  <a:srgbClr val="404040"/>
                </a:solidFill>
                <a:latin typeface="Arial"/>
              </a:rPr>
              <a:t>mr</a:t>
            </a:r>
            <a:r>
              <a:rPr b="0" lang="fr-CA" sz="2600" spc="-1" strike="noStrike">
                <a:solidFill>
                  <a:srgbClr val="404040"/>
                </a:solidFill>
                <a:latin typeface="Arial"/>
                <a:ea typeface="Arial"/>
              </a:rPr>
              <a:t>ā</a:t>
            </a:r>
            <a:r>
              <a:rPr b="0" lang="fr-CA" sz="2600" spc="-1" strike="noStrike">
                <a:solidFill>
                  <a:srgbClr val="404040"/>
                </a:solidFill>
                <a:latin typeface="Arial"/>
              </a:rPr>
              <a:t>na, Ind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" dur="indefinite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" dur="indefinite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13DF-01E7-425C-ACFC-D4D153D4D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hoisir le nom privilégié RDA pour le congrès ci-dess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Arial"/>
              </a:rPr>
              <a:t>Fifth Annual SoFiE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111 2# $a Fifth Annual SoFiE Co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111 2# $a Annual SoFiE Co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111 2# $a SoFiE Co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" dur="indefinite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" dur="indefinite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D27F-82EE-44FF-94F7-A3BC19542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6160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Vrai ou faux? Le nom privilégié pour une collectivité est un élément fondamental. Les variantes du nom pour une collectivité sont optionnell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96820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" dur="indefinite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" dur="indefinite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equel des points d’accès autorisés suivants est correctement formaté selon RDA et MARC 21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79200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00 1# $a Carleton (Famil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50      $a Carleton, Fam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10 2# $a Carleton (Famille : $d 1757-1865 : $c Alexandria, Virg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00 3# $a Carleton (Famille : $g Carleton, James, 1757-182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" dur="indefinite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7T18:07:42Z</dcterms:created>
  <dc:creator>BANQ</dc:creator>
  <dc:description/>
  <dc:language>en-US</dc:language>
  <cp:lastModifiedBy>Daniel Paradis</cp:lastModifiedBy>
  <dcterms:modified xsi:type="dcterms:W3CDTF">2013-05-13T20:47:22Z</dcterms:modified>
  <cp:revision>62</cp:revision>
  <dc:subject/>
  <dc:title>Autorités RDA</dc:title>
</cp:coreProperties>
</file>