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7C8391C-B521-41DD-8C37-EEE6FA66A382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A3872A8-C09D-484D-AC81-E9129280C249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C3ED-7C0C-4561-A6E7-1A550EF9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033E-B3B0-406C-A599-3A391CAE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4C07-77BD-4757-8167-5D1E44EE7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D259-89E5-4A94-9861-4BE12C3CA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A8EF-666A-4211-81C0-9C663E71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8B1C-149F-44DC-84C4-05A1F4BE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38BE-7724-488A-8946-EC3B16DF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023F-F29A-4BF5-9D6B-091FA7E6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D32C-B562-471F-ACED-7AB83B0C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A1EA-E34F-431A-869A-C95CF3F3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6B1D-2F1E-478B-BB64-6DCE4F55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89FF-2CBE-46DC-AC23-FB880185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F8A8-6EDC-417D-AF15-235D67771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9EE3-5E00-49DE-ACD2-E0BAAEC6F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250920" y="2060640"/>
            <a:ext cx="8569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62080"/>
                <a:tab algn="l" pos="2511360"/>
                <a:tab algn="l" pos="4572000"/>
                <a:tab algn="l" pos="4935600"/>
                <a:tab algn="l" pos="770724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Quiz</a:t>
            </a:r>
            <a:br>
              <a:rPr sz="3600"/>
            </a:br>
            <a:r>
              <a:rPr b="1" i="1" lang="fr-FR" sz="3600" spc="-1" strike="noStrike">
                <a:solidFill>
                  <a:srgbClr val="333399"/>
                </a:solidFill>
                <a:latin typeface="Arial"/>
              </a:rPr>
              <a:t>Identification des personnes, des familles et des collectivit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57D8-C2D6-420D-8D31-9800170EA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Est-ce possible d’avoir un point d’accès autorisé RDA pour un nom personnel indifférenci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79480" y="2565360"/>
            <a:ext cx="7724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Arial"/>
              </a:rPr>
              <a:t>Pourquoi ce point d’accès autorisé RDA n’inclut pas une sous-zone $q </a:t>
            </a:r>
            <a:br>
              <a:rPr sz="3200"/>
            </a:br>
            <a:r>
              <a:rPr b="1" lang="fr-CA" sz="3200" spc="-1" strike="noStrike">
                <a:solidFill>
                  <a:srgbClr val="333399"/>
                </a:solidFill>
                <a:latin typeface="Arial"/>
              </a:rPr>
              <a:t>(John Towner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00 1# $a Williams, John, $d 193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78      $q John Tow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ne forme développée n’est jamais enregistrée dans la zone 1XX d’un point d’accès autorisé d’un nom de personne 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l n’y avait pas de conflit, donc la forme développée n’a pas été ajoutée au point d’accès autorisé 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catalogueur a utilisé son ju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" dur="indefinite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" dur="indefinite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4C13-24E6-44DC-BF59-A36B52C1E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280" y="3112920"/>
            <a:ext cx="75819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539640" y="1557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404040"/>
                </a:solidFill>
                <a:latin typeface="Arial"/>
              </a:rPr>
              <a:t>111 2# $a Annual Conference on Development and Change $n (1re : $d 2005 : $c N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  <a:ea typeface="Arial"/>
              </a:rPr>
              <a:t>ī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</a:rPr>
              <a:t>mr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  <a:ea typeface="Arial"/>
              </a:rPr>
              <a:t>ā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</a:rPr>
              <a:t>na, Ind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" dur="indefinite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" dur="indefinite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133F-4BE4-4066-9041-008107BF0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hoisir le nom privilégié RDA pour le congrès ci-dess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Arial"/>
              </a:rPr>
              <a:t>Fifth Annual SoFiE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111 2# $a Fifth Annual SoFiE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111 2# $a Annual SoFiE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111 2# $a SoFiE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D188-74C2-4DFB-B7B4-5B988A40E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rai ou faux? Le nom privilégié pour une collectivité est un élément fondamental. Les variantes du nom pour une collectivité sont optionnel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96820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equel des points d’accès autorisés suivants est correctement formaté selon RDA et MARC 21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00 1# $a Carleton (Famil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50      $a Carleton, Fam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10 2# $a Carleton (Famille : $d 1757-1865 : $c Alexandria, Virg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00 3# $a Carleton (Famille : $g Carleton, James, 1757-182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8:07:42Z</dcterms:created>
  <dc:creator>BANQ</dc:creator>
  <dc:description/>
  <dc:language>en-US</dc:language>
  <cp:lastModifiedBy>Daniel Paradis</cp:lastModifiedBy>
  <dcterms:modified xsi:type="dcterms:W3CDTF">2013-05-13T20:47:22Z</dcterms:modified>
  <cp:revision>62</cp:revision>
  <dc:subject/>
  <dc:title>Autorités RDA</dc:title>
</cp:coreProperties>
</file>