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6DA9D71-55EB-42D9-ACEB-F73B51B4AFB5}"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13F1AFB-A04C-4E4B-98D5-7A327E75FD8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DC73CE9-2FA5-4E08-A81B-9D8E2FA0B4F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19280"/>
            <a:ext cx="4800600" cy="3600360"/>
          </a:xfrm>
          <a:prstGeom prst="rect">
            <a:avLst/>
          </a:prstGeom>
          <a:ln w="0">
            <a:noFill/>
          </a:ln>
        </p:spPr>
      </p:sp>
      <p:sp>
        <p:nvSpPr>
          <p:cNvPr id="29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Dans le prochain module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1) Nous allons parler de l’identification des personnes, des familles et des collectivit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2) Nous allons voir comment enregistrer les éléments utilisés dans la construction des points d’accès autoris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3) Nous allons parler brièvement du chapitre 16 qui traite de l’identification des lieux</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4) Nous allons vous présenter les nouvelles zones MARC qui servent à enregistrer certains éléments de données dans les notices d’autorité</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Le module ne traite pas, en tant que tel, de la création des notices d’autorité, et nous ne verrons pas en détail comment coder les nouvelles zones MARC dans les notices d’autorité : pour aujourd’hui, nous allons surtout nous concentrer sur la création des points d’accès. </a:t>
            </a:r>
            <a:endParaRPr b="0" lang="en-US" sz="1200" spc="-1" strike="noStrike">
              <a:solidFill>
                <a:srgbClr val="000000"/>
              </a:solidFill>
              <a:latin typeface="Calibri"/>
            </a:endParaRPr>
          </a:p>
        </p:txBody>
      </p:sp>
      <p:sp>
        <p:nvSpPr>
          <p:cNvPr id="29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D76F7E8-7A0C-4FDC-9376-D4FE4C8346E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19280"/>
            <a:ext cx="4800600" cy="3600360"/>
          </a:xfrm>
          <a:prstGeom prst="rect">
            <a:avLst/>
          </a:prstGeom>
          <a:ln w="0">
            <a:noFill/>
          </a:ln>
        </p:spPr>
      </p:sp>
      <p:sp>
        <p:nvSpPr>
          <p:cNvPr id="29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chapitres importants pour l’identification des personnes-familles-collectivités comprennen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 8, qui vous donnent les instructions générales sur l’identification des personnes-familles et collectivités, y compris la création des points d’accès autorisés et des variantes de points d’accès. Ensuite le chapitre 9 traite de l’identification des personn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0 traite de l’identification des famill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1 traite de l’identification des collectivité</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le chapitre 16 traite de l’identification des lieux.</a:t>
            </a:r>
            <a:endParaRPr b="0" lang="en-US" sz="1200" spc="-1" strike="noStrike">
              <a:solidFill>
                <a:srgbClr val="000000"/>
              </a:solidFill>
              <a:latin typeface="Calibri"/>
            </a:endParaRPr>
          </a:p>
        </p:txBody>
      </p:sp>
      <p:sp>
        <p:nvSpPr>
          <p:cNvPr id="29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C8D4056-9817-40D1-90F2-6ACB7B0453F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B: Langue associée défini en MARC 21, ajouté RDA en anglais avec les modifs de avril 2014</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19280"/>
            <a:ext cx="4800600" cy="3600360"/>
          </a:xfrm>
          <a:prstGeom prst="rect">
            <a:avLst/>
          </a:prstGeom>
          <a:ln w="0">
            <a:noFill/>
          </a:ln>
        </p:spPr>
      </p:sp>
      <p:sp>
        <p:nvSpPr>
          <p:cNvPr id="3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mme nous venons de le mentionner, les chapitres 8-11 traitent de l’identification des entités du groupe 2, et c’est donc là que vous allez trouver les instructions sur la création des points d’accès  autorisé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hacun des chapitres, on débute par définir les différents attributs qui se rapportent à une personne, famille ou collectivité. Ensuite, à la fin du chapitre, vous allez trouver des instructions qui vont vous permettre de construire le point d’accès en tant que tel. Parmi les différents attributs présentés dans chacun des chapitres, seulement un nombre restreint d’entre eux peuvent être employés à l’intérieur du point d’accès; toutefois, comme on va le voir plus loin dans le module, les autres attributs peuvent être enregistrés ailleurs dans la notice d’autorité. </a:t>
            </a:r>
            <a:endParaRPr b="0" lang="en-US" sz="1200" spc="-1" strike="noStrike">
              <a:solidFill>
                <a:srgbClr val="000000"/>
              </a:solidFill>
              <a:latin typeface="Calibri"/>
            </a:endParaRPr>
          </a:p>
        </p:txBody>
      </p:sp>
      <p:sp>
        <p:nvSpPr>
          <p:cNvPr id="30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083EED3-D72C-41AE-A8D3-94E5822AD6F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3FE8A35-5E23-4B27-B779-B2BA673E16C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472F139-1F83-46DB-8442-13A54C30B5D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2" name="PlaceHolder 1"/>
          <p:cNvSpPr>
            <a:spLocks noGrp="1"/>
          </p:cNvSpPr>
          <p:nvPr>
            <p:ph type="sldImg"/>
          </p:nvPr>
        </p:nvSpPr>
        <p:spPr>
          <a:xfrm>
            <a:off x="1257480" y="719280"/>
            <a:ext cx="4800600" cy="3600360"/>
          </a:xfrm>
          <a:prstGeom prst="rect">
            <a:avLst/>
          </a:prstGeom>
          <a:ln w="0">
            <a:noFill/>
          </a:ln>
        </p:spPr>
      </p:sp>
      <p:sp>
        <p:nvSpPr>
          <p:cNvPr id="33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19280"/>
            <a:ext cx="4800600" cy="3600360"/>
          </a:xfrm>
          <a:prstGeom prst="rect">
            <a:avLst/>
          </a:prstGeom>
          <a:ln w="0">
            <a:noFill/>
          </a:ln>
        </p:spPr>
      </p:sp>
      <p:sp>
        <p:nvSpPr>
          <p:cNvPr id="30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es variantes de point d’accès (ce que l’on appelait les renvois « voir » dans les RCAA2):</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cune variante de point d’accès n’est obligatoire du point de vue de RDA (puisqu’en fait, RDA a été conçu pour pouvoir être utilisé avec un système, même si ce système ne comprend pas de module autorit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la dit, dans le domaine des bibliothèques, nous allons continuer à établir des variantes de points d’accès en 4XX pour aider nos usag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politique officielle de LC est de laisser le catalogueur juger de la pertinence d’ajouter (ou non) une variante de point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 niveau local, il est également possible de développer ces propres politiqu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façon générale, les catalogueurs sont encouragés à fournir le même niveau d’accès qu’auparavant. Donc si vous auriez établi une 4XX avec les RCAA2, en toute logique, vous devriez également l’établir en RDA.</a:t>
            </a:r>
            <a:endParaRPr b="0" lang="en-US" sz="1200" spc="-1" strike="noStrike">
              <a:solidFill>
                <a:srgbClr val="000000"/>
              </a:solidFill>
              <a:latin typeface="Calibri"/>
            </a:endParaRPr>
          </a:p>
        </p:txBody>
      </p:sp>
      <p:sp>
        <p:nvSpPr>
          <p:cNvPr id="306"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7"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EF4D43E-422D-4A2F-AB01-B29427A7F28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FC19357-0D04-479E-A773-7280FBF03A4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6" name="PlaceHolder 1"/>
          <p:cNvSpPr>
            <a:spLocks noGrp="1"/>
          </p:cNvSpPr>
          <p:nvPr>
            <p:ph type="sldImg"/>
          </p:nvPr>
        </p:nvSpPr>
        <p:spPr>
          <a:xfrm>
            <a:off x="1257480" y="719280"/>
            <a:ext cx="4800600" cy="3600360"/>
          </a:xfrm>
          <a:prstGeom prst="rect">
            <a:avLst/>
          </a:prstGeom>
          <a:ln w="0">
            <a:noFill/>
          </a:ln>
        </p:spPr>
      </p:sp>
      <p:sp>
        <p:nvSpPr>
          <p:cNvPr id="33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19280"/>
            <a:ext cx="4800600" cy="3600360"/>
          </a:xfrm>
          <a:prstGeom prst="rect">
            <a:avLst/>
          </a:prstGeom>
          <a:ln w="0">
            <a:noFill/>
          </a:ln>
        </p:spPr>
      </p:sp>
      <p:sp>
        <p:nvSpPr>
          <p:cNvPr id="30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u codage MARC, vous pouvez reconnaître une notice RDA à deux indic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la position 10 du 008, où l’on enregistrait autrefois la valeur « c » pour indiquer que les règles de catalogage employées pour établir l’Autorité étaient les RCAA2, doit désormais être codée « z » pour « autre » (en d’autre mot, un code spécifique n’a pas été créé pour RDA.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À la place, nous allons procéder d’une façon semblable à ce que l’on a vu pour les notices bibliographiques, et nous allons coder « rda » dans le $e de la zone 040 (entre le $b et le $c).</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ailleurs, vous allez remarquer que des nouvelles zones MARC 21 sont également employées dans les notices d’autorité RDA. Cela dit, en soi, la présence de ces nouvelles zones n’est pas suffisante pour indiquer qu’il s’agit d’une autorité RDA. En fait, rien ne nous empêche de les employer avec les RCAA2; et inversement, rien ne nous oblige à les remplir avec RDA (elles ne correspondent pas à des éléments fondamentaux).</a:t>
            </a:r>
            <a:endParaRPr b="0" lang="en-US" sz="1200" spc="-1" strike="noStrike">
              <a:solidFill>
                <a:srgbClr val="000000"/>
              </a:solidFill>
              <a:latin typeface="Calibri"/>
            </a:endParaRPr>
          </a:p>
        </p:txBody>
      </p:sp>
      <p:sp>
        <p:nvSpPr>
          <p:cNvPr id="310"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1"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49FA0C6-C1EB-45A7-A114-B8C855083BD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19280"/>
            <a:ext cx="4800600" cy="3600360"/>
          </a:xfrm>
          <a:prstGeom prst="rect">
            <a:avLst/>
          </a:prstGeom>
          <a:ln w="0">
            <a:noFill/>
          </a:ln>
        </p:spPr>
      </p:sp>
      <p:sp>
        <p:nvSpPr>
          <p:cNvPr id="31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nous allons débuter avec un survol des lignes directrices générales.</a:t>
            </a:r>
            <a:endParaRPr b="0" lang="en-US" sz="1200" spc="-1" strike="noStrike">
              <a:solidFill>
                <a:srgbClr val="000000"/>
              </a:solidFill>
              <a:latin typeface="Calibri"/>
            </a:endParaRPr>
          </a:p>
        </p:txBody>
      </p:sp>
      <p:sp>
        <p:nvSpPr>
          <p:cNvPr id="31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1B01EA6-F945-4AB4-B08E-E0A5D42E8DF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19280"/>
            <a:ext cx="4800600" cy="3600360"/>
          </a:xfrm>
          <a:prstGeom prst="rect">
            <a:avLst/>
          </a:prstGeom>
          <a:ln w="0">
            <a:noFill/>
          </a:ln>
        </p:spPr>
      </p:sp>
      <p:sp>
        <p:nvSpPr>
          <p:cNvPr id="31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onc ici, on vous donne les différents éléments qui sont couverts au chapitre 8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on vous explique quels sont les termes-clés employés dans les chapitres 8 à 11, par ex.: qu’est-ce qu’une personne, une famille, une collectivité, un nom, un point d’accès, etc.</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3, vous aller trouver la liste des éléments qui sont fondamentaux, ou qui peuvent être fondamentaux, par ex. lorsque l’on doit différencier des homonym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4, on vous indique d’enregistrer les noms dans la langue et l’écriture dans lesquelles ils apparaissent dans les sources d’où ils proviennent, mais il y a une alternative qui permet d’enregistrer une forme translittérée pour les noms qui apparaissent dans une écriture non latine (ce que LC et BAnQ appliqu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non, pour l’enregistrement des noms, vous devez ajuster les majuscules selon les instructions de l’annexe 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nombres et les traits d’union, on les transcrits tels qu’ils se présent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us 8.5.6 on vous indique comment espacer les initiales et les lettres à l’intérieur des acronymes (dans les noms de personnes, on laisse une espace après les initiales, tandis que pour les acronymes qui désignent les collectivité on ne laisse pas d’espa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à trait aux abréviations, le chapitre 8 indique qu’il faut appliquer l’annexe B.</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inalement, le chapitre 8 fournit des instructions relatives aux différents types de notes que l’on enregistre dans les notices d’autorité, par ex.  celles qui traitent du champ d’application du point d’accès ou des sources consultées pour établir le point d’accès autorisés, les variantes de points d’accès, et les autres renseignements enregistrés dans la notice d’autorité (ce qui est une nouveauté par rapport aux RCAA2)</a:t>
            </a:r>
            <a:endParaRPr b="0" lang="en-US" sz="1200" spc="-1" strike="noStrike">
              <a:solidFill>
                <a:srgbClr val="000000"/>
              </a:solidFill>
              <a:latin typeface="Calibri"/>
            </a:endParaRPr>
          </a:p>
        </p:txBody>
      </p:sp>
      <p:sp>
        <p:nvSpPr>
          <p:cNvPr id="31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5C7D83A-FB8C-4149-8941-647075A5EC3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19280"/>
            <a:ext cx="4800600" cy="3600360"/>
          </a:xfrm>
          <a:prstGeom prst="rect">
            <a:avLst/>
          </a:prstGeom>
          <a:ln w="0">
            <a:noFill/>
          </a:ln>
        </p:spPr>
      </p:sp>
      <p:sp>
        <p:nvSpPr>
          <p:cNvPr id="32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ici, on vous dit, comme je l’ai mentionné précédemment, que tous les éléments pour l’identification de l’entité concernée sont présentés en premier ; en suivant les instructions sur la construction du point d’accès, les catalogueurs vont donc choisir parmi ces éléments ceux dont ils ont besoin pour établir de façon unique l’identité bibliographique de la personne/famille/ou collectiv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DA est donc plus général dans son application que les RCAA2 – puisqu’on ne couvre pas uniquement les éléments qui peuvent être utilisés comme ajouts dans un point d’accès mais que l’on présente plutôt les différentes caractéristiques de l’entité que l’on peut consigner dans la notice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EC485F8-5745-41C8-BD51-E6A7C7DEA18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F9ACBC-EBEE-4A9D-9E5F-957AB8E991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85DA27-553F-44DA-83DC-F5D7565AC8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19929E-6AA4-4827-8D76-CD3AC60135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46164A-CFD3-4CE3-8BB8-D1AC1FAA20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BF0E9C-7722-4868-B100-280B1A0CBA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ACEBCE-C7AA-450B-8EF7-BAB4710E7C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896537-3269-4722-BB98-43370A3CAC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A10A02-2CF1-41B2-A54A-C4EBA8130D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0E8647-CA33-4D26-8552-685ECD20C3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DCD6F0-21FD-4439-A7CD-21DA84F20F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072462-20D7-43A8-8662-6A003C47B9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E41FD9-18F6-4013-8EC0-A935400EA9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05515E-88E1-47CD-A3B6-4039390AAFC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C04A91-B4A5-4E48-89FA-45D484B543C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4461B7-E576-4D31-AC01-25AA822F809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personnages fictifs vs Vedettes-matières</a:t>
            </a:r>
            <a:endParaRPr b="1" lang="en-US" sz="2800" spc="-1" strike="noStrike">
              <a:solidFill>
                <a:srgbClr val="ffffff"/>
              </a:solidFill>
              <a:latin typeface="Arial"/>
            </a:endParaRPr>
          </a:p>
        </p:txBody>
      </p:sp>
      <p:sp>
        <p:nvSpPr>
          <p:cNvPr id="87" name="PlaceHolder 2"/>
          <p:cNvSpPr>
            <a:spLocks noGrp="1"/>
          </p:cNvSpPr>
          <p:nvPr>
            <p:ph/>
          </p:nvPr>
        </p:nvSpPr>
        <p:spPr>
          <a:xfrm>
            <a:off x="654120" y="15858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9 s’applique à des entités fictives utilisées en tant que </a:t>
            </a:r>
            <a:r>
              <a:rPr b="0" lang="fr-CA" sz="2800" spc="-1" strike="noStrike">
                <a:solidFill>
                  <a:srgbClr val="008093"/>
                </a:solidFill>
                <a:latin typeface="Arial"/>
              </a:rPr>
              <a:t>créateur ou collabor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personnages fictifs en </a:t>
            </a:r>
            <a:r>
              <a:rPr b="0" lang="fr-CA" sz="2800" spc="-1" strike="noStrike">
                <a:solidFill>
                  <a:srgbClr val="008093"/>
                </a:solidFill>
                <a:latin typeface="Arial"/>
              </a:rPr>
              <a:t>suje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y aura aussi des notices d’autorité distinctes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73DDCAE-9774-4B12-929C-DAFED3264A6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03A1DD-67B1-4E6A-91A7-94ECA4B8C5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3D49A2-1215-4606-AA24-B630C9E12E8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6ECBBB6-B4BC-4474-8736-376E165936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A9C2DA-64EF-46DC-920D-0E3CD2676EE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8"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3F42A0-59E8-459D-8AD1-736A8C0D14F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2C4E33-FC8A-46DE-8F3C-36D8DC51023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778930-141D-4133-BE70-876017EE54C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290FF25-3451-402A-A452-5D2D2B0CC53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21"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CB45014-C232-433F-99E8-E27C0FB49E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2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28A512-2AB7-4548-906A-201347496F0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160BC3-3164-4F62-AA73-B1C04BA49D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35" name="PlaceHolder 2"/>
          <p:cNvSpPr>
            <a:spLocks noGrp="1"/>
          </p:cNvSpPr>
          <p:nvPr>
            <p:ph/>
          </p:nvPr>
        </p:nvSpPr>
        <p:spPr>
          <a:xfrm>
            <a:off x="653760" y="1600200"/>
            <a:ext cx="8451720" cy="4525920"/>
          </a:xfrm>
          <a:prstGeom prst="rect">
            <a:avLst/>
          </a:prstGeom>
          <a:noFill/>
          <a:ln w="0">
            <a:noFill/>
          </a:ln>
        </p:spPr>
        <p:txBody>
          <a:bodyPr anchor="t">
            <a:normAutofit/>
          </a:bodyPr>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Dates spéciales codée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68: Autres attributs associés à des personnes ou à des collectivité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Lieu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Adress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Domaine d’activit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3: Groupe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4: Profession</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5: Sexe de la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 Langue associé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8: Forme développée du nom de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678: Peut inclure de l’information biographique*</a:t>
            </a:r>
            <a:endParaRPr b="0" lang="en-US" sz="2200" spc="-1" strike="noStrike">
              <a:solidFill>
                <a:srgbClr val="000000"/>
              </a:solidFill>
              <a:latin typeface="Arial"/>
            </a:endParaRPr>
          </a:p>
        </p:txBody>
      </p:sp>
      <p:sp>
        <p:nvSpPr>
          <p:cNvPr id="136" name="TextBox 4"/>
          <p:cNvSpPr/>
          <p:nvPr/>
        </p:nvSpPr>
        <p:spPr>
          <a:xfrm>
            <a:off x="654120" y="612612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A148DD-138B-44CB-A1A7-E74E960B015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40"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 $2 rv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80DC7EB-71F5-4BAF-9FCF-717ECE8220A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et rôle de la « famille »</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mportant pour les archives, les musées, les collections spéciales, les bulletins de généalogie, recueils de correspondanc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44F87C-5AC4-419F-A180-5A151B5E86A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10 s’applique à des entités de famille </a:t>
            </a:r>
            <a:r>
              <a:rPr b="0"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regroupements </a:t>
            </a:r>
            <a:r>
              <a:rPr b="0" lang="fr-CA" sz="2800" spc="-1" strike="noStrike">
                <a:solidFill>
                  <a:srgbClr val="008093"/>
                </a:solidFill>
                <a:latin typeface="Arial"/>
              </a:rPr>
              <a:t>généraux</a:t>
            </a:r>
            <a:r>
              <a:rPr b="0" lang="fr-CA"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420B8B-EA56-4E73-8AC7-CF56793177D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5"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6"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7AEA80A-78D8-4456-A59C-A5029388DD9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a:t>
            </a:r>
            <a:r>
              <a:rPr b="0" lang="fr-CA"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associée </a:t>
            </a:r>
            <a:r>
              <a:rPr b="0" lang="fr-CA" sz="2400" spc="-1" strike="noStrike">
                <a:solidFill>
                  <a:srgbClr val="008093"/>
                </a:solidFill>
                <a:latin typeface="Arial"/>
              </a:rPr>
              <a:t>(RDA 10.4)</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a:t>
            </a:r>
            <a:r>
              <a:rPr b="0" lang="fr-CA" sz="2400" spc="-1" strike="noStrike">
                <a:solidFill>
                  <a:srgbClr val="008093"/>
                </a:solidFill>
                <a:latin typeface="Arial"/>
              </a:rPr>
              <a:t> (RDA 10.5) </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embre illustre de la famille </a:t>
            </a:r>
            <a:r>
              <a:rPr b="0" lang="fr-CA" sz="2400" spc="-1" strike="noStrike">
                <a:solidFill>
                  <a:srgbClr val="008093"/>
                </a:solidFill>
                <a:latin typeface="Arial"/>
              </a:rPr>
              <a:t>(RDA 10.6)</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si nécessaire pour distinguer </a:t>
            </a:r>
            <a:r>
              <a:rPr b="0" i="1" lang="fr-CA" sz="2800" spc="-1" strike="noStrike">
                <a:solidFill>
                  <a:srgbClr val="000000"/>
                </a:solidFill>
                <a:latin typeface="Arial"/>
              </a:rPr>
              <a:t>ou</a:t>
            </a:r>
            <a:r>
              <a:rPr b="0" lang="fr-CA"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39D551-20F2-4601-BE28-38CC1E2EAE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0</a:t>
            </a:r>
            <a:r>
              <a:rPr b="0" lang="fr-CA" sz="2800" spc="-1" strike="noStrike">
                <a:solidFill>
                  <a:srgbClr val="000000"/>
                </a:solidFill>
                <a:latin typeface="Arial"/>
              </a:rPr>
              <a:t>	</a:t>
            </a:r>
            <a:r>
              <a:rPr b="0" lang="fr-CA" sz="2800" spc="-1" strike="noStrike">
                <a:solidFill>
                  <a:srgbClr val="000000"/>
                </a:solidFill>
                <a:latin typeface="Arial"/>
              </a:rPr>
              <a:t>Identification des famill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340F539-B852-47BB-9DB2-43190A94E3A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hoix du catalogueur</a:t>
            </a:r>
            <a:r>
              <a:rPr b="0" lang="fr-CA" sz="2400" spc="-1" strike="noStrike">
                <a:solidFill>
                  <a:srgbClr val="000000"/>
                </a:solidFill>
                <a:latin typeface="Arial"/>
              </a:rPr>
              <a:t>, par exemple : « Famille », </a:t>
            </a:r>
            <a:br>
              <a:rPr sz="2400"/>
            </a:br>
            <a:r>
              <a:rPr b="0" lang="fr-CA"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5"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6"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25AC904-9FEA-450A-BF67-7FD23DF0A0F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4e-9e siècles</a:t>
            </a:r>
            <a:endParaRPr b="0" lang="en-US" sz="2400" spc="-1" strike="noStrike">
              <a:solidFill>
                <a:srgbClr val="000000"/>
              </a:solidFill>
              <a:latin typeface="Arial"/>
            </a:endParaRPr>
          </a:p>
        </p:txBody>
      </p:sp>
      <p:sp>
        <p:nvSpPr>
          <p:cNvPr id="171"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2"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a:t>
            </a:r>
            <a:r>
              <a:rPr b="1" lang="en-CA" sz="2400" spc="-1" strike="noStrike">
                <a:solidFill>
                  <a:srgbClr val="000000"/>
                </a:solidFill>
                <a:latin typeface="Arial Unicode MS"/>
                <a:ea typeface="Arial Unicode MS"/>
              </a:rPr>
              <a:t>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D330D2E-08CC-4A35-BCAB-C82681F93DC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7"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8"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F23C2C1-D8DC-4EA2-9BEA-7EA9C30C77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83"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4"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Trudeau (Famille : $g</a:t>
            </a:r>
            <a:r>
              <a:rPr b="1" lang="fr-CA" sz="2400" spc="-1" strike="noStrike">
                <a:solidFill>
                  <a:srgbClr val="000000"/>
                </a:solidFill>
                <a:latin typeface="Arial Unicode MS"/>
                <a:ea typeface="Arial Unicode MS"/>
              </a:rPr>
              <a:t> </a:t>
            </a:r>
            <a:r>
              <a:rPr b="1" lang="fr-CA" sz="2400" spc="-1" strike="noStrike">
                <a:solidFill>
                  <a:srgbClr val="008093"/>
                </a:solidFill>
                <a:latin typeface="Courier New"/>
              </a:rPr>
              <a:t>Trudeau, Pierre Elliott, 1919-2000</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15531B7-DF09-4091-A062-DD07464B683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6: Dates spéciales codée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0: Lieu associé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6: Renseignements sur la famill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7: Langue associée *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78: Peut inclure l’historique de la famille</a:t>
            </a:r>
            <a:endParaRPr b="0" lang="en-US" sz="28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nouvelles zones</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DDBAC50-CCA5-4FE3-9228-3AA88B651DD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92"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2 rv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A521971-E221-439C-85DF-40E88F0A47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 »</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2EA340C-73AA-4B74-8D1B-3857C28191C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9BF3F78-19C7-4CA6-904B-B7A4B9AC223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73129C8-E9B8-4884-B904-65DA906030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424C1E-19A7-4FA4-9FFC-9E1B1022313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9" name=""/>
          <p:cNvGraphicFramePr/>
          <p:nvPr/>
        </p:nvGraphicFramePr>
        <p:xfrm>
          <a:off x="423720" y="1666800"/>
          <a:ext cx="8460000" cy="4614840"/>
        </p:xfrm>
        <a:graphic>
          <a:graphicData uri="http://schemas.openxmlformats.org/drawingml/2006/table">
            <a:tbl>
              <a:tblPr/>
              <a:tblGrid>
                <a:gridCol w="4032360"/>
                <a:gridCol w="4427640"/>
              </a:tblGrid>
              <a:tr h="405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06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12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55AE12F-D630-4CD1-AC46-0C8EF74350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EAD9B4-F48F-4396-932B-8AF5E7CA186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7DF961-898F-4995-828F-4E0B1D5F07A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E766867-C637-43CF-B4BE-A34B99B5BB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6"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7"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8752E4D-E917-44A6-A2C9-149855E699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3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congrès, etc., si le nom de l’institution fournit </a:t>
            </a:r>
            <a:r>
              <a:rPr b="0" lang="fr-CA" sz="2400" spc="-1" strike="noStrike">
                <a:solidFill>
                  <a:srgbClr val="008093"/>
                </a:solidFill>
                <a:latin typeface="Arial"/>
              </a:rPr>
              <a:t>une meilleure identification</a:t>
            </a:r>
            <a:r>
              <a:rPr b="0" lang="fr-CA"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férer l’ajout du nom d’une institution à celui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et la langue enregistrées comme nom privilégié de l’institution (</a:t>
            </a:r>
            <a:r>
              <a:rPr b="0" lang="fr-CA" sz="2800" spc="-1" strike="noStrike" u="sng">
                <a:solidFill>
                  <a:srgbClr val="008093"/>
                </a:solidFill>
                <a:uFillTx/>
                <a:latin typeface="Arial"/>
              </a:rPr>
              <a:t>non pas</a:t>
            </a:r>
            <a:r>
              <a:rPr b="0" lang="fr-CA"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2A5FF6C-E396-46C0-BD49-C44E733001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dage MARC 21 pour l’institution associée</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Congrès</a:t>
            </a:r>
            <a:r>
              <a:rPr b="0" lang="fr-CA"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Autres collectivités</a:t>
            </a:r>
            <a:r>
              <a:rPr b="0" lang="fr-CA"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6"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7"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8"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9"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E8F7C5-E68B-423D-A601-7ABFDC9E8D3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fondation (RDA 11.4.3)</a:t>
            </a:r>
            <a:br>
              <a:rPr sz="2800"/>
            </a:br>
            <a:r>
              <a:rPr b="1" lang="fr-CA"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a date </a:t>
            </a:r>
            <a:r>
              <a:rPr b="0" lang="fr-CA" sz="2800" spc="-1" strike="noStrike">
                <a:solidFill>
                  <a:srgbClr val="008093"/>
                </a:solidFill>
                <a:latin typeface="Arial"/>
              </a:rPr>
              <a:t>si nécessaire</a:t>
            </a:r>
            <a:r>
              <a:rPr b="0" lang="fr-CA"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5"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7F4E65D-6F3B-4508-907B-CA5D91EB10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s collectivités dont le nom </a:t>
            </a:r>
            <a:r>
              <a:rPr b="0" lang="fr-CA" sz="2000" spc="-1" strike="noStrike">
                <a:solidFill>
                  <a:srgbClr val="008093"/>
                </a:solidFill>
                <a:latin typeface="Arial"/>
              </a:rPr>
              <a:t>n’évoque pas</a:t>
            </a:r>
            <a:r>
              <a:rPr b="0" lang="fr-CA"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si nécessaire</a:t>
            </a:r>
            <a:r>
              <a:rPr b="0" lang="fr-CA"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50"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Beau Dommage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51"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7F32EC-03D3-40F5-B68F-1AACD8AD6C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C9A6B0C-F4D7-4DFB-AFB7-0F9B7A73B80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6C040E-DD9A-43CD-9776-CBF41E673C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collectivités : zones MARC 21</a:t>
            </a:r>
            <a:endParaRPr b="1" lang="en-US" sz="2800" spc="-1" strike="noStrike">
              <a:solidFill>
                <a:srgbClr val="ffffff"/>
              </a:solidFill>
              <a:latin typeface="Arial"/>
            </a:endParaRPr>
          </a:p>
        </p:txBody>
      </p:sp>
      <p:sp>
        <p:nvSpPr>
          <p:cNvPr id="259"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personnes ou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60"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000" spc="-1" strike="noStrike">
                <a:solidFill>
                  <a:srgbClr val="000000"/>
                </a:solidFill>
                <a:latin typeface="Arial"/>
              </a:rPr>
              <a:t>* 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3E9C818-BA20-4CFF-9817-C8130CC4660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000" spc="-1" strike="noStrike">
                <a:solidFill>
                  <a:srgbClr val="000000"/>
                </a:solidFill>
                <a:latin typeface="Courier New"/>
              </a:rPr>
              <a:t>$2 rvm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40DE5A-C530-4026-BECA-10179CEC3C5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527E8B-F926-499D-AFE9-E2E6BCA460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noms</a:t>
            </a:r>
            <a:r>
              <a:rPr b="0" lang="fr-CA"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enregistrer les lieux </a:t>
            </a:r>
            <a:r>
              <a:rPr b="0" lang="fr-CA" sz="2800" spc="-1" strike="noStrike">
                <a:solidFill>
                  <a:srgbClr val="008093"/>
                </a:solidFill>
                <a:latin typeface="Arial"/>
              </a:rPr>
              <a:t>associés</a:t>
            </a:r>
            <a:r>
              <a:rPr b="0" lang="fr-CA"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DB853F3-77C0-4443-9724-FE4D2A2A4B3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F25FB5-A782-4972-8250-024896663A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82"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83"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EE6E48D-74F9-49C2-A8C1-1F1A0660E20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25D02B8-01A6-4F06-86DF-8CC36B03856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 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1143000" indent="-228600">
              <a:lnSpc>
                <a:spcPct val="90000"/>
              </a:lnSpc>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93C097-A47A-4B9F-90C1-95065A37364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F1AE33A-5BB8-4897-9823-37C6D4F5E0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L'Écuyer-Coelho Marie-Chantal</cp:lastModifiedBy>
  <cp:lastPrinted>2010-10-18T15:40:26Z</cp:lastPrinted>
  <dcterms:modified xsi:type="dcterms:W3CDTF">2014-06-16T19:38:08Z</dcterms:modified>
  <cp:revision>372</cp:revision>
  <dc:subject/>
  <dc:title>Diapositive 1</dc:title>
</cp:coreProperties>
</file>