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2C959A0-01C5-40E4-AE32-A1D5DF78B08F}"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C9008E4-025D-4FFE-B5CB-C84C24A4946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08B37D9-05F5-4161-8C21-966C9B2F84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3C2A2F5-9750-487C-B118-4F5864E2C2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0CDF25B-A660-446A-8D3E-FFE869563FC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8FC2D18-9A6A-42D3-BD69-16044F757AD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8" name="PlaceHolder 1"/>
          <p:cNvSpPr>
            <a:spLocks noGrp="1"/>
          </p:cNvSpPr>
          <p:nvPr>
            <p:ph type="sldImg"/>
          </p:nvPr>
        </p:nvSpPr>
        <p:spPr>
          <a:xfrm>
            <a:off x="1257480" y="719280"/>
            <a:ext cx="4800600" cy="3600360"/>
          </a:xfrm>
          <a:prstGeom prst="rect">
            <a:avLst/>
          </a:prstGeom>
          <a:ln w="0">
            <a:noFill/>
          </a:ln>
        </p:spPr>
      </p:sp>
      <p:sp>
        <p:nvSpPr>
          <p:cNvPr id="2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66DF93-EFF3-40D1-84BA-A3E3DBA05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5BC86C-F31E-4EDC-A4EF-AD929B784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939030-C880-4719-8486-FE18F236B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BD6090-33E9-4B45-81EE-5C9F616F2C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E9B24E-55DE-49A2-8FEA-6F4C1BA3E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17F51-73D4-43AF-B6C7-AA050C8FDE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EB4103-FE6B-4D7E-8440-32AB486A5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F524D-99B0-4A4E-BDD4-F44A58D789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C51AB7-A5B4-4377-A9CD-F5DEAC32B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7A8926-66D6-4A9E-8DD0-AC2DEB441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68238-A3CC-4779-91C5-7AC4BBBD5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D4176-D9C2-44F5-A42E-76FCAA6A6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80ECFD-844A-41DA-B42A-DA9FBDC7AD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FF431A-1570-42AB-87EF-16E58DA2FB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C25B7FC-FBD7-4C12-8A7A-41ECE5CC87C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14BEE3-E094-4490-B974-FBA809C69B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AE0DF7-5BB1-4EA1-A3D2-52D718416F7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9C626C-D989-4764-86C8-DBCA8B64C5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CA1639-37E7-4760-8543-486DA17B976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4"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B97551-9C5C-4D33-94DC-D10CA2A663E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abréviations « s. » et « ca » </a:t>
            </a:r>
            <a:r>
              <a:rPr b="0" lang="en-US"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 » devient « </a:t>
            </a:r>
            <a:r>
              <a:rPr b="0" lang="en-US" sz="2400" spc="-1" strike="noStrike">
                <a:solidFill>
                  <a:srgbClr val="008093"/>
                </a:solidFill>
                <a:latin typeface="Arial"/>
              </a:rPr>
              <a:t>siècle</a:t>
            </a:r>
            <a:r>
              <a:rPr b="0" lang="en-US"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93"/>
                </a:solidFill>
                <a:latin typeface="Arial"/>
              </a:rPr>
              <a:t>environ</a:t>
            </a:r>
            <a:r>
              <a:rPr b="0" lang="en-US"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Mais</a:t>
            </a:r>
            <a:r>
              <a:rPr b="0" lang="en-US"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iode d’activité de la personne : « </a:t>
            </a:r>
            <a:r>
              <a:rPr b="0" lang="en-US" sz="2400" spc="-1" strike="noStrike">
                <a:solidFill>
                  <a:srgbClr val="008093"/>
                </a:solidFill>
                <a:latin typeface="Arial"/>
              </a:rPr>
              <a:t>activité</a:t>
            </a:r>
            <a:r>
              <a:rPr b="0" lang="en-US"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C85DEB2-211E-4A16-BFD8-8F958EBA6A7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CF25C3-1605-4B0A-9903-70437E841F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7"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partie du nom qui n’est pas incluse dans la forme choisie comme nom privilégié (</a:t>
            </a:r>
            <a:r>
              <a:rPr b="0" lang="en-US" sz="2400" spc="-1" strike="noStrike">
                <a:solidFill>
                  <a:srgbClr val="008093"/>
                </a:solidFill>
                <a:latin typeface="Arial"/>
              </a:rPr>
              <a:t>changement de RCAA2</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Politique LC</a:t>
            </a:r>
            <a:r>
              <a:rPr b="0" lang="en-US"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en-US" sz="2400" spc="-1" strike="noStrike">
                <a:solidFill>
                  <a:srgbClr val="008093"/>
                </a:solidFill>
                <a:latin typeface="Arial"/>
              </a:rPr>
              <a:t>LC-PCC PS 9.19.1.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8"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908D10-D660-4DBD-91D5-3B55BCAE1C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0A5FD5-4022-45D3-865D-DEA5DF7BED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123"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39E7D6-AB01-4A99-9B73-B1E7CDA2420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525DE4F-44DC-49D0-947C-095175727C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personnes : </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4: Profession</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5: Sexe de la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8: Forme développée du nom de personne</a:t>
            </a:r>
            <a:endParaRPr b="0" lang="en-US" sz="2400" spc="-1" strike="noStrike">
              <a:solidFill>
                <a:srgbClr val="000000"/>
              </a:solidFill>
              <a:latin typeface="Arial"/>
            </a:endParaRPr>
          </a:p>
          <a:p>
            <a:pPr marL="90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de l’information biographique*</a:t>
            </a:r>
            <a:endParaRPr b="0" lang="en-US" sz="2400" spc="-1" strike="noStrike">
              <a:solidFill>
                <a:srgbClr val="000000"/>
              </a:solidFill>
              <a:latin typeface="Arial"/>
            </a:endParaRPr>
          </a:p>
        </p:txBody>
      </p:sp>
      <p:sp>
        <p:nvSpPr>
          <p:cNvPr id="132" name="TextBox 4"/>
          <p:cNvSpPr/>
          <p:nvPr/>
        </p:nvSpPr>
        <p:spPr>
          <a:xfrm>
            <a:off x="615960" y="6058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90A494E-DCDC-44CB-A033-29A7736514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36"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E2543CC-190A-4543-A7AC-689DD6B035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et rôle de la </a:t>
            </a:r>
            <a:br>
              <a:rPr sz="2800"/>
            </a:br>
            <a:r>
              <a:rPr b="1" lang="en-US" sz="2800" spc="-1" strike="noStrike">
                <a:solidFill>
                  <a:srgbClr val="ffffff"/>
                </a:solidFill>
                <a:latin typeface="Arial"/>
              </a:rPr>
              <a:t>« famille »</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our les archives, les musées, les collections spéciales, les bulletins de généalogie, les revues d’associations de famill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B1F1079-3260-40B0-9C7B-DE67F11107D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hapitre 10 s’applique à des entités de famille </a:t>
            </a:r>
            <a:r>
              <a:rPr b="0" lang="en-US"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r la politique d’indexation actuelle pour les regroupements </a:t>
            </a:r>
            <a:r>
              <a:rPr b="0" lang="en-US" sz="2800" spc="-1" strike="noStrike">
                <a:solidFill>
                  <a:srgbClr val="008093"/>
                </a:solidFill>
                <a:latin typeface="Arial"/>
              </a:rPr>
              <a:t>généraux</a:t>
            </a:r>
            <a:r>
              <a:rPr b="0" lang="en-US"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F9C3AC-82BB-43CE-A1CD-AD0124FBCEF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1"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2"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754A122-F9FB-4E44-A811-0084280A1AA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a:t>
            </a:r>
            <a:r>
              <a:rPr b="0" lang="en-US"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associée </a:t>
            </a:r>
            <a:r>
              <a:rPr b="0" lang="en-US" sz="2400" spc="-1" strike="noStrike">
                <a:solidFill>
                  <a:srgbClr val="008093"/>
                </a:solidFill>
                <a:latin typeface="Arial"/>
              </a:rPr>
              <a:t>(RDA 10.4)</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associé</a:t>
            </a:r>
            <a:r>
              <a:rPr b="0" lang="en-US" sz="2400" spc="-1" strike="noStrike">
                <a:solidFill>
                  <a:srgbClr val="008093"/>
                </a:solidFill>
                <a:latin typeface="Arial"/>
              </a:rPr>
              <a:t> (RDA 10.5) </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re illustre de la famille </a:t>
            </a:r>
            <a:r>
              <a:rPr b="0" lang="en-US" sz="2400" spc="-1" strike="noStrike">
                <a:solidFill>
                  <a:srgbClr val="008093"/>
                </a:solidFill>
                <a:latin typeface="Arial"/>
              </a:rPr>
              <a:t>(RDA 10.6)</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i nécessaire pour distinguer </a:t>
            </a:r>
            <a:r>
              <a:rPr b="0" i="1" lang="en-US" sz="2800" spc="-1" strike="noStrike">
                <a:solidFill>
                  <a:srgbClr val="000000"/>
                </a:solidFill>
                <a:latin typeface="Arial"/>
              </a:rPr>
              <a:t>ou</a:t>
            </a:r>
            <a:r>
              <a:rPr b="0" lang="en-US"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0474C1-8502-4B6E-A98E-1B7AA5AB588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hoix du catalogueur</a:t>
            </a:r>
            <a:r>
              <a:rPr b="0" lang="en-US" sz="2400" spc="-1" strike="noStrike">
                <a:solidFill>
                  <a:srgbClr val="000000"/>
                </a:solidFill>
                <a:latin typeface="Arial"/>
              </a:rPr>
              <a:t>, par exemple : « Famille », </a:t>
            </a:r>
            <a:br>
              <a:rPr sz="2400"/>
            </a:br>
            <a:r>
              <a:rPr b="0" lang="en-US"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1"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2"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402F60-03F5-4B39-821F-8738789548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Identification des famill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AADE84C-58B3-4B93-92FF-F4A8AD0303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9e sièc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ècle » n’est plus abrégé !</a:t>
            </a:r>
            <a:endParaRPr b="0" lang="en-US" sz="2400" spc="-1" strike="noStrike">
              <a:solidFill>
                <a:srgbClr val="000000"/>
              </a:solidFill>
              <a:latin typeface="Arial"/>
            </a:endParaRPr>
          </a:p>
        </p:txBody>
      </p:sp>
      <p:sp>
        <p:nvSpPr>
          <p:cNvPr id="167"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8"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4CA54C3-F906-4AC8-B088-7C696D73B0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3"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4"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 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3A2150-61DD-444B-B611-10F67D396B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79"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0"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0 3# $a Trudeau (Famille : $g </a:t>
            </a:r>
            <a:r>
              <a:rPr b="1" lang="en-US" sz="2400" spc="-1" strike="noStrike">
                <a:solidFill>
                  <a:srgbClr val="008093"/>
                </a:solidFill>
                <a:latin typeface="Courier New"/>
              </a:rPr>
              <a:t>Trudeau, Pierre Elliott, 1919-2000</a:t>
            </a:r>
            <a:r>
              <a:rPr b="1" lang="en-US"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5C8ADB-D649-44B4-8224-747E8D2A844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familles:</a:t>
            </a:r>
            <a:br>
              <a:rPr sz="2800"/>
            </a:br>
            <a:r>
              <a:rPr b="1" lang="en-US" sz="2800" spc="-1" strike="noStrike">
                <a:solidFill>
                  <a:srgbClr val="ffffff"/>
                </a:solidFill>
                <a:latin typeface="Arial"/>
              </a:rPr>
              <a:t>zones MARC21</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 : Dates spéciales codé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0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 : Renseignements sur la famil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8 : peut inclure l’historique de la famille</a:t>
            </a:r>
            <a:endParaRPr b="0" lang="en-US" sz="28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nouvelles zon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59F8E53-123B-4F2A-B1CC-3E3DEC800E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88"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D91BC1-0C74-48A4-9174-9107795764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09A39D-5A87-495E-83F6-F586688FD9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A2FED2-9D85-4818-9807-0C3774849C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7AF59D2-733B-494A-965A-C4435CBAE3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5"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5C7612-3BD1-4A96-A747-40FB8CBE01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B0FFDA-858C-4F92-AC15-2E99EEC404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8D86FEA-F971-4FA0-A426-4471EDA6D3C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2129DEA-06A6-4D25-9A66-9ACE85D41B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8583E1-2B6F-4D79-AF78-129DCDC89B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2"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3"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4FE063-C64F-49AE-A662-3E6B418EE4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27"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congrès, etc., si le nom de l’institution fournit </a:t>
            </a:r>
            <a:r>
              <a:rPr b="0" lang="en-US" sz="2400" spc="-1" strike="noStrike">
                <a:solidFill>
                  <a:srgbClr val="008093"/>
                </a:solidFill>
                <a:latin typeface="Arial"/>
              </a:rPr>
              <a:t>une meilleure identification</a:t>
            </a:r>
            <a:r>
              <a:rPr b="0" lang="en-US"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si nécessaire</a:t>
            </a:r>
            <a:r>
              <a:rPr b="0" lang="en-US"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férer l’ajout d’une institution à l’ajout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forme et la langue enregistrées comme nom privilégié de l’institution (</a:t>
            </a:r>
            <a:r>
              <a:rPr b="0" lang="en-US" sz="2800" spc="-1" strike="noStrike" u="sng">
                <a:solidFill>
                  <a:srgbClr val="008093"/>
                </a:solidFill>
                <a:uFillTx/>
                <a:latin typeface="Arial"/>
              </a:rPr>
              <a:t>non pas</a:t>
            </a:r>
            <a:r>
              <a:rPr b="0" lang="en-US"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69DED9-85EF-4B7C-BE51-0E75449208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age MARC21 pour l’institution associée</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Congrès</a:t>
            </a:r>
            <a:r>
              <a:rPr b="0" lang="en-US"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93"/>
                </a:solidFill>
                <a:uFillTx/>
                <a:latin typeface="Arial"/>
              </a:rPr>
              <a:t>Autres collectivités</a:t>
            </a:r>
            <a:r>
              <a:rPr b="0" lang="en-US"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2"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3"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4"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5"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2A576D4-DBF2-4DE8-B7B5-3FD7519241C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fondation (RDA 11.4.3)</a:t>
            </a:r>
            <a:br>
              <a:rPr sz="2800"/>
            </a:br>
            <a:r>
              <a:rPr b="1" lang="en-US"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ner la date </a:t>
            </a:r>
            <a:r>
              <a:rPr b="0" lang="en-US" sz="2800" spc="-1" strike="noStrike">
                <a:solidFill>
                  <a:srgbClr val="008093"/>
                </a:solidFill>
                <a:latin typeface="Arial"/>
              </a:rPr>
              <a:t>si nécessaire</a:t>
            </a:r>
            <a:r>
              <a:rPr b="0" lang="en-US"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1"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470EBD-1CED-4AE0-9D79-369F7D4E32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es collectivités dont le nom </a:t>
            </a:r>
            <a:r>
              <a:rPr b="0" lang="en-US" sz="2000" spc="-1" strike="noStrike">
                <a:solidFill>
                  <a:srgbClr val="008093"/>
                </a:solidFill>
                <a:latin typeface="Arial"/>
              </a:rPr>
              <a:t>n’évoque pas</a:t>
            </a:r>
            <a:r>
              <a:rPr b="0" lang="en-US"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si nécessaire</a:t>
            </a:r>
            <a:r>
              <a:rPr b="0" lang="en-US"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46"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Tragically Hip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7"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0CC000-D6F5-45EF-92FB-173D803D0B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D93834-4614-407E-A2D6-3F7D6C83F44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Éléments pour identifier des collectivités : zones MARC21</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56"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B761F1E-4FDF-4858-9C52-0F5A332669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C2F96B-2227-4859-A0B7-FB435449849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BC67B4-202A-4880-85D3-6D152499A1D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B444DA-95BA-4C4D-9C95-C86139C6AD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noms</a:t>
            </a:r>
            <a:r>
              <a:rPr b="0" lang="en-US"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enregistrer les lieux </a:t>
            </a:r>
            <a:r>
              <a:rPr b="0" lang="en-US" sz="2800" spc="-1" strike="noStrike">
                <a:solidFill>
                  <a:srgbClr val="008093"/>
                </a:solidFill>
                <a:latin typeface="Arial"/>
              </a:rPr>
              <a:t>associés</a:t>
            </a:r>
            <a:r>
              <a:rPr b="0" lang="en-US"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 </a:t>
            </a:r>
            <a:r>
              <a:rPr b="0" lang="en-US" sz="2800" spc="-1" strike="noStrike">
                <a:solidFill>
                  <a:srgbClr val="008093"/>
                </a:solidFill>
                <a:latin typeface="Arial"/>
              </a:rPr>
              <a:t>ajouts</a:t>
            </a:r>
            <a:r>
              <a:rPr b="0" lang="en-US"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62F174-F2B6-4BBD-A893-D59B497159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109C3B-A9C2-4661-818B-1B4E63D7672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7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7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72087A5-1FA2-4091-9C88-5EF6846D3B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AF2F46-B765-4C5F-8E27-E2CF811BF9F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9325973-7717-425A-BAF4-AF84D2B501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6F7F937-A622-4B1F-9A41-E4C66C5454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12-09T15:23:04Z</dcterms:modified>
  <cp:revision>326</cp:revision>
  <dc:subject/>
  <dc:title>Diapositive 1</dc:title>
</cp:coreProperties>
</file>