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029D90A-3065-4082-AD34-1206A1BA01F6}"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44F71D2-2520-40E9-8B6F-9B40BB46682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AB4A4FE-ED20-4470-88D8-98FA7CEFA46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6" name="PlaceHolder 1"/>
          <p:cNvSpPr>
            <a:spLocks noGrp="1"/>
          </p:cNvSpPr>
          <p:nvPr>
            <p:ph type="sldImg"/>
          </p:nvPr>
        </p:nvSpPr>
        <p:spPr>
          <a:xfrm>
            <a:off x="1257480" y="719280"/>
            <a:ext cx="4800600" cy="3600360"/>
          </a:xfrm>
          <a:prstGeom prst="rect">
            <a:avLst/>
          </a:prstGeom>
          <a:ln w="0">
            <a:noFill/>
          </a:ln>
        </p:spPr>
      </p:sp>
      <p:sp>
        <p:nvSpPr>
          <p:cNvPr id="2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23E4F0F-E1E5-409F-8DB7-BB0855D39EF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48B6F7B-986D-43F1-A361-958169C74F3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4" name="PlaceHolder 1"/>
          <p:cNvSpPr>
            <a:spLocks noGrp="1"/>
          </p:cNvSpPr>
          <p:nvPr>
            <p:ph type="sldImg"/>
          </p:nvPr>
        </p:nvSpPr>
        <p:spPr>
          <a:xfrm>
            <a:off x="1257480" y="719280"/>
            <a:ext cx="4800600" cy="3600360"/>
          </a:xfrm>
          <a:prstGeom prst="rect">
            <a:avLst/>
          </a:prstGeom>
          <a:ln w="0">
            <a:noFill/>
          </a:ln>
        </p:spPr>
      </p:sp>
      <p:sp>
        <p:nvSpPr>
          <p:cNvPr id="2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2156186-AB92-451C-A97C-EFDF2EB2111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8" name="PlaceHolder 1"/>
          <p:cNvSpPr>
            <a:spLocks noGrp="1"/>
          </p:cNvSpPr>
          <p:nvPr>
            <p:ph type="sldImg"/>
          </p:nvPr>
        </p:nvSpPr>
        <p:spPr>
          <a:xfrm>
            <a:off x="1257480" y="719280"/>
            <a:ext cx="4800600" cy="3600360"/>
          </a:xfrm>
          <a:prstGeom prst="rect">
            <a:avLst/>
          </a:prstGeom>
          <a:ln w="0">
            <a:noFill/>
          </a:ln>
        </p:spPr>
      </p:sp>
      <p:sp>
        <p:nvSpPr>
          <p:cNvPr id="2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EB2D4C-B29B-476F-B4ED-18BDDE4B10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B1AF5D-2D78-4E0C-A7A0-00F8D80478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B4B6E4-82A9-4461-822A-CCE7884DDC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74A38B-FA09-41ED-A1C5-E55F75F0E7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B442EC-4003-4E81-9C41-AAEDDD827D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18D587-7A9A-4379-8182-C7DC691514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8DDC3F-4DBE-461C-9EE5-28CA595214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34A750-1283-41EB-ACCE-40A57D3D75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FCC0C3-F321-4027-86D4-38F91F3497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83FAD0-F81A-446C-B7A3-CFEA4FDB74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21F73A-4D8F-4573-A1BB-19BAA7C445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2C91A9-07A3-4389-B970-F0102E477C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70BCCC-F4E5-4AED-971F-EF86DB60FC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46E3D6-5C47-464B-9D9E-3C2101BF5BD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6864DB-9B11-40EA-8F89-4A041C331E0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96ED03-3680-4FD9-8388-F606FB754C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A954F3-0A8B-4493-A3E6-FA3920150E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DBF7E27-17B2-4591-ACCC-3C78EA0838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69D604-85BE-488E-91A2-FD0359A3D2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4"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FBA5DD0-47C7-4E26-8C60-2DE95F8925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abréviations « s. » et « ca » </a:t>
            </a:r>
            <a:r>
              <a:rPr b="0" lang="en-US"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 » devient « </a:t>
            </a:r>
            <a:r>
              <a:rPr b="0" lang="en-US" sz="2400" spc="-1" strike="noStrike">
                <a:solidFill>
                  <a:srgbClr val="008093"/>
                </a:solidFill>
                <a:latin typeface="Arial"/>
              </a:rPr>
              <a:t>siècle</a:t>
            </a:r>
            <a:r>
              <a:rPr b="0" lang="en-US"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environ</a:t>
            </a:r>
            <a:r>
              <a:rPr b="0" lang="en-US"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Mais</a:t>
            </a:r>
            <a:r>
              <a:rPr b="0" lang="en-US"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ode d’activité de la personne : « </a:t>
            </a:r>
            <a:r>
              <a:rPr b="0" lang="en-US" sz="2400" spc="-1" strike="noStrike">
                <a:solidFill>
                  <a:srgbClr val="008093"/>
                </a:solidFill>
                <a:latin typeface="Arial"/>
              </a:rPr>
              <a:t>activité</a:t>
            </a:r>
            <a:r>
              <a:rPr b="0" lang="en-US"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68C60DD-72C1-4D4E-A5BF-AFAF3EC8DD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4439AD-A531-4706-A3D0-495435F5F41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7"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partie du nom qui n’est pas incluse dans la forme choisie comme nom privilégié (</a:t>
            </a:r>
            <a:r>
              <a:rPr b="0" lang="en-US" sz="2400" spc="-1" strike="noStrike">
                <a:solidFill>
                  <a:srgbClr val="008093"/>
                </a:solidFill>
                <a:latin typeface="Arial"/>
              </a:rPr>
              <a:t>changement de RCAA2</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olitique LC</a:t>
            </a:r>
            <a:r>
              <a:rPr b="0" lang="en-US"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en-US" sz="2400" spc="-1" strike="noStrike">
                <a:solidFill>
                  <a:srgbClr val="008093"/>
                </a:solidFill>
                <a:latin typeface="Arial"/>
              </a:rPr>
              <a:t>LC-PCC PS 9.19.1.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8"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7D557E3-2C17-4A99-AF00-0E74864A6F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983F0FF-8B93-42AE-A7BE-7FAC0F608E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123"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0F22BD-2EAA-44F4-A542-D5D9554401D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4DB663F-224E-49FF-BB30-7ABAD3712C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personnes : </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4: Profession</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5: Sexe de la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8: Forme développée du nom de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de l’information biographique*</a:t>
            </a:r>
            <a:endParaRPr b="0" lang="en-US" sz="2400" spc="-1" strike="noStrike">
              <a:solidFill>
                <a:srgbClr val="000000"/>
              </a:solidFill>
              <a:latin typeface="Arial"/>
            </a:endParaRPr>
          </a:p>
        </p:txBody>
      </p:sp>
      <p:sp>
        <p:nvSpPr>
          <p:cNvPr id="132" name="TextBox 4"/>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0054A85-C799-4787-9A20-79D5A208DB9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36"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C725A5B-7EEF-4265-BFEB-DDB4484924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et rôle de la </a:t>
            </a:r>
            <a:br>
              <a:rPr sz="2800"/>
            </a:br>
            <a:r>
              <a:rPr b="1" lang="en-US" sz="2800" spc="-1" strike="noStrike">
                <a:solidFill>
                  <a:srgbClr val="ffffff"/>
                </a:solidFill>
                <a:latin typeface="Arial"/>
              </a:rPr>
              <a:t>« famille »</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pour les archives, les musées, les collections spéciales, les bulletins de généalogie, les revues d’associations de famill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513B64-5C36-4E54-86EC-875F1A76D12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hapitre 10 s’applique à des entités de famille </a:t>
            </a:r>
            <a:r>
              <a:rPr b="0"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r la politique d’indexation actuelle pour les regroupements </a:t>
            </a:r>
            <a:r>
              <a:rPr b="0" lang="en-US" sz="2800" spc="-1" strike="noStrike">
                <a:solidFill>
                  <a:srgbClr val="008093"/>
                </a:solidFill>
                <a:latin typeface="Arial"/>
              </a:rPr>
              <a:t>généraux</a:t>
            </a:r>
            <a:r>
              <a:rPr b="0" lang="en-US"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45D8C2-0026-434B-8B15-E27D6A50FB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1"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2"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3BBE8C-99B8-447D-87B6-9314C788D5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a:t>
            </a:r>
            <a:r>
              <a:rPr b="0" lang="en-US"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associée </a:t>
            </a:r>
            <a:r>
              <a:rPr b="0" lang="en-US" sz="2400" spc="-1" strike="noStrike">
                <a:solidFill>
                  <a:srgbClr val="008093"/>
                </a:solidFill>
                <a:latin typeface="Arial"/>
              </a:rPr>
              <a:t>(RDA 10.4)</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a:t>
            </a:r>
            <a:r>
              <a:rPr b="0" lang="en-US" sz="2400" spc="-1" strike="noStrike">
                <a:solidFill>
                  <a:srgbClr val="008093"/>
                </a:solidFill>
                <a:latin typeface="Arial"/>
              </a:rPr>
              <a:t> (RDA 10.5) </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e illustre de la famille </a:t>
            </a:r>
            <a:r>
              <a:rPr b="0" lang="en-US" sz="2400" spc="-1" strike="noStrike">
                <a:solidFill>
                  <a:srgbClr val="008093"/>
                </a:solidFill>
                <a:latin typeface="Arial"/>
              </a:rPr>
              <a:t>(RDA 10.6)</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i nécessaire pour distinguer </a:t>
            </a:r>
            <a:r>
              <a:rPr b="0" i="1" lang="en-US" sz="2800" spc="-1" strike="noStrike">
                <a:solidFill>
                  <a:srgbClr val="000000"/>
                </a:solidFill>
                <a:latin typeface="Arial"/>
              </a:rPr>
              <a:t>ou</a:t>
            </a:r>
            <a:r>
              <a:rPr b="0" lang="en-US"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80E7BC-E4DA-41A8-83B3-2646C222F0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hoix du catalogueur</a:t>
            </a:r>
            <a:r>
              <a:rPr b="0" lang="en-US" sz="2400" spc="-1" strike="noStrike">
                <a:solidFill>
                  <a:srgbClr val="000000"/>
                </a:solidFill>
                <a:latin typeface="Arial"/>
              </a:rPr>
              <a:t>, par exemple : « Famille », </a:t>
            </a:r>
            <a:br>
              <a:rPr sz="2400"/>
            </a:br>
            <a:r>
              <a:rPr b="0" lang="en-US"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1"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2"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4B2FE36-0AEF-465F-96AC-1F9963AD1A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Identification des famill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07F2C80-FA17-48B7-9929-BA5BAC8DD3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9e sièc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iècle » n’est plus abrégé !</a:t>
            </a:r>
            <a:endParaRPr b="0" lang="en-US" sz="2400" spc="-1" strike="noStrike">
              <a:solidFill>
                <a:srgbClr val="000000"/>
              </a:solidFill>
              <a:latin typeface="Arial"/>
            </a:endParaRPr>
          </a:p>
        </p:txBody>
      </p:sp>
      <p:sp>
        <p:nvSpPr>
          <p:cNvPr id="167"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8"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85A913-3E41-454C-B7EB-965E4BF62E4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3"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4"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 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B75C8F2-1924-4C0E-82A1-7416762471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79"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0"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3# $a Trudeau (Famille : $g </a:t>
            </a:r>
            <a:r>
              <a:rPr b="1" lang="en-US" sz="2400" spc="-1" strike="noStrike">
                <a:solidFill>
                  <a:srgbClr val="008093"/>
                </a:solidFill>
                <a:latin typeface="Courier New"/>
              </a:rPr>
              <a:t>Trudeau, Pierre Elliott, 1919-2000</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F396231-A8C7-4B41-AA2C-17251A5EC0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familles:</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 : Dates spéciales cod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 : Renseignements sur la famil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nouvelles zon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1A9D21-A6DA-4DAD-89B0-5ED047826B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88"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F310D14-6965-4742-B3D3-949A8C30FC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F700F52-90E9-4529-877F-D0070629FB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F738B9-7617-4E24-90C9-0AB524EE11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125B10-C50F-4343-8C82-E25B494D28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5"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1A2CAC5-09DB-4391-9C9C-0C8947A283D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0CF1C0C-5262-482C-931B-1AF70C0A56B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44057D-922C-400E-BD2D-96725003A6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E64855-D32F-4B92-B817-946BB342C9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247F5F-105A-4AF6-B656-68BFEB1E74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2"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3"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2908871-62DA-4AB4-9B9B-C69FEFDCAAD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27"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congrès, etc., si le nom de l’institution fournit </a:t>
            </a:r>
            <a:r>
              <a:rPr b="0" lang="en-US" sz="2400" spc="-1" strike="noStrike">
                <a:solidFill>
                  <a:srgbClr val="008093"/>
                </a:solidFill>
                <a:latin typeface="Arial"/>
              </a:rPr>
              <a:t>une meilleure identification</a:t>
            </a:r>
            <a:r>
              <a:rPr b="0" lang="en-US"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férer l’ajout d’une institution à l’ajout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et la langue enregistrées comme nom privilégié de l’institution (</a:t>
            </a:r>
            <a:r>
              <a:rPr b="0" lang="en-US" sz="2800" spc="-1" strike="noStrike" u="sng">
                <a:solidFill>
                  <a:srgbClr val="008093"/>
                </a:solidFill>
                <a:uFillTx/>
                <a:latin typeface="Arial"/>
              </a:rPr>
              <a:t>non pas</a:t>
            </a:r>
            <a:r>
              <a:rPr b="0" lang="en-US"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244799-6DD1-459C-AB91-384DD9E372D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age MARC21 pour l’institution associée</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Congrès</a:t>
            </a:r>
            <a:r>
              <a:rPr b="0" lang="en-US"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Autres collectivités</a:t>
            </a:r>
            <a:r>
              <a:rPr b="0" lang="en-US"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2"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3"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4"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5"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8BCBC9-6614-4C49-A6FF-03CCE8AE5DE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fondation (RDA 11.4.3)</a:t>
            </a:r>
            <a:br>
              <a:rPr sz="2800"/>
            </a:br>
            <a:r>
              <a:rPr b="1" lang="en-US"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date </a:t>
            </a:r>
            <a:r>
              <a:rPr b="0" lang="en-US" sz="2800" spc="-1" strike="noStrike">
                <a:solidFill>
                  <a:srgbClr val="008093"/>
                </a:solidFill>
                <a:latin typeface="Arial"/>
              </a:rPr>
              <a:t>si nécessaire</a:t>
            </a:r>
            <a:r>
              <a:rPr b="0" lang="en-US"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1"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DD708D-F9B0-403C-99CF-DFE18F1319D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s collectivités dont le nom </a:t>
            </a:r>
            <a:r>
              <a:rPr b="0" lang="en-US" sz="2000" spc="-1" strike="noStrike">
                <a:solidFill>
                  <a:srgbClr val="008093"/>
                </a:solidFill>
                <a:latin typeface="Arial"/>
              </a:rPr>
              <a:t>n’évoque pas</a:t>
            </a:r>
            <a:r>
              <a:rPr b="0" lang="en-US"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si nécessaire</a:t>
            </a:r>
            <a:r>
              <a:rPr b="0" lang="en-US"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46"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Tragically Hip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7"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5488F2-03E1-4B48-8638-5704D2C0CE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91EC25-AC7E-484B-BCC4-93376C1D7E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56"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BECDBB-DBA4-4F38-8845-23546CC46F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0493DA-1753-4792-AA8F-6E4A5E39AF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8F375A-F434-43E1-B6E5-D3834833C14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A74317-C204-4B26-BC3E-7F938413F64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noms</a:t>
            </a:r>
            <a:r>
              <a:rPr b="0" lang="en-US"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enregistrer les lieux </a:t>
            </a:r>
            <a:r>
              <a:rPr b="0" lang="en-US" sz="2800" spc="-1" strike="noStrike">
                <a:solidFill>
                  <a:srgbClr val="008093"/>
                </a:solidFill>
                <a:latin typeface="Arial"/>
              </a:rPr>
              <a:t>associés</a:t>
            </a:r>
            <a:r>
              <a:rPr b="0" lang="en-US"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6128F4-25FA-482B-8CB1-62574398CE5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697F01-CC35-4CA5-84EA-C9C52400CE8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7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7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52F1A2-9A26-4D5B-BE8B-ACF49EEE00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F928CA-A999-4483-B314-2320AF3E3D3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E9EF10B-77EA-4B97-90B8-F507F87253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F746586-83FE-40F4-933F-D5AB5D1CAF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09T15:23:04Z</dcterms:modified>
  <cp:revision>326</cp:revision>
  <dc:subject/>
  <dc:title>Diapositive 1</dc:title>
</cp:coreProperties>
</file>