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A15D8-E3C9-4282-9DDA-6CCE39DD2723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323F2-D837-4066-9079-BCAD6D428A03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41B23-4DE4-4303-B62C-F07110813D23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449FB-5B38-40AD-AC87-F30F625CF28A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E14A3-ABC0-470B-88A3-F57A893EABF3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BF1C1-8D76-4085-A63B-EEDBA09D575B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F9A-9400-46D0-95E3-220B7636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396-B5F9-4D36-B0DD-5EA5D91F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918-B43A-4577-AB3D-025AA4ED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CB4B-76CC-441C-AA56-0CC40AC1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7ED-2A73-4F85-BE35-BDB41F6E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3E2-8AB0-4E63-A8FF-3C0B02E7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07E-0A93-484D-8F55-5998B085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756-6094-47D3-8B22-4D5A90CB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508-645C-429E-8400-93E84E45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499-6717-47E0-81A9-78574AF0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3D8-1BCA-49C4-B34A-21C9B0DE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611-6538-4D64-9921-1B10CD03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AED17-5633-4787-9060-B6838EF44228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escription des supports matériels et du cont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199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il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stration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; $c 23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b txt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7 __ $a sans médiation $b n $2 rda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b nc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504 __ $a Comprend des réf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rences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ibliogr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phiqu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194-19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199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xi, 404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18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de p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nch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non numéroté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 : $b il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stration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(certaines en cou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u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) ; $c 23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b txt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7 __ $a sans médiation $b n $2 rda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b nc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504 __ $a Comprend des réf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renc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bibliogr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phiqu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et un ind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xi, 404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18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de p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nch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non numéro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Daniel Paradis </cp:lastModifiedBy>
  <dcterms:modified xsi:type="dcterms:W3CDTF">2014-04-14T19:51:06Z</dcterms:modified>
  <cp:revision>6</cp:revision>
  <dc:subject/>
  <dc:title>Diapositive 1</dc:title>
</cp:coreProperties>
</file>