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3748C-D163-4806-B75A-376E886E1DAA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F2C65-E3E0-4674-920D-533460CF41D4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C332D-A127-4AC5-86BB-0215E936174F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AA9F1-0CCF-4595-966C-B278EAF57550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9BA64-5DC9-4C99-A382-DA6474E2465B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4756A-D9EC-450A-B704-D1AC28B49637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9AEF-E3BC-4EF6-AEFE-7D4B3031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96A4-A53A-4637-8BCC-E22BCAB3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AF9F-FC52-4479-BB7F-A8FB4620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A6F-6BBA-4D7B-93C1-503B0126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CF22-2352-4AF9-A741-A9F947C9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E625-51FE-43EC-BDB4-2E2AB521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DB3F-EB5F-46D6-B994-8AF7AA4E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F37D-1903-4FCF-B6A4-82375A4B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1198-3E11-454D-8E28-676170D9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0499-C9EB-4A33-A3B5-AD0DD101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EF25-DD07-44D1-97E7-7A8799CC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53DA-2A6D-44FD-951F-F55F1819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81DA3-8840-4778-9E29-3D61268379CD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escription des supports matériels et du conte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00 __ $a 199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il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ustration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; $c 23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6 __ $a texte $b txt $2 rda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7 __ $a sans médiation $b n $2 rda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8 __ $a volume $b nc $2 rda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504 __ $a Comprend des réf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érences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bibliogr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phiqu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194-19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00 __ $a 199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6 __ $a texte $2 rda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8 __ $a volume $2 rda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00 __ $a xi, 404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, 18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de p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nch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non numéroté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 : $b il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ustration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(certaines en cou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eur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) ; $c 23 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6 __ $a texte $b txt $2 rda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7 __ $a sans médiation $b n $2 rda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8 __ $a volume $b nc $2 rda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504 __ $a Comprend des réf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érenc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bibliogr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phiqu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et un ind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00 __ $a xi, 404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, 18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de p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nch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non numéro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6 __ $a texte $2 rda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8 __ $a volume $2 rda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Daniel Paradis </cp:lastModifiedBy>
  <dcterms:modified xsi:type="dcterms:W3CDTF">2014-04-14T19:51:06Z</dcterms:modified>
  <cp:revision>6</cp:revision>
  <dc:subject/>
  <dc:title>Diapositive 1</dc:title>
</cp:coreProperties>
</file>